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5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wmf" ContentType="image/x-wmf"/>
  <Override PartName="/ppt/media/image26.png" ContentType="image/png"/>
  <Override PartName="/ppt/media/image25.png" ContentType="image/png"/>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32.jpeg" ContentType="image/jpeg"/>
  <Override PartName="/ppt/media/image18.wmf" ContentType="image/x-wmf"/>
  <Override PartName="/ppt/media/image17.wmf" ContentType="image/x-wmf"/>
  <Override PartName="/ppt/media/image4.png" ContentType="image/png"/>
  <Override PartName="/ppt/media/image12.wmf" ContentType="image/x-wmf"/>
  <Override PartName="/ppt/media/image27.png" ContentType="image/png"/>
  <Override PartName="/ppt/media/image33.jpeg" ContentType="image/jpeg"/>
  <Override PartName="/ppt/media/image14.png" ContentType="image/png"/>
  <Override PartName="/ppt/media/image9.wmf" ContentType="image/x-wmf"/>
  <Override PartName="/ppt/media/image11.png" ContentType="image/png"/>
  <Override PartName="/ppt/media/image13.png" ContentType="image/png"/>
  <Override PartName="/ppt/media/image6.wmf" ContentType="image/x-wmf"/>
  <Override PartName="/ppt/media/image36.wmf" ContentType="image/x-wmf"/>
  <Override PartName="/ppt/media/image30.jpeg" ContentType="image/jpeg"/>
  <Override PartName="/ppt/media/image31.jpeg" ContentType="image/jpeg"/>
  <Override PartName="/ppt/media/image39.png" ContentType="image/png"/>
  <Override PartName="/ppt/media/image41.wmf" ContentType="image/x-wmf"/>
  <Override PartName="/ppt/media/image38.png" ContentType="image/png"/>
  <Override PartName="/ppt/media/image8.png" ContentType="image/png"/>
  <Override PartName="/ppt/media/image16.wmf" ContentType="image/x-wmf"/>
  <Override PartName="/ppt/media/image40.wmf" ContentType="image/x-wmf"/>
  <Override PartName="/ppt/media/image34.jpeg" ContentType="image/jpeg"/>
  <Override PartName="/ppt/media/image37.png" ContentType="image/png"/>
  <Override PartName="/ppt/media/image7.png" ContentType="image/png"/>
  <Override PartName="/ppt/media/image15.wmf" ContentType="image/x-wmf"/>
  <Override PartName="/ppt/media/image10.png" ContentType="image/png"/>
  <Override PartName="/ppt/media/image35.jpeg" ContentType="image/jpeg"/>
  <Override PartName="/ppt/media/image5.png" ContentType="image/png"/>
  <Override PartName="/ppt/media/image28.png" ContentType="image/png"/>
  <Override PartName="/ppt/media/image3.wmf" ContentType="image/x-wmf"/>
  <Override PartName="/ppt/media/image1.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636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8875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773160" y="0"/>
            <a:ext cx="288756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85572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66720" y="4704840"/>
            <a:ext cx="53294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408960"/>
            <a:ext cx="288756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773160" y="9408960"/>
            <a:ext cx="288756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EB3F-1928-4E9F-858B-541327ED77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55720" y="743040"/>
            <a:ext cx="4952880" cy="3714840"/>
          </a:xfrm>
          <a:prstGeom prst="rect">
            <a:avLst/>
          </a:prstGeom>
          <a:ln w="0">
            <a:noFill/>
          </a:ln>
        </p:spPr>
      </p:sp>
      <p:sp>
        <p:nvSpPr>
          <p:cNvPr id="334"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aysettha Unicode"/>
              <a:ea typeface="Saysettha Unicode"/>
            </a:endParaRPr>
          </a:p>
        </p:txBody>
      </p:sp>
      <p:sp>
        <p:nvSpPr>
          <p:cNvPr id="335"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F30B-A84F-4906-85F8-96B9FB5CA16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855720" y="743040"/>
            <a:ext cx="4952880" cy="3714840"/>
          </a:xfrm>
          <a:prstGeom prst="rect">
            <a:avLst/>
          </a:prstGeom>
          <a:ln w="0">
            <a:noFill/>
          </a:ln>
        </p:spPr>
      </p:sp>
      <p:sp>
        <p:nvSpPr>
          <p:cNvPr id="33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EE11-1770-4559-9C79-ED348FC9D4D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855720" y="743040"/>
            <a:ext cx="4952880" cy="3714840"/>
          </a:xfrm>
          <a:prstGeom prst="rect">
            <a:avLst/>
          </a:prstGeom>
          <a:ln w="0">
            <a:noFill/>
          </a:ln>
        </p:spPr>
      </p:sp>
      <p:sp>
        <p:nvSpPr>
          <p:cNvPr id="34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3ACE-BBED-44E6-BFAB-3CD53EAE858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855720" y="743040"/>
            <a:ext cx="4952880" cy="3714840"/>
          </a:xfrm>
          <a:prstGeom prst="rect">
            <a:avLst/>
          </a:prstGeom>
          <a:ln w="0">
            <a:noFill/>
          </a:ln>
        </p:spPr>
      </p:sp>
      <p:sp>
        <p:nvSpPr>
          <p:cNvPr id="343"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registration is the official recording of the birth of a child by some administrative level of the state. It is a permanent and official record of a child’s exist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gistration of child’s birth enables that child to obtain a birth certific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instances, the issuing of a certificate automatically follows birth registration, while in others a separate application must be made. In either case, a birth certificate is a personal document issued to an individual by the state. The registration of a birth and the issuing of a birth certificate are therefore two distinct, yet interlinked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r J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rry for the late reply, I am travelling a l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copying this message to my colleague Ivana Bjelic, who is responsible for data processing in the MICS team - she is the best person to answer th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reg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6DC8-7CC4-454E-AE62-FA52DBC449B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855720" y="743040"/>
            <a:ext cx="4952880" cy="3714840"/>
          </a:xfrm>
          <a:prstGeom prst="rect">
            <a:avLst/>
          </a:prstGeom>
          <a:ln w="0">
            <a:noFill/>
          </a:ln>
        </p:spPr>
      </p:sp>
      <p:sp>
        <p:nvSpPr>
          <p:cNvPr id="34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384B-112E-4478-8541-D5EF7C6E68D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855720" y="743040"/>
            <a:ext cx="4952880" cy="3714840"/>
          </a:xfrm>
          <a:prstGeom prst="rect">
            <a:avLst/>
          </a:prstGeom>
          <a:ln w="0">
            <a:noFill/>
          </a:ln>
        </p:spPr>
      </p:sp>
      <p:sp>
        <p:nvSpPr>
          <p:cNvPr id="349"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cording to the latest estimates 8,8 million children died before reaching their fifth birthday in 2008.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fortunately, those deaths are the tip of iceber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cording to the conservative estimates made by the Lancet, at least 220 million children under the age of 5 years are not developing their full potential. As a result, their countries suffer an estimated 20% loss in adult productivity.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issue of poor child development, brought to the public attention again by the serial of Lancet papers, will remain a global challenge unless substantial efforts are made to put the child development high on agenda.   </a:t>
            </a:r>
            <a:endParaRPr b="0" lang="en-US" sz="1000" spc="-1" strike="noStrike">
              <a:solidFill>
                <a:srgbClr val="000000"/>
              </a:solidFill>
              <a:latin typeface="Calibri"/>
            </a:endParaRPr>
          </a:p>
        </p:txBody>
      </p:sp>
      <p:sp>
        <p:nvSpPr>
          <p:cNvPr id="350"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18A7D73-009B-40FD-A6D4-5B86AEE38008}"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855720" y="743040"/>
            <a:ext cx="4952880" cy="3714840"/>
          </a:xfrm>
          <a:prstGeom prst="rect">
            <a:avLst/>
          </a:prstGeom>
          <a:ln w="0">
            <a:noFill/>
          </a:ln>
        </p:spPr>
      </p:sp>
      <p:sp>
        <p:nvSpPr>
          <p:cNvPr id="352"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definition of early childhood develo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 like the most is based on the rights of the young children to a name and nationality, the right to play, to learn, the right to be protected against major and preventable diseases, to be well fed, etc. </a:t>
            </a:r>
            <a:endParaRPr b="0" lang="en-US" sz="1200" spc="-1" strike="noStrike">
              <a:solidFill>
                <a:srgbClr val="000000"/>
              </a:solidFill>
              <a:latin typeface="Calibri"/>
            </a:endParaRPr>
          </a:p>
        </p:txBody>
      </p:sp>
      <p:sp>
        <p:nvSpPr>
          <p:cNvPr id="353"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B940F18-E84D-438D-8175-9361F2FD6C21}"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855720" y="743040"/>
            <a:ext cx="4952880" cy="3714840"/>
          </a:xfrm>
          <a:prstGeom prst="rect">
            <a:avLst/>
          </a:prstGeom>
          <a:ln w="0">
            <a:noFill/>
          </a:ln>
        </p:spPr>
      </p:sp>
      <p:sp>
        <p:nvSpPr>
          <p:cNvPr id="35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How does this module fit into the global agend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t is based on the right of each child, beginning with those most likely to falter, to be healthy, to be nourished, to play to live in a clean and safe environment, and to be able to thriv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module is directly linked with the goals and principles established at the World fit for Children and UNICEF Medium Term Strategic Pla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 the WFFC Declaration (4): “Care for every child” – it is stated that child survival, protection, growth and development in good health and with proper nutrition is the essential foundation of human development. We will make concerted efforts to nurture children in a safe environment that enables them to be physically healthy, mentally alert, emotionally secure, socially competent and able to lear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edium Term Strategic Plan, the UNICEF strategic framework for action, under the Focus area 1 (Young Child Survival and development) key result area 2 is to improve family and community care practices, which have impacts on young child survival, growth and developmen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inally, the most effective interventions to improve human development and break the cycle of poverty occur in children’s earliest years. </a:t>
            </a:r>
            <a:endParaRPr b="0" lang="en-US" sz="1000" spc="-1" strike="noStrike">
              <a:solidFill>
                <a:srgbClr val="000000"/>
              </a:solidFill>
              <a:latin typeface="Calibri"/>
            </a:endParaRPr>
          </a:p>
        </p:txBody>
      </p:sp>
      <p:sp>
        <p:nvSpPr>
          <p:cNvPr id="356" name="Slide Number Placeholder 3"/>
          <p:cNvSpPr/>
          <p:nvPr/>
        </p:nvSpPr>
        <p:spPr>
          <a:xfrm>
            <a:off x="3774960" y="9408960"/>
            <a:ext cx="2886120" cy="495360"/>
          </a:xfrm>
          <a:prstGeom prst="rect">
            <a:avLst/>
          </a:prstGeom>
          <a:noFill/>
          <a:ln w="0">
            <a:noFill/>
          </a:ln>
        </p:spPr>
        <p:style>
          <a:lnRef idx="0"/>
          <a:fillRef idx="0"/>
          <a:effectRef idx="0"/>
          <a:fontRef idx="minor"/>
        </p:style>
        <p:txBody>
          <a:bodyPr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49BB150-8695-4CB4-AC69-9960BEE5E5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855720" y="743040"/>
            <a:ext cx="4952880" cy="3714840"/>
          </a:xfrm>
          <a:prstGeom prst="rect">
            <a:avLst/>
          </a:prstGeom>
          <a:ln w="0">
            <a:noFill/>
          </a:ln>
        </p:spPr>
      </p:sp>
      <p:sp>
        <p:nvSpPr>
          <p:cNvPr id="358"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we need to measure early childhood development?</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look throughout the life cycle, we have a number of internationally accepted indicators  related to birth, health and nutrition of children, and we would agree that accurate data in this area are extremely important. Inmost of the countries we have relatively good set of data related to mortality, which is also good, but at least for those who died it will be too late to plan the intervention based on this data.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data on schooling, informing us on the enrolment rate, completion of school, sometimes on school achievements – important indicators, but in terms of interventions those data will help us to address the issues identified (i.e. low enrolment rate, high drop out rates), but will not prevent those issues to arise.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all the evidence we have, the best time to intervene, and prevent many issues to arise (like malnutrition, drop-out rate, etc) is in the early years of life, sooner the better.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t, until now, we have huge knowledge gap when it comes to population level data on early childhood, and there was no single globally agreed methodology or indicators to measure what is happening in this sensitive part of life.  </a:t>
            </a:r>
            <a:endParaRPr b="0" lang="en-US" sz="1200" spc="-1" strike="noStrike">
              <a:solidFill>
                <a:srgbClr val="000000"/>
              </a:solidFill>
              <a:latin typeface="Calibri"/>
            </a:endParaRPr>
          </a:p>
        </p:txBody>
      </p:sp>
      <p:sp>
        <p:nvSpPr>
          <p:cNvPr id="359"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1467910-74D2-44BF-AAC1-48566053BCEF}"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55720" y="743040"/>
            <a:ext cx="4952880" cy="3714840"/>
          </a:xfrm>
          <a:prstGeom prst="rect">
            <a:avLst/>
          </a:prstGeom>
          <a:ln w="0">
            <a:noFill/>
          </a:ln>
        </p:spPr>
      </p:sp>
      <p:sp>
        <p:nvSpPr>
          <p:cNvPr id="36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purpose of this survey, early childhood is limited to under five children, with the additional emphasis on three and four years old children.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ts/caregivers are primary duty bearers, accountable for educating and socializing children and to prepare them for life. Care giving has both, benefits and drawbacks. Positive care giving influence child’s ability to acquire cognitive, physical, emotional and social competencies. Poor or compromised care giving practices places optimal child development  at risk. Care giving is multidimensional, supporting focus on specific  cognition and practices. In MICS we focus on the domains which are developmentally significant and culturally universal. MICS questions specifically asses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ive learning environment in the household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of developmentally stimulating activities that the child is engaged i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organized form of early childhood educatio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childhood development. </a:t>
            </a:r>
            <a:endParaRPr b="0" lang="en-US" sz="1200" spc="-1" strike="noStrike">
              <a:solidFill>
                <a:srgbClr val="000000"/>
              </a:solidFill>
              <a:latin typeface="Calibri"/>
            </a:endParaRPr>
          </a:p>
        </p:txBody>
      </p:sp>
      <p:sp>
        <p:nvSpPr>
          <p:cNvPr id="362"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D75522F-C392-46D3-9960-B766549DEE7A}"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855720" y="743040"/>
            <a:ext cx="4952880" cy="3714840"/>
          </a:xfrm>
          <a:prstGeom prst="rect">
            <a:avLst/>
          </a:prstGeom>
          <a:ln w="0">
            <a:noFill/>
          </a:ln>
        </p:spPr>
      </p:sp>
      <p:sp>
        <p:nvSpPr>
          <p:cNvPr id="364" name="PlaceHolder 2"/>
          <p:cNvSpPr>
            <a:spLocks noGrp="1"/>
          </p:cNvSpPr>
          <p:nvPr>
            <p:ph type="body"/>
          </p:nvPr>
        </p:nvSpPr>
        <p:spPr>
          <a:xfrm>
            <a:off x="668160" y="4632120"/>
            <a:ext cx="5330880" cy="527364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Questions EC1 and EC 2 should be administered to all under five children in the household. We are using the same questions as in MICS3. </a:t>
            </a:r>
            <a:endParaRPr b="0" lang="en-US" sz="1000" spc="-1" strike="noStrike">
              <a:solidFill>
                <a:srgbClr val="000000"/>
              </a:solidFill>
              <a:latin typeface="Calibri"/>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question: “How many children’s books or picture books do you have for (name)?” asks specifically about children’s books or picture books for the child. This </a:t>
            </a:r>
            <a:r>
              <a:rPr b="0" lang="en-GB" sz="1000" spc="-1" strike="noStrike" u="sng">
                <a:solidFill>
                  <a:srgbClr val="000000"/>
                </a:solidFill>
                <a:uFillTx/>
                <a:latin typeface="Calibri"/>
              </a:rPr>
              <a:t>excludes</a:t>
            </a:r>
            <a:r>
              <a:rPr b="0" lang="en-GB" sz="1000" spc="-1" strike="noStrike">
                <a:solidFill>
                  <a:srgbClr val="000000"/>
                </a:solidFill>
                <a:latin typeface="Calibri"/>
              </a:rPr>
              <a:t> schoolbooks (appropriate for or belonging to older children), as well as other books for adults that are present in the household. Record the number of books in the space provided. There is no need to make an actual count of books yourself. Rely on the respondent’s answer, and avoid asking to see and count the books yourself, since this is likely to require extra time. If the respondent is unsure about the number of children’s books or picture books and is not able to provide an answer the first time you ask the question, ask her/him if there are more than 10 such books. If yes, circle ‘10’. If she/he says that there are less than 10 such books, probe further to get an exact number. If there are no such books in the household, record ‘00’.</a:t>
            </a:r>
            <a:endParaRPr b="0" lang="en-US" sz="1000" spc="-1" strike="noStrike">
              <a:solidFill>
                <a:srgbClr val="000000"/>
              </a:solidFill>
              <a:latin typeface="Calibri"/>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 </a:t>
            </a:r>
            <a:endParaRPr b="0" lang="en-US" sz="1000" spc="-1" strike="noStrike">
              <a:solidFill>
                <a:srgbClr val="000000"/>
              </a:solidFill>
              <a:latin typeface="Calibri"/>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second question is used to learn about different types of playthings used by the child. We want to know if the child has objects to play with, and what these are, even if they do not include store-bought toys. We are interested in learning about other objects that are used as playthings, such as ordinary household objects and natural materials. Extra care should be taken to ask this question and record the responses. Experience has shown that respondents find it very easy to give the same answer (“Yes”) to a list of different playthings. Do not pause after reading the first sentence and continue by saying “Does (name) PLAY with” and start asking whether the child plays with playthings from each of the categories listed. For example, ask: “Does (name) PLAY with homemade toys (such as dolls, cars, or other toys made at home)?” and so on. If the respondent answers ‘Yes’ to any of these prompted categories, then probe to learn specifically what the child plays with to ascertain the response (for example, “What does he/she specifically play with?” or “Can you please give an example?” If you ascertain that the child uses playthings that would fall into each of the prompted categories, circle ‘1’ . If the child doesn’t play with items mentioned in a specific category, or the respondent doesn’t know circle ‘2’ or ‘8’, for that specific category.  Read each category aloud and circle the code corresponding to the response before proceeding to the next categor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855720" y="743040"/>
            <a:ext cx="4952880" cy="3714840"/>
          </a:xfrm>
          <a:prstGeom prst="rect">
            <a:avLst/>
          </a:prstGeom>
          <a:ln w="0">
            <a:noFill/>
          </a:ln>
        </p:spPr>
      </p:sp>
      <p:sp>
        <p:nvSpPr>
          <p:cNvPr id="36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estion EC 3 is for all under five children in the household.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question sets up a hypothetical situation, one in which the mother/primary caretaker would be gone for more than just a moment – situations in which the child could be left alone for an hour or more. The question specifies that we want to know about situations in which the respondent actually leaves the premises, not simply going out of sight of the child, such as to another part or another room of the hous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ter the response in the spaces provided. If the child was not left in the care of another child during this period, enter ‘00’ for ‘None’. Note that ‘another child’ is defined as a child less than 10 years old.</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B0688F5-DB3E-43FC-981B-214800BFCFE8}"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855720" y="743040"/>
            <a:ext cx="4952880" cy="3714840"/>
          </a:xfrm>
          <a:prstGeom prst="rect">
            <a:avLst/>
          </a:prstGeom>
          <a:ln w="0">
            <a:noFill/>
          </a:ln>
        </p:spPr>
      </p:sp>
      <p:sp>
        <p:nvSpPr>
          <p:cNvPr id="369"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child is 3 or 4 years old, check the appropriate box and continue with EC5. If not (if the child is 0, 1 or 2 years old), check the appropriate box and go to next modul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question asked is: “ Does the child attend any organized learning or early childhood education programme, such as a private or government facility, including kindergarten or community child car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are asking this question for all children in the household who are 36-59 months old.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preparatory part of the survey you need to ensure that local terms for these types of education programmes are included in the questionnaire. If you are unsure of whether a programme qualifies as an ‘early childhood education programme’, contact the MICS4 regional coordinato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ircle the appropriate code. Skip to EC7 if the answer to this question is ‘No’ or ‘DK’.</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are also asking  “Within the last seven days, about how many hours did the child attend”? This question is asked if the child is attending an organized learning or early childhood education programme. Record the estimated number of hours the child attended any organized learning or early childhood education programme in the last 7 days (excluding the day of interview). Use a leading zero if necessary.</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5ECBEF6-47DF-4E8D-A9FA-321228E9CCB4}"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855720" y="743040"/>
            <a:ext cx="4952880" cy="3714840"/>
          </a:xfrm>
          <a:prstGeom prst="rect">
            <a:avLst/>
          </a:prstGeom>
          <a:ln w="0">
            <a:noFill/>
          </a:ln>
        </p:spPr>
      </p:sp>
      <p:sp>
        <p:nvSpPr>
          <p:cNvPr id="372"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With EC7 question we are asking  mother was s</a:t>
            </a:r>
            <a:r>
              <a:rPr b="0" lang="en-GB" sz="1200" spc="-1" strike="noStrike">
                <a:solidFill>
                  <a:srgbClr val="000000"/>
                </a:solidFill>
                <a:latin typeface="Calibri"/>
                <a:ea typeface="MS PGothic"/>
              </a:rPr>
              <a:t>he or any household member over 15 years of age engaged in any of the following activities in the past three days, with the child:</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PGothic"/>
              </a:rPr>
              <a:t>[A] Read books or looked at picture books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PGothic"/>
              </a:rPr>
              <a:t>[B] Told stories?</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PGothic"/>
              </a:rPr>
              <a:t>[C] Sang songs?</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PGothic"/>
              </a:rPr>
              <a:t>[D] Took the child outside the home, compound, yard or enclosur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PGothic"/>
              </a:rPr>
              <a:t>[E] Played with the child?</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PGothic"/>
              </a:rPr>
              <a:t>[F] Named, counted, or drew things to or with the child?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PGothic"/>
              </a:rPr>
              <a:t>Read each items shown below. If ‘No’, circle ‘Y’ and move to the next item on the list. If ‘Yes’, ask: “Who engaged in this activity with (name)”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PGothic"/>
              </a:rPr>
              <a:t>For each activity, circle the code for every person who engaged in the activity with the child before proceeding to the next item. If someone other than the mother or father engaged in the activity with the child, circle ‘X’. If the respondent is the primary caretaker of the child and has engaged in any of these activities, code ‘X’ should be circled.</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PGothic"/>
              </a:rPr>
              <a:t>Note that in a household where there are no adults other than the child’s mother and father, ‘X’ should not be circled. Adults who are not members of the household but who may have engaged in the listed activities with the child should not be coded her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MS PGothic"/>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ea typeface="MS PGothic"/>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97FD9E8-666C-4AF5-B4DE-15238A31F7BD}"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855720" y="743040"/>
            <a:ext cx="4952880" cy="3714840"/>
          </a:xfrm>
          <a:prstGeom prst="rect">
            <a:avLst/>
          </a:prstGeom>
          <a:ln w="0">
            <a:noFill/>
          </a:ln>
        </p:spPr>
      </p:sp>
      <p:sp>
        <p:nvSpPr>
          <p:cNvPr id="375" name="PlaceHolder 2"/>
          <p:cNvSpPr>
            <a:spLocks noGrp="1"/>
          </p:cNvSpPr>
          <p:nvPr>
            <p:ph type="body"/>
          </p:nvPr>
        </p:nvSpPr>
        <p:spPr>
          <a:xfrm>
            <a:off x="665280" y="4704840"/>
            <a:ext cx="5332320" cy="46688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rt with the question: “Can a child identify or name at least ten letters of the alphabet?” Circle the code corresponding to the response. A ‘Yes’ answer means that the child can name ten or more letters of the alphabet while a ‘No’ answer means that the child can name less than ten or none at all.</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next question is “Can a child read at least four simple, popular words?” Circle the code corresponding to the response. A ‘Yes’ response means that the child can read at least four simple, popular words while a ‘No’ response means that the child can only read one or two, or none at all. Try to create a list of locally used simple and popular words (from poems, lullabies, or songs) during the training and field work. This may help them to give examples if necessary, while asking this questio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tinue with the question: “Does (name) know the name and recognize the symbol of all numbers from 1 to 10?” Circle the code corresponding to the response. If parent seems hesitant, prompt with “does the child know ‘1’? Does the child know 2?” etc. A ‘Yes’ answer means that the child can recognize the symbol of all numbers from 1 to 10 while a ‘No’ answer means that the child can recognize less than ten or none at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 is developmentally on target if at least two out of three are tr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identify/name at least 10 letters of alphabe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read at least four simple popular wor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nows the name and recognizes the symbol of all numbers from 1 to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A3D1D46-83C2-46EE-9FDF-EBC22E904B68}"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855720" y="743040"/>
            <a:ext cx="4952880" cy="3714840"/>
          </a:xfrm>
          <a:prstGeom prst="rect">
            <a:avLst/>
          </a:prstGeom>
          <a:ln w="0">
            <a:noFill/>
          </a:ln>
        </p:spPr>
      </p:sp>
      <p:sp>
        <p:nvSpPr>
          <p:cNvPr id="378"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sking “</a:t>
            </a:r>
            <a:r>
              <a:rPr b="0" lang="en-GB" sz="1200" spc="-1" strike="noStrike">
                <a:solidFill>
                  <a:srgbClr val="000000"/>
                </a:solidFill>
                <a:latin typeface="Calibri"/>
              </a:rPr>
              <a:t>Can your child pick up a small object with two fingers, like a stick or rock from the ground?”. You should circle the code corresponding to the response. If necessary, use the pen you are holding to demonstrate the grip. Consider the small objects mentioned before when asking about the items children play with (sticks, rocks, animal shells or leaves). A ‘Yes’ answer means that the child is able to pick up small objects without difficulty while a ‘No’ answer means that the child seems to have difficulty with small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 you ask: “Is the child sometimes too sick to play? Circle the code corresponding to the response. A ‘Yes’ answer means that the child often gets sick and cannot play or do many physical activities. It also may mean that the child complains of pains or aches (tummy, head) and does not want to do physical activities, while a ‘No’ answer is in cases when the child is consistently ready to be active and play and only appears tired when it is appropriate for him/her to be so (e.g., in the evening; at the usual nap tim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hild is physically on target if one or both of the following is true: can pick up a small object with two fingers and/or  is not too sick to play frequently</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FF6D6A3-C50B-48EC-BB72-97EBDC4B6EFA}"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855720" y="743040"/>
            <a:ext cx="4952880" cy="3714840"/>
          </a:xfrm>
          <a:prstGeom prst="rect">
            <a:avLst/>
          </a:prstGeom>
          <a:ln w="0">
            <a:noFill/>
          </a:ln>
        </p:spPr>
      </p:sp>
      <p:sp>
        <p:nvSpPr>
          <p:cNvPr id="38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tart with the question: “</a:t>
            </a:r>
            <a:r>
              <a:rPr b="0" lang="en-GB" sz="1200" spc="-1" strike="noStrike">
                <a:solidFill>
                  <a:srgbClr val="000000"/>
                </a:solidFill>
                <a:latin typeface="Calibri"/>
              </a:rPr>
              <a:t>Does the child follow simple directions on how to do something correctly?” Circle the code corresponding to the response. A ‘Yes’ answer means that the child can do things easily and correctly when asked to do so while a ‘No’ answer means that the child usually does not accomplish the simple tasks she/he is given successfully. Do not concern yourself with the reasons why no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continue with the question: “When given something to do, is (name) able to do it independently?” Circle the code corresponding to the response. A ‘Yes’ answer means that the child is able to occupy herself/himself independently for an appropriate length of time, without constant asking for assistance or giving up quickly (e.g., colouring, building structures, etc.) while a ‘No’ answer means that the child cannot occupy herself/himself independently, asks for help or assistance, or gives up the work/play easily if not provided with hel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hild is developmentally on target if one or both of the following is true: follows simple directions on how to do something correctly, and/or when given something to do, is able to do it independently.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4022F25-1681-4AD4-944D-8AA78E1E41AE}"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855720" y="743040"/>
            <a:ext cx="4952880" cy="3714840"/>
          </a:xfrm>
          <a:prstGeom prst="rect">
            <a:avLst/>
          </a:prstGeom>
          <a:ln w="0">
            <a:noFill/>
          </a:ln>
        </p:spPr>
      </p:sp>
      <p:sp>
        <p:nvSpPr>
          <p:cNvPr id="38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sking “</a:t>
            </a:r>
            <a:r>
              <a:rPr b="0" lang="en-GB" sz="1200" spc="-1" strike="noStrike">
                <a:solidFill>
                  <a:srgbClr val="000000"/>
                </a:solidFill>
                <a:latin typeface="Calibri"/>
              </a:rPr>
              <a:t>Does (name) get along with other children?” Circle the code corresponding to the response. A ‘Yes’ answer means that the child does well playing and interacting with other children while a ‘No’ answer means that the child is uncomfortable around other children, prefers to be alone, or gets into conflicts.</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 we ask “Does (name) kick, bite, or hit other children or adults?” Circle the code corresponding to the response. A ‘Yes’ answer means that the parent has noticed that the child can physically hurt (kick, bite, hit) other children while a ‘No’ answer means that the child does not do it. Do not concern yourself with what may be the reason of such behaviour (e.g., if parent tries to explain the reasons, or excuse the child).</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are finishing with the question “Does (name) get distracted easily? “ Circle the code corresponding to the response. A ‘Yes’ answer means that the child has difficulty sticking with/continuing any activity for the necessary length of time, gets easily distracted by anything happening around her/him, or finds other activities before completing the one started while a ‘No’ answer means that the child doesn’t get easily distracted.</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hild is developmentally on target if at least two of the following are true: gets along well with other children; does not kick, bite, or hit other children;  does not get distracted easily.</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5D7EDDD-6971-418E-B53E-07F173E90A69}"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8E48-B829-463D-B54B-B6FCDFAF6DD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387" name="PlaceHolder 1"/>
          <p:cNvSpPr>
            <a:spLocks noGrp="1"/>
          </p:cNvSpPr>
          <p:nvPr>
            <p:ph type="sldImg"/>
          </p:nvPr>
        </p:nvSpPr>
        <p:spPr>
          <a:xfrm>
            <a:off x="855720" y="743040"/>
            <a:ext cx="4952880" cy="3714840"/>
          </a:xfrm>
          <a:prstGeom prst="rect">
            <a:avLst/>
          </a:prstGeom>
          <a:ln w="0">
            <a:noFill/>
          </a:ln>
        </p:spPr>
      </p:sp>
      <p:sp>
        <p:nvSpPr>
          <p:cNvPr id="388"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odule must still be adapted to reflect vaccines and doses as specified on government-approved vaccination cards</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2562-7392-4372-8A6F-9C4269B83C6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390" name="PlaceHolder 1"/>
          <p:cNvSpPr>
            <a:spLocks noGrp="1"/>
          </p:cNvSpPr>
          <p:nvPr>
            <p:ph type="sldImg"/>
          </p:nvPr>
        </p:nvSpPr>
        <p:spPr>
          <a:xfrm>
            <a:off x="855720" y="743040"/>
            <a:ext cx="4952880" cy="3714840"/>
          </a:xfrm>
          <a:prstGeom prst="rect">
            <a:avLst/>
          </a:prstGeom>
          <a:ln w="0">
            <a:noFill/>
          </a:ln>
        </p:spPr>
      </p:sp>
      <p:sp>
        <p:nvSpPr>
          <p:cNvPr id="39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odule must still be adapted to reflect vaccines and doses as specified on government-approved vaccination c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naire consists of two parts – data collected from immunization cards and mother report – it is very important to adopt both parts</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FACB-1917-476E-B668-D734E83EEDC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393" name="PlaceHolder 1"/>
          <p:cNvSpPr>
            <a:spLocks noGrp="1"/>
          </p:cNvSpPr>
          <p:nvPr>
            <p:ph type="sldImg"/>
          </p:nvPr>
        </p:nvSpPr>
        <p:spPr>
          <a:xfrm>
            <a:off x="855720" y="743040"/>
            <a:ext cx="4952880" cy="3714840"/>
          </a:xfrm>
          <a:prstGeom prst="rect">
            <a:avLst/>
          </a:prstGeom>
          <a:ln w="0">
            <a:noFill/>
          </a:ln>
        </p:spPr>
      </p:sp>
      <p:sp>
        <p:nvSpPr>
          <p:cNvPr id="39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odule must still be adapted to reflect vaccines and doses as specified on government-approved vaccination c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naire consists of two parts – data collected from immunization cards and mother report – it is very important to adopt both parts</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855720" y="743040"/>
            <a:ext cx="4952880" cy="3714840"/>
          </a:xfrm>
          <a:prstGeom prst="rect">
            <a:avLst/>
          </a:prstGeom>
          <a:ln w="0">
            <a:noFill/>
          </a:ln>
        </p:spPr>
      </p:sp>
      <p:sp>
        <p:nvSpPr>
          <p:cNvPr id="39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3784-E7F7-4CF1-98EE-808DD0B8665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855720" y="743040"/>
            <a:ext cx="4952880" cy="3714840"/>
          </a:xfrm>
          <a:prstGeom prst="rect">
            <a:avLst/>
          </a:prstGeom>
          <a:ln w="0">
            <a:noFill/>
          </a:ln>
        </p:spPr>
      </p:sp>
      <p:sp>
        <p:nvSpPr>
          <p:cNvPr id="33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A18F-7669-4EBC-BC5F-3E964BFC0F4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1B714-E885-4ABA-A0B2-AF3A1FAC9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F3614-BC83-4B7E-A8DF-8F1D959F6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48E76-34CB-44D3-A6CF-E37B3B3E7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2BECD-FD02-4755-9591-78A2B8E91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E8F34-FD25-4435-AAF4-70522896D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FFC07-6FC9-48BE-8EB3-048E9CD30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207A1-9E69-4F9E-941C-4FFEC1416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F0932-7683-49D3-AF7B-3FE913894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EF79A-9BAF-408D-810F-F8AF17DF0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0C94F-9904-4AA9-8648-D9C4E7A61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2D6BF-8FEC-495A-B5BD-F42555AD9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FF867-C5B0-48DB-BC14-3FF12F05B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06F0A-3C89-4FE3-B2E3-CE7137D5A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DB92E-DC62-43AF-9036-5B63537BC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74AEF-3055-465B-AA5A-F9C397BF4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683C4-326C-4C07-B51A-CECCA839D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E04E0-447A-496A-86B4-932D7B38B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A1426-DB50-4A06-B7FF-3D3D81935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5AF45-B246-4FAA-B5E4-1F95FB809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6BF50-D1BA-44AE-ADEF-650C1CAFF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1AD49-24B6-410B-91BE-384A89A7C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1980A-FDD6-4B83-B15F-BD51DCB92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6B5F4-B19B-4AC4-8F64-C5DBA3D48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2AFDF-3E34-4D68-B89B-E3D5910C3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95FA-CD2F-4ABE-A6EC-B5564F04A6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2743200" y="6324480"/>
            <a:ext cx="3581280" cy="231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S4 Survey Design Workshop</a:t>
            </a:r>
            <a:endParaRPr b="0" lang="en-US" sz="12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8AC5-7CDA-4D5D-9E16-E7958CB426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file:///U5_02_Birth%20Registration%20(Pa).ppt" TargetMode="External"/><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1044720"/>
            <a:ext cx="8153280" cy="207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63d"/>
                </a:solidFill>
                <a:latin typeface="Saysettha Lao"/>
              </a:rPr>
              <a:t>¡¾­¦¿¹ì¸©©ñ©¦½</a:t>
            </a:r>
            <a:r>
              <a:rPr b="1" lang="lo-LA" sz="4000" spc="-1" strike="noStrike">
                <a:solidFill>
                  <a:srgbClr val="00863d"/>
                </a:solidFill>
                <a:latin typeface="Saysettha Lao"/>
                <a:cs typeface="DokChampa"/>
              </a:rPr>
              <a:t>ນ</a:t>
            </a:r>
            <a:r>
              <a:rPr b="1" lang="en-US" sz="4000" spc="-1" strike="noStrike">
                <a:solidFill>
                  <a:srgbClr val="00863d"/>
                </a:solidFill>
                <a:latin typeface="Saysettha Lao"/>
              </a:rPr>
              <a:t>­ó Ï¾¨¦ñ¤£ö´ì¾¸ </a:t>
            </a:r>
            <a:br>
              <a:rPr sz="4000"/>
            </a:br>
            <a:r>
              <a:rPr b="1" lang="en-US" sz="3200" spc="-1" strike="noStrike">
                <a:solidFill>
                  <a:srgbClr val="00863d"/>
                </a:solidFill>
                <a:latin typeface="Saysettha Lao"/>
              </a:rPr>
              <a:t>¡¾­</a:t>
            </a:r>
            <a:r>
              <a:rPr b="1" lang="lo-LA" sz="3200" spc="-1" strike="noStrike">
                <a:solidFill>
                  <a:srgbClr val="00863d"/>
                </a:solidFill>
                <a:latin typeface="Saysettha Lao"/>
                <a:cs typeface="DokChampa"/>
              </a:rPr>
              <a:t>ນ</a:t>
            </a:r>
            <a:r>
              <a:rPr b="1" lang="en-US" sz="3200" spc="-1" strike="noStrike">
                <a:solidFill>
                  <a:srgbClr val="00863d"/>
                </a:solidFill>
                <a:latin typeface="Saysettha Lao"/>
              </a:rPr>
              <a:t>±ô¡ºö®»ö´</a:t>
            </a:r>
            <a:r>
              <a:rPr b="1" lang="lo-LA" sz="3200" spc="-1" strike="noStrike">
                <a:solidFill>
                  <a:srgbClr val="00863d"/>
                </a:solidFill>
                <a:latin typeface="Saysettha Lao"/>
                <a:cs typeface="DokChampa"/>
              </a:rPr>
              <a:t>ນ</a:t>
            </a:r>
            <a:r>
              <a:rPr b="1" lang="en-US" sz="3200" spc="-1" strike="noStrike">
                <a:solidFill>
                  <a:srgbClr val="00863d"/>
                </a:solidFill>
                <a:latin typeface="Saysettha Lao"/>
              </a:rPr>
              <a:t>­ñ¡À©ó</a:t>
            </a:r>
            <a:r>
              <a:rPr b="1" lang="lo-LA" sz="3200" spc="-1" strike="noStrike">
                <a:solidFill>
                  <a:srgbClr val="00863d"/>
                </a:solidFill>
                <a:latin typeface="Saysettha Lao"/>
                <a:cs typeface="DokChampa"/>
              </a:rPr>
              <a:t>ນ</a:t>
            </a:r>
            <a:r>
              <a:rPr b="1" lang="en-US" sz="3200" spc="-1" strike="noStrike">
                <a:solidFill>
                  <a:srgbClr val="00863d"/>
                </a:solidFill>
                <a:latin typeface="Saysettha Lao"/>
              </a:rPr>
              <a:t>­¦¿¹ì¸©</a:t>
            </a:r>
            <a:endParaRPr b="0" lang="en-US" sz="3200" spc="-1" strike="noStrike">
              <a:solidFill>
                <a:srgbClr val="000000"/>
              </a:solidFill>
              <a:latin typeface="Calibri"/>
            </a:endParaRPr>
          </a:p>
        </p:txBody>
      </p:sp>
      <p:sp>
        <p:nvSpPr>
          <p:cNvPr id="90" name="Rectangle 17"/>
          <p:cNvSpPr/>
          <p:nvPr/>
        </p:nvSpPr>
        <p:spPr>
          <a:xfrm>
            <a:off x="457200" y="2819520"/>
            <a:ext cx="8229600" cy="75960"/>
          </a:xfrm>
          <a:prstGeom prst="rect">
            <a:avLst/>
          </a:prstGeom>
          <a:solidFill>
            <a:srgbClr val="339966"/>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Rectangle 2"/>
          <p:cNvSpPr/>
          <p:nvPr/>
        </p:nvSpPr>
        <p:spPr>
          <a:xfrm>
            <a:off x="609480" y="4038480"/>
            <a:ext cx="8153640" cy="2079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2060"/>
                </a:solidFill>
                <a:latin typeface="Saysettha Lao"/>
              </a:rPr>
              <a:t>Á®®¦º®«¾</a:t>
            </a:r>
            <a:r>
              <a:rPr b="0" lang="lo-LA" sz="3600" spc="-1" strike="noStrike">
                <a:solidFill>
                  <a:srgbClr val="002060"/>
                </a:solidFill>
                <a:latin typeface="Saysettha Lao"/>
                <a:cs typeface="DokChampa"/>
              </a:rPr>
              <a:t>ມ</a:t>
            </a:r>
            <a:r>
              <a:rPr b="0" lang="pt-BR" sz="3600" spc="-1" strike="noStrike">
                <a:solidFill>
                  <a:srgbClr val="002060"/>
                </a:solidFill>
                <a:latin typeface="Saysettha Lao"/>
              </a:rPr>
              <a:t>´¦¿ìñ®À©ñ¡º¾</a:t>
            </a:r>
            <a:r>
              <a:rPr b="0" lang="lo-LA" sz="3600" spc="-1" strike="noStrike">
                <a:solidFill>
                  <a:srgbClr val="002060"/>
                </a:solidFill>
                <a:latin typeface="Saysettha Lao"/>
                <a:cs typeface="DokChampa"/>
              </a:rPr>
              <a:t>ຍຸ</a:t>
            </a:r>
            <a:r>
              <a:rPr b="0" lang="pt-BR" sz="3600" spc="-1" strike="noStrike">
                <a:solidFill>
                  <a:srgbClr val="002060"/>
                </a:solidFill>
                <a:latin typeface="Saysettha Lao"/>
              </a:rPr>
              <a:t>¨÷-ªÔ-¡¸È¾ 5 ¯ó:</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Saysettha Lao"/>
              </a:rPr>
              <a:t>¢Ó</a:t>
            </a:r>
            <a:r>
              <a:rPr b="1" lang="lo-LA" sz="3600" spc="-1" strike="noStrike">
                <a:solidFill>
                  <a:srgbClr val="002060"/>
                </a:solidFill>
                <a:latin typeface="Saysettha Lao"/>
                <a:cs typeface="DokChampa"/>
              </a:rPr>
              <a:t>ມ</a:t>
            </a:r>
            <a:r>
              <a:rPr b="1" lang="en-GB" sz="3600" spc="-1" strike="noStrike">
                <a:solidFill>
                  <a:srgbClr val="002060"/>
                </a:solidFill>
                <a:latin typeface="Saysettha Lao"/>
              </a:rPr>
              <a:t>´ø</a:t>
            </a:r>
            <a:r>
              <a:rPr b="1" lang="lo-LA" sz="3600" spc="-1" strike="noStrike">
                <a:solidFill>
                  <a:srgbClr val="002060"/>
                </a:solidFill>
                <a:latin typeface="Saysettha Lao"/>
                <a:cs typeface="DokChampa"/>
              </a:rPr>
              <a:t>ນ</a:t>
            </a:r>
            <a:r>
              <a:rPr b="1" lang="en-GB" sz="3600" spc="-1" strike="noStrike">
                <a:solidFill>
                  <a:srgbClr val="002060"/>
                </a:solidFill>
                <a:latin typeface="Saysettha Lao"/>
              </a:rPr>
              <a:t>­</a:t>
            </a:r>
            <a:r>
              <a:rPr b="1" lang="en-US" sz="3600" spc="-1" strike="noStrike">
                <a:solidFill>
                  <a:srgbClr val="002060"/>
                </a:solidFill>
                <a:latin typeface="Saysettha Lao"/>
              </a:rPr>
              <a:t>¡È¼¸¡ñ®</a:t>
            </a:r>
            <a:r>
              <a:rPr b="1" lang="en-GB" sz="3600" spc="-1" strike="noStrike">
                <a:solidFill>
                  <a:srgbClr val="002060"/>
                </a:solidFill>
                <a:latin typeface="Saysettha Lao"/>
              </a:rPr>
              <a:t>À©ñ¡ Áì½ º¾</a:t>
            </a:r>
            <a:r>
              <a:rPr b="1" lang="lo-LA" sz="3600" spc="-1" strike="noStrike">
                <a:solidFill>
                  <a:srgbClr val="002060"/>
                </a:solidFill>
                <a:latin typeface="Saysettha Lao"/>
                <a:cs typeface="DokChampa"/>
              </a:rPr>
              <a:t>ຍຸ</a:t>
            </a:r>
            <a:r>
              <a:rPr b="1" lang="en-GB" sz="3600" spc="-1" strike="noStrike">
                <a:solidFill>
                  <a:srgbClr val="002060"/>
                </a:solidFill>
                <a:latin typeface="Saysettha Lao"/>
              </a:rPr>
              <a:t>¨÷</a:t>
            </a:r>
            <a:r>
              <a:rPr b="0" lang="en-GB" sz="4000" spc="-1" strike="noStrike">
                <a:solidFill>
                  <a:srgbClr val="000000"/>
                </a:solidFill>
                <a:latin typeface="Saysettha Lao"/>
              </a:rPr>
              <a:t>	</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28600" y="1676160"/>
            <a:ext cx="8686800" cy="5105160"/>
          </a:xfrm>
          <a:prstGeom prst="rect">
            <a:avLst/>
          </a:prstGeom>
          <a:noFill/>
          <a:ln w="0">
            <a:noFill/>
          </a:ln>
        </p:spPr>
        <p:txBody>
          <a:bodyPr anchor="t">
            <a:normAutofit/>
          </a:bodyPr>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Saysettha Unicode"/>
                <a:cs typeface="Saysettha Unicode"/>
              </a:rPr>
              <a:t>ມາດຕາ</a:t>
            </a:r>
            <a:r>
              <a:rPr b="0" lang="en-US" sz="2800" spc="-1" strike="noStrike">
                <a:solidFill>
                  <a:srgbClr val="002060"/>
                </a:solidFill>
                <a:latin typeface="Saysettha Unicode"/>
                <a:ea typeface="Saysettha Unicode"/>
              </a:rPr>
              <a:t>7</a:t>
            </a:r>
            <a:r>
              <a:rPr b="0" lang="en-US" sz="2800" spc="-1" strike="noStrike">
                <a:solidFill>
                  <a:srgbClr val="002060"/>
                </a:solidFill>
                <a:latin typeface="Saysettha Unicode"/>
                <a:cs typeface="Saysettha Unicode"/>
              </a:rPr>
              <a:t>ຂໍ້ບັນຍັດຂອງສິດທິເດັກ ຊ່ວຍໃຫ້ເດັກທຸກຄົນມີສິດຂຶ້ນທະບຽນການເກີດນຳອຳນາດການປົກຄອງທ້ອງຖິ່ນທີ່ເດັກເກີດ</a:t>
            </a:r>
            <a:r>
              <a:rPr b="0" lang="en-US" sz="2800" spc="-1" strike="noStrike">
                <a:solidFill>
                  <a:srgbClr val="002060"/>
                </a:solidFill>
                <a:latin typeface="Saysettha Unicode"/>
                <a:ea typeface="Saysettha Unicode"/>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Saysettha Unicode"/>
                <a:cs typeface="Saysettha Unicode"/>
              </a:rPr>
              <a:t>ການຂຶ້ນທະບຽນການເກີດເປັນພື້ນຖານທີ່ພົວພັນກັບຈຳນວນສິດທິອື່ນໆ</a:t>
            </a:r>
            <a:r>
              <a:rPr b="0" lang="en-US" sz="2800" spc="-1" strike="noStrike">
                <a:solidFill>
                  <a:srgbClr val="002060"/>
                </a:solidFill>
                <a:latin typeface="Saysettha Unicode"/>
                <a:ea typeface="Saysettha Unicode"/>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Saysettha Unicode"/>
                <a:cs typeface="Saysettha Unicode"/>
              </a:rPr>
              <a:t>ເພື່ອຄາດຄະເນ ຂອບເຂດຂອງການຂຶ້ນທະບຽນການເກີດ</a:t>
            </a:r>
            <a:endParaRPr b="0" lang="en-US" sz="2800" spc="-1" strike="noStrike">
              <a:solidFill>
                <a:srgbClr val="000000"/>
              </a:solidFill>
              <a:latin typeface="Calibri"/>
            </a:endParaRPr>
          </a:p>
        </p:txBody>
      </p:sp>
      <p:sp>
        <p:nvSpPr>
          <p:cNvPr id="129" name="PlaceHolder 1"/>
          <p:cNvSpPr>
            <a:spLocks noGrp="1"/>
          </p:cNvSpPr>
          <p:nvPr>
            <p:ph type="title"/>
          </p:nvPr>
        </p:nvSpPr>
        <p:spPr>
          <a:xfrm>
            <a:off x="-360" y="-360"/>
            <a:ext cx="3886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Saysettha Unicode"/>
                <a:cs typeface="Saysettha Unicode"/>
              </a:rPr>
              <a:t>ຄວາມເປັນມາ</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75960"/>
            <a:ext cx="5334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Saysettha Unicode"/>
                <a:cs typeface="Saysettha Unicode"/>
              </a:rPr>
              <a:t>ການສຳຫລວດທີ່ຜ່ານມາ</a:t>
            </a:r>
            <a:endParaRPr b="0" lang="en-US" sz="4400" spc="-1" strike="noStrike">
              <a:solidFill>
                <a:srgbClr val="000000"/>
              </a:solidFill>
              <a:latin typeface="Calibri"/>
            </a:endParaRPr>
          </a:p>
        </p:txBody>
      </p:sp>
      <p:pic>
        <p:nvPicPr>
          <p:cNvPr id="131" name="Chart 5" descr=""/>
          <p:cNvPicPr/>
          <p:nvPr/>
        </p:nvPicPr>
        <p:blipFill>
          <a:blip r:embed="rId1"/>
          <a:stretch/>
        </p:blipFill>
        <p:spPr>
          <a:xfrm>
            <a:off x="457200" y="1523880"/>
            <a:ext cx="8229600" cy="479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556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Saysettha Unicode"/>
                <a:cs typeface="Saysettha Unicode"/>
              </a:rPr>
              <a:t>ການສຳຫລວດທີ່ຜ່ານມາ</a:t>
            </a:r>
            <a:endParaRPr b="0" lang="en-US" sz="4400" spc="-1" strike="noStrike">
              <a:solidFill>
                <a:srgbClr val="000000"/>
              </a:solidFill>
              <a:latin typeface="Calibri"/>
            </a:endParaRPr>
          </a:p>
        </p:txBody>
      </p:sp>
      <p:pic>
        <p:nvPicPr>
          <p:cNvPr id="133" name="Chart 2" descr=""/>
          <p:cNvPicPr/>
          <p:nvPr/>
        </p:nvPicPr>
        <p:blipFill>
          <a:blip r:embed="rId1"/>
          <a:stretch/>
        </p:blipFill>
        <p:spPr>
          <a:xfrm>
            <a:off x="304920" y="1066680"/>
            <a:ext cx="860724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599840"/>
            <a:ext cx="8686800" cy="4724280"/>
          </a:xfrm>
          <a:prstGeom prst="rect">
            <a:avLst/>
          </a:prstGeom>
          <a:noFill/>
          <a:ln w="0">
            <a:noFill/>
          </a:ln>
        </p:spPr>
        <p:txBody>
          <a:bodyPr anchor="t">
            <a:normAutofit/>
          </a:bodyPr>
          <a:p>
            <a:pPr marL="343080" indent="-343080" algn="just">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Saysettha Unicode"/>
                <a:cs typeface="Saysettha Unicode"/>
              </a:rPr>
              <a:t>ການຂຶ້ນທະບຽນການເກີດຂອງເດັກເປັນບັນທຶກນຶ່ງຂອງທາງລັດຖະການ</a:t>
            </a:r>
            <a:r>
              <a:rPr b="0" lang="en-US" sz="2800" spc="-1" strike="noStrike">
                <a:solidFill>
                  <a:srgbClr val="002060"/>
                </a:solidFill>
                <a:latin typeface="Saysettha Unicode"/>
                <a:ea typeface="Saysettha Unicode"/>
              </a:rPr>
              <a:t>.</a:t>
            </a:r>
            <a:endParaRPr b="0" lang="en-US" sz="2800" spc="-1" strike="noStrike">
              <a:solidFill>
                <a:srgbClr val="000000"/>
              </a:solidFill>
              <a:latin typeface="Calibri"/>
            </a:endParaRPr>
          </a:p>
          <a:p>
            <a:pPr marL="343080" indent="-343080" algn="just">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Saysettha Unicode"/>
                <a:cs typeface="Saysettha Unicode"/>
              </a:rPr>
              <a:t>ການຂຶ້ນທະບຽນການເກີດຂອງເດັກສາມາດເຮັດໃຫ້ເດັກສາມາດໄດ້ໃບຢັ້ງຢືນການເກີດຈາກອຳນາດການປົກຄອງທ້ອງຖິ່ນ</a:t>
            </a:r>
            <a:r>
              <a:rPr b="0" lang="en-US" sz="2800" spc="-1" strike="noStrike">
                <a:solidFill>
                  <a:srgbClr val="002060"/>
                </a:solidFill>
                <a:latin typeface="Saysettha Unicode"/>
                <a:ea typeface="Saysettha Unicode"/>
              </a:rPr>
              <a:t>.</a:t>
            </a:r>
            <a:endParaRPr b="0" lang="en-US" sz="28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Saysettha Unicode"/>
                <a:cs typeface="Saysettha Unicode"/>
              </a:rPr>
              <a:t>ໃບຢັ້ງຢືນການເກີດເປັນໜັງສືສ່ວນບຸກຄົນຊຶ່ງອອກໃຫ້ໂດຍອຳນາດການປົກຄອງທ້ອງຖິ່ນ</a:t>
            </a:r>
            <a:endParaRPr b="0" lang="en-US" sz="2800" spc="-1" strike="noStrike">
              <a:solidFill>
                <a:srgbClr val="000000"/>
              </a:solidFill>
              <a:latin typeface="Calibri"/>
            </a:endParaRPr>
          </a:p>
        </p:txBody>
      </p:sp>
      <p:sp>
        <p:nvSpPr>
          <p:cNvPr id="135" name="PlaceHolder 1"/>
          <p:cNvSpPr>
            <a:spLocks noGrp="1"/>
          </p:cNvSpPr>
          <p:nvPr>
            <p:ph type="title"/>
          </p:nvPr>
        </p:nvSpPr>
        <p:spPr>
          <a:xfrm>
            <a:off x="0" y="-360"/>
            <a:ext cx="312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Saysettha Unicode"/>
                <a:cs typeface="Saysettha Unicode"/>
              </a:rPr>
              <a:t>ນິຍາມ</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304920" y="76320"/>
            <a:ext cx="38098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Saysettha Unicode"/>
                <a:cs typeface="Saysettha Unicode"/>
                <a:hlinkClick r:id="rId1"/>
              </a:rPr>
              <a:t>ຄຳຖາມ</a:t>
            </a:r>
            <a:endParaRPr b="0" lang="en-US" sz="4400" spc="-1" strike="noStrike">
              <a:solidFill>
                <a:srgbClr val="000000"/>
              </a:solidFill>
              <a:latin typeface="Calibri"/>
            </a:endParaRPr>
          </a:p>
        </p:txBody>
      </p:sp>
      <p:graphicFrame>
        <p:nvGraphicFramePr>
          <p:cNvPr id="137" name="Object 4"/>
          <p:cNvGraphicFramePr/>
          <p:nvPr/>
        </p:nvGraphicFramePr>
        <p:xfrm>
          <a:off x="152280" y="1054080"/>
          <a:ext cx="8801280" cy="5803920"/>
        </p:xfrm>
        <a:graphic>
          <a:graphicData uri="http://schemas.openxmlformats.org/presentationml/2006/ole">
            <p:oleObj r:id="rId2" spid="">
              <p:embed/>
              <p:pic>
                <p:nvPicPr>
                  <p:cNvPr id="138" name="Object 4" descr=""/>
                  <p:cNvPicPr/>
                  <p:nvPr/>
                </p:nvPicPr>
                <p:blipFill>
                  <a:blip r:embed="rId3"/>
                  <a:stretch/>
                </p:blipFill>
                <p:spPr>
                  <a:xfrm>
                    <a:off x="152280" y="1054080"/>
                    <a:ext cx="8801280" cy="580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aysettha OT"/>
                <a:cs typeface="Saysettha OT"/>
              </a:rPr>
              <a:t>ການຝຶກອົບຮົມນັກເດີນສໍາຫລວດ ດັດສະນີໝາຍສັງຄົມລາວ</a:t>
            </a:r>
            <a:endParaRPr b="0" lang="en-US" sz="3600" spc="-1" strike="noStrike">
              <a:solidFill>
                <a:srgbClr val="000000"/>
              </a:solidFill>
              <a:latin typeface="Calibri"/>
            </a:endParaRPr>
          </a:p>
        </p:txBody>
      </p:sp>
      <p:sp>
        <p:nvSpPr>
          <p:cNvPr id="140" name="PlaceHolder 2"/>
          <p:cNvSpPr>
            <a:spLocks noGrp="1"/>
          </p:cNvSpPr>
          <p:nvPr>
            <p:ph type="subTitle"/>
          </p:nvPr>
        </p:nvSpPr>
        <p:spPr>
          <a:xfrm>
            <a:off x="1143000" y="3352320"/>
            <a:ext cx="6858000" cy="25909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Saysettha OT"/>
                <a:cs typeface="Saysettha OT"/>
              </a:rPr>
              <a:t>ແບບສອບຖາມສໍາລັບເດັກລຸ່ມ </a:t>
            </a:r>
            <a:r>
              <a:rPr b="0" lang="en-US" sz="3200" spc="-1" strike="noStrike">
                <a:solidFill>
                  <a:srgbClr val="002060"/>
                </a:solidFill>
                <a:latin typeface="Saysettha OT"/>
                <a:ea typeface="Saysettha OT"/>
              </a:rPr>
              <a:t>5 </a:t>
            </a:r>
            <a:r>
              <a:rPr b="0" lang="en-US" sz="3200" spc="-1" strike="noStrike">
                <a:solidFill>
                  <a:srgbClr val="002060"/>
                </a:solidFill>
                <a:latin typeface="Saysettha OT"/>
                <a:cs typeface="Saysettha OT"/>
              </a:rPr>
              <a:t>ປີ</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Saysettha OT"/>
                <a:cs typeface="Saysettha OT"/>
              </a:rPr>
              <a:t>ການພັດທະນາເດັກໃນໄລຍະຕົ້ນ</a:t>
            </a:r>
            <a:endParaRPr b="0" lang="en-US" sz="3200" spc="-1" strike="noStrike">
              <a:solidFill>
                <a:srgbClr val="000000"/>
              </a:solidFill>
              <a:latin typeface="Calibri"/>
            </a:endParaRPr>
          </a:p>
        </p:txBody>
      </p:sp>
      <p:sp>
        <p:nvSpPr>
          <p:cNvPr id="141" name="Rectangle 17"/>
          <p:cNvSpPr/>
          <p:nvPr/>
        </p:nvSpPr>
        <p:spPr>
          <a:xfrm>
            <a:off x="457200" y="2819520"/>
            <a:ext cx="8229600" cy="75960"/>
          </a:xfrm>
          <a:prstGeom prst="rect">
            <a:avLst/>
          </a:prstGeom>
          <a:solidFill>
            <a:srgbClr val="339966"/>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75960"/>
            <a:ext cx="3200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Saysettha OT"/>
                <a:cs typeface="Saysettha OT"/>
              </a:rPr>
              <a:t>ຄວາມເປັນມາ</a:t>
            </a:r>
            <a:endParaRPr b="0" lang="en-US" sz="4000" spc="-1" strike="noStrike">
              <a:solidFill>
                <a:srgbClr val="000000"/>
              </a:solidFill>
              <a:latin typeface="Calibri"/>
            </a:endParaRPr>
          </a:p>
        </p:txBody>
      </p:sp>
      <p:sp>
        <p:nvSpPr>
          <p:cNvPr id="143" name="Rectangle 5"/>
          <p:cNvSpPr/>
          <p:nvPr/>
        </p:nvSpPr>
        <p:spPr>
          <a:xfrm>
            <a:off x="457200" y="1295280"/>
            <a:ext cx="8305920" cy="50608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ໃນປີຜ່ານມາໄດ້ມີເດັກລຸ່ມ </a:t>
            </a:r>
            <a:r>
              <a:rPr b="0" lang="en-GB" sz="2800" spc="-1" strike="noStrike">
                <a:solidFill>
                  <a:srgbClr val="002060"/>
                </a:solidFill>
                <a:latin typeface="Saysettha OT"/>
                <a:ea typeface="Saysettha OT"/>
              </a:rPr>
              <a:t>5</a:t>
            </a:r>
            <a:r>
              <a:rPr b="0" lang="lo-LA" sz="2800" spc="-1" strike="noStrike">
                <a:solidFill>
                  <a:srgbClr val="002060"/>
                </a:solidFill>
                <a:latin typeface="Saysettha OT"/>
                <a:ea typeface="Saysettha OT"/>
              </a:rPr>
              <a:t> </a:t>
            </a:r>
            <a:r>
              <a:rPr b="0" lang="lo-LA" sz="2800" spc="-1" strike="noStrike">
                <a:solidFill>
                  <a:srgbClr val="002060"/>
                </a:solidFill>
                <a:latin typeface="Saysettha OT"/>
                <a:cs typeface="Saysettha OT"/>
              </a:rPr>
              <a:t>ປີເສັຽຊີວິດເກືອບເຖິງ </a:t>
            </a:r>
            <a:r>
              <a:rPr b="0" lang="en-GB" sz="2800" spc="-1" strike="noStrike">
                <a:solidFill>
                  <a:srgbClr val="002060"/>
                </a:solidFill>
                <a:latin typeface="Saysettha OT"/>
                <a:ea typeface="Saysettha OT"/>
              </a:rPr>
              <a:t>9</a:t>
            </a:r>
            <a:r>
              <a:rPr b="0" lang="lo-LA" sz="2800" spc="-1" strike="noStrike">
                <a:solidFill>
                  <a:srgbClr val="002060"/>
                </a:solidFill>
                <a:latin typeface="Saysettha OT"/>
                <a:ea typeface="Saysettha OT"/>
              </a:rPr>
              <a:t> ​</a:t>
            </a:r>
            <a:r>
              <a:rPr b="0" lang="lo-LA" sz="2800" spc="-1" strike="noStrike">
                <a:solidFill>
                  <a:srgbClr val="002060"/>
                </a:solidFill>
                <a:latin typeface="Saysettha OT"/>
                <a:cs typeface="Saysettha OT"/>
              </a:rPr>
              <a:t>ລ້ານຄົນ</a:t>
            </a:r>
            <a:endParaRPr b="0" lang="en-US" sz="2800" spc="-1" strike="noStrike">
              <a:solidFill>
                <a:srgbClr val="000000"/>
              </a:solidFill>
              <a:latin typeface="Calibri"/>
            </a:endParaRPr>
          </a:p>
          <a:p>
            <a:pPr marL="355680" indent="-3556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ເດັກນ້ອຽລຸ່ມ </a:t>
            </a:r>
            <a:r>
              <a:rPr b="0" lang="en-GB" sz="2800" spc="-1" strike="noStrike">
                <a:solidFill>
                  <a:srgbClr val="002060"/>
                </a:solidFill>
                <a:latin typeface="Saysettha OT"/>
                <a:ea typeface="Saysettha OT"/>
              </a:rPr>
              <a:t>5</a:t>
            </a:r>
            <a:r>
              <a:rPr b="0" lang="lo-LA" sz="2800" spc="-1" strike="noStrike">
                <a:solidFill>
                  <a:srgbClr val="002060"/>
                </a:solidFill>
                <a:latin typeface="Saysettha OT"/>
                <a:ea typeface="Saysettha OT"/>
              </a:rPr>
              <a:t> </a:t>
            </a:r>
            <a:r>
              <a:rPr b="0" lang="lo-LA" sz="2800" spc="-1" strike="noStrike">
                <a:solidFill>
                  <a:srgbClr val="002060"/>
                </a:solidFill>
                <a:latin typeface="Saysettha OT"/>
                <a:cs typeface="Saysettha OT"/>
              </a:rPr>
              <a:t>ປີ ເກີນກວ່າ </a:t>
            </a:r>
            <a:r>
              <a:rPr b="0" lang="en-GB" sz="2800" spc="-1" strike="noStrike">
                <a:solidFill>
                  <a:srgbClr val="002060"/>
                </a:solidFill>
                <a:latin typeface="Saysettha OT"/>
                <a:ea typeface="Saysettha OT"/>
              </a:rPr>
              <a:t>220</a:t>
            </a:r>
            <a:r>
              <a:rPr b="0" lang="lo-LA" sz="2800" spc="-1" strike="noStrike">
                <a:solidFill>
                  <a:srgbClr val="002060"/>
                </a:solidFill>
                <a:latin typeface="Saysettha OT"/>
                <a:ea typeface="Saysettha OT"/>
              </a:rPr>
              <a:t> </a:t>
            </a:r>
            <a:r>
              <a:rPr b="0" lang="lo-LA" sz="2800" spc="-1" strike="noStrike">
                <a:solidFill>
                  <a:srgbClr val="002060"/>
                </a:solidFill>
                <a:latin typeface="Saysettha OT"/>
                <a:cs typeface="Saysettha OT"/>
              </a:rPr>
              <a:t>ຄົນແມ່ນບໍ່ໄດ້ພັດທະ ນາເຕັມສ່ວນຕາມເກນອາຍຸ</a:t>
            </a:r>
            <a:endParaRPr b="0" lang="en-US" sz="2800" spc="-1" strike="noStrike">
              <a:solidFill>
                <a:srgbClr val="000000"/>
              </a:solidFill>
              <a:latin typeface="Calibri"/>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55680" indent="-3556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ປະມານ </a:t>
            </a:r>
            <a:r>
              <a:rPr b="0" lang="en-GB" sz="2800" spc="-1" strike="noStrike">
                <a:solidFill>
                  <a:srgbClr val="002060"/>
                </a:solidFill>
                <a:latin typeface="Saysettha OT"/>
                <a:ea typeface="Saysettha OT"/>
              </a:rPr>
              <a:t>20%</a:t>
            </a:r>
            <a:r>
              <a:rPr b="0" lang="lo-LA" sz="2800" spc="-1" strike="noStrike">
                <a:solidFill>
                  <a:srgbClr val="002060"/>
                </a:solidFill>
                <a:latin typeface="Saysettha OT"/>
                <a:ea typeface="Saysettha OT"/>
              </a:rPr>
              <a:t> </a:t>
            </a:r>
            <a:r>
              <a:rPr b="0" lang="lo-LA" sz="2800" spc="-1" strike="noStrike">
                <a:solidFill>
                  <a:srgbClr val="002060"/>
                </a:solidFill>
                <a:latin typeface="Saysettha OT"/>
                <a:cs typeface="Saysettha OT"/>
              </a:rPr>
              <a:t>ແມ່ນຈະເສັຽຄວາມສາມາດໄນການຜະລິດເວລາທີ່ເປັນຜູ້ໃຫຍ່</a:t>
            </a:r>
            <a:endParaRPr b="0" lang="en-US" sz="2800" spc="-1" strike="noStrike">
              <a:solidFill>
                <a:srgbClr val="000000"/>
              </a:solidFill>
              <a:latin typeface="Calibri"/>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55680" indent="-3556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ບັນຫາກ່ຽວກັບການພັດນາຂອງເດັກຍັງຈະແມ່ນສີ່ງທ້າທາຍຕໍ່ໄປຈົນກວ່າວ່າຄວາມພະຍາຍາມເພື່ອເຮັດໃຫ້ບັນຫາກ່ຽວກັບການພັດທະນາເດັກເປັນບູລິມະສິດ</a:t>
            </a:r>
            <a:r>
              <a:rPr b="0" lang="en-US" sz="2800" spc="-1" strike="noStrike">
                <a:solidFill>
                  <a:srgbClr val="002060"/>
                </a:solidFill>
                <a:latin typeface="Saysettha OT"/>
                <a:cs typeface="Saysettha OT"/>
              </a:rPr>
              <a:t>ຂອງລັດຖະບານ</a:t>
            </a:r>
            <a:endParaRPr b="0" lang="en-US" sz="2800" spc="-1" strike="noStrike">
              <a:solidFill>
                <a:srgbClr val="000000"/>
              </a:solidFill>
              <a:latin typeface="Calibri"/>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8"/>
          <p:cNvSpPr/>
          <p:nvPr/>
        </p:nvSpPr>
        <p:spPr>
          <a:xfrm>
            <a:off x="1371600" y="1676520"/>
            <a:ext cx="6686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Saysettha OT"/>
                <a:ea typeface="Saysettha OT"/>
              </a:rPr>
              <a:t> </a:t>
            </a:r>
            <a:r>
              <a:rPr b="1" lang="fr-FR" sz="2400" spc="-1" strike="noStrike">
                <a:solidFill>
                  <a:srgbClr val="002060"/>
                </a:solidFill>
                <a:latin typeface="Saysettha OT"/>
                <a:cs typeface="Saysettha OT"/>
              </a:rPr>
              <a:t>ຈະມີຊື່ ແລະ ເຊື້ອຊາດ</a:t>
            </a:r>
            <a:endParaRPr b="0" lang="en-US" sz="2400" spc="-1" strike="noStrike">
              <a:solidFill>
                <a:srgbClr val="000000"/>
              </a:solidFill>
              <a:latin typeface="Calibri"/>
            </a:endParaRPr>
          </a:p>
        </p:txBody>
      </p:sp>
      <p:sp>
        <p:nvSpPr>
          <p:cNvPr id="145" name="Text Box 13"/>
          <p:cNvSpPr/>
          <p:nvPr/>
        </p:nvSpPr>
        <p:spPr>
          <a:xfrm>
            <a:off x="5727600" y="1002348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Title 6"/>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Saysettha OT"/>
                <a:cs typeface="Saysettha OT"/>
              </a:rPr>
              <a:t>ຂ້ອຍມີສິດທີ່ </a:t>
            </a:r>
            <a:r>
              <a:rPr b="1" lang="en-US" sz="4400" spc="-1" strike="noStrike">
                <a:solidFill>
                  <a:srgbClr val="ffff00"/>
                </a:solidFill>
                <a:latin typeface="Saysettha OT"/>
                <a:ea typeface="Saysettha OT"/>
              </a:rPr>
              <a:t>!</a:t>
            </a:r>
            <a:endParaRPr b="0" lang="en-US" sz="4400" spc="-1" strike="noStrike">
              <a:solidFill>
                <a:srgbClr val="000000"/>
              </a:solidFill>
              <a:latin typeface="Calibri"/>
            </a:endParaRPr>
          </a:p>
        </p:txBody>
      </p:sp>
      <p:pic>
        <p:nvPicPr>
          <p:cNvPr id="147" name="Picture 1" descr=""/>
          <p:cNvPicPr/>
          <p:nvPr/>
        </p:nvPicPr>
        <p:blipFill>
          <a:blip r:embed="rId1"/>
          <a:stretch/>
        </p:blipFill>
        <p:spPr>
          <a:xfrm>
            <a:off x="2971800" y="2352600"/>
            <a:ext cx="3276720" cy="3059280"/>
          </a:xfrm>
          <a:prstGeom prst="rect">
            <a:avLst/>
          </a:prstGeom>
          <a:ln w="0">
            <a:noFill/>
          </a:ln>
        </p:spPr>
      </p:pic>
      <p:sp>
        <p:nvSpPr>
          <p:cNvPr id="148" name="Text Box 5"/>
          <p:cNvSpPr/>
          <p:nvPr/>
        </p:nvSpPr>
        <p:spPr>
          <a:xfrm>
            <a:off x="284400" y="2362320"/>
            <a:ext cx="2824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Saysettha OT"/>
                <a:ea typeface="Saysettha OT"/>
              </a:rPr>
              <a:t> </a:t>
            </a:r>
            <a:r>
              <a:rPr b="0" lang="fr-FR" sz="2400" spc="-1" strike="noStrike">
                <a:solidFill>
                  <a:srgbClr val="002060"/>
                </a:solidFill>
                <a:latin typeface="Saysettha OT"/>
                <a:cs typeface="Saysettha OT"/>
              </a:rPr>
              <a:t>ຈະໄດ້ຮັບການລ້ຽງດູ</a:t>
            </a:r>
            <a:endParaRPr b="0" lang="en-US" sz="2400" spc="-1" strike="noStrike">
              <a:solidFill>
                <a:srgbClr val="000000"/>
              </a:solidFill>
              <a:latin typeface="Calibri"/>
            </a:endParaRPr>
          </a:p>
        </p:txBody>
      </p:sp>
      <p:sp>
        <p:nvSpPr>
          <p:cNvPr id="149" name="Text Box 5"/>
          <p:cNvSpPr/>
          <p:nvPr/>
        </p:nvSpPr>
        <p:spPr>
          <a:xfrm>
            <a:off x="-2520" y="3352680"/>
            <a:ext cx="305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Saysettha OT"/>
                <a:ea typeface="Saysettha OT"/>
              </a:rPr>
              <a:t> </a:t>
            </a:r>
            <a:r>
              <a:rPr b="0" lang="fr-FR" sz="2400" spc="-1" strike="noStrike">
                <a:solidFill>
                  <a:srgbClr val="002060"/>
                </a:solidFill>
                <a:latin typeface="Saysettha OT"/>
                <a:cs typeface="Saysettha OT"/>
              </a:rPr>
              <a:t>ຈະໄດ້ດື່ມນໍ້າທີ່ສະອາດ</a:t>
            </a:r>
            <a:endParaRPr b="0" lang="en-US" sz="2400" spc="-1" strike="noStrike">
              <a:solidFill>
                <a:srgbClr val="000000"/>
              </a:solidFill>
              <a:latin typeface="Calibri"/>
            </a:endParaRPr>
          </a:p>
        </p:txBody>
      </p:sp>
      <p:sp>
        <p:nvSpPr>
          <p:cNvPr id="150" name="Text Box 5"/>
          <p:cNvSpPr/>
          <p:nvPr/>
        </p:nvSpPr>
        <p:spPr>
          <a:xfrm>
            <a:off x="815040" y="4343400"/>
            <a:ext cx="171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Saysettha OT"/>
                <a:ea typeface="Saysettha OT"/>
              </a:rPr>
              <a:t> </a:t>
            </a:r>
            <a:r>
              <a:rPr b="0" lang="fr-FR" sz="2400" spc="-1" strike="noStrike">
                <a:solidFill>
                  <a:srgbClr val="002060"/>
                </a:solidFill>
                <a:latin typeface="Saysettha OT"/>
                <a:cs typeface="Saysettha OT"/>
              </a:rPr>
              <a:t>ຈະໄດ້ຮຽນ</a:t>
            </a:r>
            <a:endParaRPr b="0" lang="en-US" sz="2400" spc="-1" strike="noStrike">
              <a:solidFill>
                <a:srgbClr val="000000"/>
              </a:solidFill>
              <a:latin typeface="Calibri"/>
            </a:endParaRPr>
          </a:p>
        </p:txBody>
      </p:sp>
      <p:sp>
        <p:nvSpPr>
          <p:cNvPr id="151" name="Text Box 5"/>
          <p:cNvSpPr/>
          <p:nvPr/>
        </p:nvSpPr>
        <p:spPr>
          <a:xfrm>
            <a:off x="6073920" y="2286000"/>
            <a:ext cx="2867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Saysettha OT"/>
                <a:ea typeface="Saysettha OT"/>
              </a:rPr>
              <a:t> </a:t>
            </a:r>
            <a:r>
              <a:rPr b="0" lang="fr-FR" sz="2400" spc="-1" strike="noStrike">
                <a:solidFill>
                  <a:srgbClr val="002060"/>
                </a:solidFill>
                <a:latin typeface="Saysettha OT"/>
                <a:cs typeface="Saysettha OT"/>
              </a:rPr>
              <a:t>ຈະໄດ້ຮັບການສັກຢາ</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Saysettha OT"/>
                <a:cs typeface="Saysettha OT"/>
              </a:rPr>
              <a:t>ກັນພະຍາດ</a:t>
            </a:r>
            <a:endParaRPr b="0" lang="en-US" sz="2400" spc="-1" strike="noStrike">
              <a:solidFill>
                <a:srgbClr val="000000"/>
              </a:solidFill>
              <a:latin typeface="Calibri"/>
            </a:endParaRPr>
          </a:p>
        </p:txBody>
      </p:sp>
      <p:sp>
        <p:nvSpPr>
          <p:cNvPr id="152" name="Text Box 5"/>
          <p:cNvSpPr/>
          <p:nvPr/>
        </p:nvSpPr>
        <p:spPr>
          <a:xfrm>
            <a:off x="6563880" y="3352680"/>
            <a:ext cx="1752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Saysettha OT"/>
                <a:ea typeface="Saysettha OT"/>
              </a:rPr>
              <a:t> </a:t>
            </a:r>
            <a:r>
              <a:rPr b="0" lang="fr-FR" sz="2400" spc="-1" strike="noStrike">
                <a:solidFill>
                  <a:srgbClr val="002060"/>
                </a:solidFill>
                <a:latin typeface="Saysettha OT"/>
                <a:cs typeface="Saysettha OT"/>
              </a:rPr>
              <a:t>ຈະໄດ້ຫລີ້ນ</a:t>
            </a:r>
            <a:endParaRPr b="0" lang="en-US" sz="2400" spc="-1" strike="noStrike">
              <a:solidFill>
                <a:srgbClr val="000000"/>
              </a:solidFill>
              <a:latin typeface="Calibri"/>
            </a:endParaRPr>
          </a:p>
        </p:txBody>
      </p:sp>
      <p:sp>
        <p:nvSpPr>
          <p:cNvPr id="153" name="Text Box 5"/>
          <p:cNvSpPr/>
          <p:nvPr/>
        </p:nvSpPr>
        <p:spPr>
          <a:xfrm>
            <a:off x="6379920" y="4343400"/>
            <a:ext cx="2589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Saysettha OT"/>
                <a:ea typeface="Saysettha OT"/>
              </a:rPr>
              <a:t> </a:t>
            </a:r>
            <a:r>
              <a:rPr b="0" lang="fr-FR" sz="2400" spc="-1" strike="noStrike">
                <a:solidFill>
                  <a:srgbClr val="002060"/>
                </a:solidFill>
                <a:latin typeface="Saysettha OT"/>
                <a:cs typeface="Saysettha OT"/>
              </a:rPr>
              <a:t>ຈະໄດ້ປົກປ້ອງຈາກ</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Saysettha OT"/>
                <a:cs typeface="Saysettha OT"/>
              </a:rPr>
              <a:t>ການເຈັບເປັນ</a:t>
            </a:r>
            <a:endParaRPr b="0" lang="en-US" sz="2400" spc="-1" strike="noStrike">
              <a:solidFill>
                <a:srgbClr val="000000"/>
              </a:solidFill>
              <a:latin typeface="Calibri"/>
            </a:endParaRPr>
          </a:p>
        </p:txBody>
      </p:sp>
      <p:sp>
        <p:nvSpPr>
          <p:cNvPr id="154" name="Text Box 8"/>
          <p:cNvSpPr/>
          <p:nvPr/>
        </p:nvSpPr>
        <p:spPr>
          <a:xfrm>
            <a:off x="1219320" y="5715000"/>
            <a:ext cx="6686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Saysettha OT"/>
                <a:cs typeface="Saysettha OT"/>
              </a:rPr>
              <a:t>ຂອບໃຈທີ່ໃຫ້ຂ້ອຍໄດ້ມີຊີວິດທີ່ເລີ້ມຕົ້ນດ້ວຍດີ</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274320"/>
            <a:ext cx="6400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Saysettha OT"/>
                <a:cs typeface="Saysettha OT"/>
              </a:rPr>
              <a:t>ກອບຂອງຍຸດທະສາດ</a:t>
            </a:r>
            <a:endParaRPr b="0" lang="en-US" sz="4400" spc="-1" strike="noStrike">
              <a:solidFill>
                <a:srgbClr val="000000"/>
              </a:solidFill>
              <a:latin typeface="Calibri"/>
            </a:endParaRPr>
          </a:p>
        </p:txBody>
      </p:sp>
      <p:sp>
        <p:nvSpPr>
          <p:cNvPr id="156" name="Rectangle 5"/>
          <p:cNvSpPr/>
          <p:nvPr/>
        </p:nvSpPr>
        <p:spPr>
          <a:xfrm>
            <a:off x="533520" y="1371600"/>
            <a:ext cx="8305560" cy="56397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buClr>
                <a:srgbClr val="00206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Saysettha OT"/>
                <a:ea typeface="Saysettha OT"/>
              </a:rPr>
              <a:t> </a:t>
            </a:r>
            <a:r>
              <a:rPr b="1" lang="en-GB" sz="2800" spc="-1" strike="noStrike">
                <a:solidFill>
                  <a:srgbClr val="002060"/>
                </a:solidFill>
                <a:latin typeface="Saysettha OT"/>
                <a:cs typeface="Saysettha OT"/>
              </a:rPr>
              <a:t>ລັດຖະບັນຍັດກ່ຽວກັບສິດທິເດັກ </a:t>
            </a:r>
            <a:r>
              <a:rPr b="1" lang="en-GB" sz="2800" spc="-1" strike="noStrike">
                <a:solidFill>
                  <a:srgbClr val="002060"/>
                </a:solidFill>
                <a:latin typeface="Saysettha OT"/>
                <a:ea typeface="Saysettha OT"/>
              </a:rPr>
              <a:t>(CRC)</a:t>
            </a:r>
            <a:r>
              <a:rPr b="0" lang="en-GB" sz="2800" spc="-1" strike="noStrike">
                <a:solidFill>
                  <a:srgbClr val="002060"/>
                </a:solidFill>
                <a:latin typeface="Saysettha OT"/>
                <a:ea typeface="Saysettha OT"/>
              </a:rPr>
              <a:t>: </a:t>
            </a:r>
            <a:r>
              <a:rPr b="0" lang="en-GB" sz="2800" spc="-1" strike="noStrike">
                <a:solidFill>
                  <a:srgbClr val="002060"/>
                </a:solidFill>
                <a:latin typeface="Saysettha OT"/>
                <a:cs typeface="Saysettha OT"/>
              </a:rPr>
              <a:t>ມີສິດທີ່ຈະຢູ່ ແລະ ໄດ້ຮັບການພັດທະນາ</a:t>
            </a:r>
            <a:endParaRPr b="0" lang="en-US" sz="2800" spc="-1" strike="noStrike">
              <a:solidFill>
                <a:srgbClr val="000000"/>
              </a:solidFill>
              <a:latin typeface="Calibri"/>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Saysettha OT"/>
                <a:ea typeface="Saysettha OT"/>
              </a:rPr>
              <a:t> </a:t>
            </a:r>
            <a:endParaRPr b="0" lang="en-US" sz="2800" spc="-1" strike="noStrike">
              <a:solidFill>
                <a:srgbClr val="000000"/>
              </a:solidFill>
              <a:latin typeface="Calibri"/>
            </a:endParaRPr>
          </a:p>
          <a:p>
            <a:pPr marL="177840" indent="-177840">
              <a:lnSpc>
                <a:spcPct val="100000"/>
              </a:lnSpc>
              <a:buClr>
                <a:srgbClr val="00206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Saysettha OT"/>
                <a:ea typeface="Saysettha OT"/>
              </a:rPr>
              <a:t> </a:t>
            </a:r>
            <a:r>
              <a:rPr b="1" lang="en-GB" sz="2800" spc="-1" strike="noStrike">
                <a:solidFill>
                  <a:srgbClr val="002060"/>
                </a:solidFill>
                <a:latin typeface="Saysettha OT"/>
                <a:cs typeface="Saysettha OT"/>
              </a:rPr>
              <a:t>ຖະແຫລງສ້າງໂລກສົດໃສສໍາລັບເດັກ </a:t>
            </a:r>
            <a:r>
              <a:rPr b="1" lang="en-GB" sz="2800" spc="-1" strike="noStrike">
                <a:solidFill>
                  <a:srgbClr val="002060"/>
                </a:solidFill>
                <a:latin typeface="Saysettha OT"/>
                <a:ea typeface="Saysettha OT"/>
              </a:rPr>
              <a:t>(WFFC)</a:t>
            </a:r>
            <a:r>
              <a:rPr b="0" lang="en-GB" sz="2800" spc="-1" strike="noStrike">
                <a:solidFill>
                  <a:srgbClr val="002060"/>
                </a:solidFill>
                <a:latin typeface="Saysettha OT"/>
                <a:ea typeface="Saysettha OT"/>
              </a:rPr>
              <a:t>: </a:t>
            </a:r>
            <a:r>
              <a:rPr b="0" lang="en-GB" sz="2800" spc="-1" strike="noStrike">
                <a:solidFill>
                  <a:srgbClr val="002060"/>
                </a:solidFill>
                <a:latin typeface="Saysettha OT"/>
                <a:cs typeface="Saysettha OT"/>
              </a:rPr>
              <a:t>ການປົກປ້ອງເດັກ</a:t>
            </a:r>
            <a:r>
              <a:rPr b="0" lang="en-GB" sz="2800" spc="-1" strike="noStrike">
                <a:solidFill>
                  <a:srgbClr val="002060"/>
                </a:solidFill>
                <a:latin typeface="Saysettha OT"/>
                <a:ea typeface="Saysettha OT"/>
              </a:rPr>
              <a:t>, </a:t>
            </a:r>
            <a:r>
              <a:rPr b="0" lang="en-GB" sz="2800" spc="-1" strike="noStrike">
                <a:solidFill>
                  <a:srgbClr val="002060"/>
                </a:solidFill>
                <a:latin typeface="Saysettha OT"/>
                <a:cs typeface="Saysettha OT"/>
              </a:rPr>
              <a:t>ການເຕີບໂຕ ແລະ ການພັດທະນາ</a:t>
            </a:r>
            <a:r>
              <a:rPr b="0" lang="en-GB" sz="2800" spc="-1" strike="noStrike">
                <a:solidFill>
                  <a:srgbClr val="002060"/>
                </a:solidFill>
                <a:latin typeface="Saysettha OT"/>
                <a:ea typeface="Saysettha OT"/>
              </a:rPr>
              <a:t>, </a:t>
            </a:r>
            <a:r>
              <a:rPr b="0" lang="en-GB" sz="2800" spc="-1" strike="noStrike">
                <a:solidFill>
                  <a:srgbClr val="002060"/>
                </a:solidFill>
                <a:latin typeface="Saysettha OT"/>
                <a:cs typeface="Saysettha OT"/>
              </a:rPr>
              <a:t>ສຸຂະພາບດີ ແລະ  ພຶ້ນຖານທີ່ຈໍາເປັນສໍາລັບການພັດທະນາເດັກ</a:t>
            </a:r>
            <a:endParaRPr b="0" lang="en-US" sz="2800" spc="-1" strike="noStrike">
              <a:solidFill>
                <a:srgbClr val="000000"/>
              </a:solidFill>
              <a:latin typeface="Calibri"/>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77840" indent="-177840">
              <a:lnSpc>
                <a:spcPct val="100000"/>
              </a:lnSpc>
              <a:buClr>
                <a:srgbClr val="00206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Saysettha OT"/>
                <a:ea typeface="Saysettha OT"/>
              </a:rPr>
              <a:t> </a:t>
            </a:r>
            <a:r>
              <a:rPr b="1" lang="en-GB" sz="2800" spc="-1" strike="noStrike">
                <a:solidFill>
                  <a:srgbClr val="002060"/>
                </a:solidFill>
                <a:latin typeface="Saysettha OT"/>
                <a:cs typeface="Saysettha OT"/>
              </a:rPr>
              <a:t>ແຜນຍຸດທະສາດໄລຍະກາງ </a:t>
            </a:r>
            <a:r>
              <a:rPr b="1" lang="en-GB" sz="2800" spc="-1" strike="noStrike">
                <a:solidFill>
                  <a:srgbClr val="002060"/>
                </a:solidFill>
                <a:latin typeface="Saysettha OT"/>
                <a:ea typeface="Saysettha OT"/>
              </a:rPr>
              <a:t>(MTSP)</a:t>
            </a:r>
            <a:r>
              <a:rPr b="0" lang="en-GB" sz="2800" spc="-1" strike="noStrike">
                <a:solidFill>
                  <a:srgbClr val="002060"/>
                </a:solidFill>
                <a:latin typeface="Saysettha OT"/>
                <a:ea typeface="Saysettha OT"/>
              </a:rPr>
              <a:t>: </a:t>
            </a:r>
            <a:r>
              <a:rPr b="0" lang="en-GB" sz="2800" spc="-1" strike="noStrike">
                <a:solidFill>
                  <a:srgbClr val="002060"/>
                </a:solidFill>
                <a:latin typeface="Saysettha OT"/>
                <a:cs typeface="Saysettha OT"/>
              </a:rPr>
              <a:t>ການພັດທະນາ ແລະ ການຢູ່ລອດຂອງເດັກນ້ອຽ</a:t>
            </a:r>
            <a:endParaRPr b="0" lang="en-US" sz="2800" spc="-1" strike="noStrike">
              <a:solidFill>
                <a:srgbClr val="000000"/>
              </a:solidFill>
              <a:latin typeface="Calibri"/>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77840" indent="-177840">
              <a:lnSpc>
                <a:spcPct val="100000"/>
              </a:lnSpc>
              <a:buClr>
                <a:srgbClr val="00206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Saysettha OT"/>
                <a:ea typeface="Saysettha OT"/>
              </a:rPr>
              <a:t> </a:t>
            </a:r>
            <a:r>
              <a:rPr b="1" lang="en-GB" sz="2800" spc="-1" strike="noStrike">
                <a:solidFill>
                  <a:srgbClr val="002060"/>
                </a:solidFill>
                <a:latin typeface="Saysettha OT"/>
                <a:cs typeface="Saysettha OT"/>
              </a:rPr>
              <a:t>ລົບລ້າງຄວາມທຸກຍາກ ແລະ </a:t>
            </a:r>
            <a:r>
              <a:rPr b="0" lang="en-GB" sz="2800" spc="-1" strike="noStrike">
                <a:solidFill>
                  <a:srgbClr val="002060"/>
                </a:solidFill>
                <a:latin typeface="Saysettha OT"/>
                <a:cs typeface="Saysettha OT"/>
              </a:rPr>
              <a:t>ຫລຸດຜ່ອນຄວາມແຕກຕ່າ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52280"/>
            <a:ext cx="91440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Saysettha OT"/>
                <a:cs typeface="Saysettha OT"/>
              </a:rPr>
              <a:t>ເປັນຫຍັງຈຶ່ງຕ້ອງມີການວັດແທກການພັດທະນາເດັກ</a:t>
            </a:r>
            <a:r>
              <a:rPr b="1" lang="en-US" sz="4000" spc="-1" strike="noStrike">
                <a:solidFill>
                  <a:srgbClr val="ffff00"/>
                </a:solidFill>
                <a:latin typeface="Saysettha OT"/>
                <a:ea typeface="Saysettha OT"/>
              </a:rPr>
              <a:t>?</a:t>
            </a:r>
            <a:endParaRPr b="0" lang="en-US" sz="4000" spc="-1" strike="noStrike">
              <a:solidFill>
                <a:srgbClr val="000000"/>
              </a:solidFill>
              <a:latin typeface="Calibri"/>
            </a:endParaRPr>
          </a:p>
        </p:txBody>
      </p:sp>
      <p:pic>
        <p:nvPicPr>
          <p:cNvPr id="158" name="Picture 10" descr="MCj04348590000[1]"/>
          <p:cNvPicPr/>
          <p:nvPr/>
        </p:nvPicPr>
        <p:blipFill>
          <a:blip r:embed="rId1"/>
          <a:stretch/>
        </p:blipFill>
        <p:spPr>
          <a:xfrm>
            <a:off x="1760400" y="1600200"/>
            <a:ext cx="1271880" cy="1558800"/>
          </a:xfrm>
          <a:prstGeom prst="rect">
            <a:avLst/>
          </a:prstGeom>
          <a:ln w="0">
            <a:noFill/>
          </a:ln>
        </p:spPr>
      </p:pic>
      <p:sp>
        <p:nvSpPr>
          <p:cNvPr id="159" name="Line 3"/>
          <p:cNvSpPr/>
          <p:nvPr/>
        </p:nvSpPr>
        <p:spPr>
          <a:xfrm>
            <a:off x="744480" y="2666880"/>
            <a:ext cx="7112160" cy="0"/>
          </a:xfrm>
          <a:prstGeom prst="line">
            <a:avLst/>
          </a:prstGeom>
          <a:ln w="540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Line 5"/>
          <p:cNvSpPr/>
          <p:nvPr/>
        </p:nvSpPr>
        <p:spPr>
          <a:xfrm>
            <a:off x="7856640" y="2362320"/>
            <a:ext cx="0" cy="609480"/>
          </a:xfrm>
          <a:prstGeom prst="line">
            <a:avLst/>
          </a:prstGeom>
          <a:ln w="60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Line 6"/>
          <p:cNvSpPr/>
          <p:nvPr/>
        </p:nvSpPr>
        <p:spPr>
          <a:xfrm>
            <a:off x="4335480" y="2286000"/>
            <a:ext cx="0" cy="609480"/>
          </a:xfrm>
          <a:prstGeom prst="line">
            <a:avLst/>
          </a:prstGeom>
          <a:ln w="60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Text Box 7"/>
          <p:cNvSpPr/>
          <p:nvPr/>
        </p:nvSpPr>
        <p:spPr>
          <a:xfrm>
            <a:off x="3116160" y="2971800"/>
            <a:ext cx="257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Saysettha OT"/>
                <a:cs typeface="Saysettha OT"/>
              </a:rPr>
              <a:t>ໄລຍະເຂົ້າໂຮງຮຽນ</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Line 8"/>
          <p:cNvSpPr/>
          <p:nvPr/>
        </p:nvSpPr>
        <p:spPr>
          <a:xfrm>
            <a:off x="744480" y="2286000"/>
            <a:ext cx="0" cy="609480"/>
          </a:xfrm>
          <a:prstGeom prst="line">
            <a:avLst/>
          </a:prstGeom>
          <a:ln w="60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Text Box 11"/>
          <p:cNvSpPr/>
          <p:nvPr/>
        </p:nvSpPr>
        <p:spPr>
          <a:xfrm>
            <a:off x="3589200" y="1600200"/>
            <a:ext cx="169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aysettha OT"/>
                <a:cs typeface="Saysettha OT"/>
              </a:rPr>
              <a:t>ຕົວຊີ້ວັດ</a:t>
            </a:r>
            <a:endParaRPr b="0" lang="en-US" sz="2400" spc="-1" strike="noStrike">
              <a:solidFill>
                <a:srgbClr val="000000"/>
              </a:solidFill>
              <a:latin typeface="Calibri"/>
            </a:endParaRPr>
          </a:p>
        </p:txBody>
      </p:sp>
      <p:sp>
        <p:nvSpPr>
          <p:cNvPr id="165" name="Text Box 17"/>
          <p:cNvSpPr/>
          <p:nvPr/>
        </p:nvSpPr>
        <p:spPr>
          <a:xfrm>
            <a:off x="457200" y="3776760"/>
            <a:ext cx="8305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Saysettha OT"/>
                <a:ea typeface="Saysettha OT"/>
              </a:rPr>
              <a:t> </a:t>
            </a:r>
            <a:r>
              <a:rPr b="0" lang="en-US" sz="2400" spc="-1" strike="noStrike">
                <a:solidFill>
                  <a:srgbClr val="002060"/>
                </a:solidFill>
                <a:latin typeface="Saysettha OT"/>
                <a:cs typeface="Saysettha OT"/>
              </a:rPr>
              <a:t>ພວກເຮົາມີ</a:t>
            </a:r>
            <a:r>
              <a:rPr b="0" lang="en-US" sz="2400" spc="-1" strike="noStrike">
                <a:solidFill>
                  <a:srgbClr val="002060"/>
                </a:solidFill>
                <a:latin typeface="Saysettha OT"/>
                <a:ea typeface="Saysettha OT"/>
              </a:rPr>
              <a:t>:</a:t>
            </a:r>
            <a:endParaRPr b="0" lang="en-US" sz="2400" spc="-1" strike="noStrike">
              <a:solidFill>
                <a:srgbClr val="000000"/>
              </a:solidFill>
              <a:latin typeface="Calibri"/>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Saysettha OT"/>
                <a:ea typeface="Saysettha OT"/>
              </a:rPr>
              <a:t> </a:t>
            </a:r>
            <a:r>
              <a:rPr b="0" lang="en-US" sz="2400" spc="-1" strike="noStrike">
                <a:solidFill>
                  <a:srgbClr val="002060"/>
                </a:solidFill>
                <a:latin typeface="Saysettha OT"/>
                <a:cs typeface="Saysettha OT"/>
              </a:rPr>
              <a:t>ມີຂໍ້ມູນຂອງເດັກກ່ຽວກັບ ສຸຂະພາບ</a:t>
            </a:r>
            <a:r>
              <a:rPr b="0" lang="en-US" sz="2400" spc="-1" strike="noStrike">
                <a:solidFill>
                  <a:srgbClr val="002060"/>
                </a:solidFill>
                <a:latin typeface="Saysettha OT"/>
                <a:ea typeface="Saysettha OT"/>
              </a:rPr>
              <a:t>, </a:t>
            </a:r>
            <a:r>
              <a:rPr b="0" lang="en-US" sz="2400" spc="-1" strike="noStrike">
                <a:solidFill>
                  <a:srgbClr val="002060"/>
                </a:solidFill>
                <a:latin typeface="Saysettha OT"/>
                <a:cs typeface="Saysettha OT"/>
              </a:rPr>
              <a:t>ໂພສະນາການ</a:t>
            </a:r>
            <a:r>
              <a:rPr b="0" lang="en-US" sz="2400" spc="-1" strike="noStrike">
                <a:solidFill>
                  <a:srgbClr val="002060"/>
                </a:solidFill>
                <a:latin typeface="Saysettha OT"/>
                <a:ea typeface="Saysettha OT"/>
              </a:rPr>
              <a:t>, </a:t>
            </a:r>
            <a:r>
              <a:rPr b="0" lang="en-US" sz="2400" spc="-1" strike="noStrike">
                <a:solidFill>
                  <a:srgbClr val="002060"/>
                </a:solidFill>
                <a:latin typeface="Saysettha OT"/>
                <a:cs typeface="Saysettha OT"/>
              </a:rPr>
              <a:t>ການຕາຍ</a:t>
            </a:r>
            <a:endParaRPr b="0" lang="en-US" sz="2400" spc="-1" strike="noStrike">
              <a:solidFill>
                <a:srgbClr val="000000"/>
              </a:solidFill>
              <a:latin typeface="Calibri"/>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Saysettha OT"/>
                <a:ea typeface="Saysettha OT"/>
              </a:rPr>
              <a:t> </a:t>
            </a:r>
            <a:r>
              <a:rPr b="0" lang="en-US" sz="2400" spc="-1" strike="noStrike">
                <a:solidFill>
                  <a:srgbClr val="002060"/>
                </a:solidFill>
                <a:latin typeface="Saysettha OT"/>
                <a:cs typeface="Saysettha OT"/>
              </a:rPr>
              <a:t>ມີຂໍ້ມູນກ່ຽວກັບການສຶກສາຢ່າງຫລວງຫລາຍ</a:t>
            </a:r>
            <a:endParaRPr b="0" lang="en-US" sz="2400" spc="-1" strike="noStrike">
              <a:solidFill>
                <a:srgbClr val="000000"/>
              </a:solidFill>
              <a:latin typeface="Calibri"/>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Saysettha OT"/>
                <a:cs typeface="Saysettha OT"/>
              </a:rPr>
              <a:t>ແຕ່ເຮົາ …</a:t>
            </a:r>
            <a:r>
              <a:rPr b="1" lang="en-US" sz="2400" spc="-1" strike="noStrike">
                <a:solidFill>
                  <a:srgbClr val="002060"/>
                </a:solidFill>
                <a:latin typeface="Saysettha OT"/>
                <a:ea typeface="Saysettha OT"/>
              </a:rPr>
              <a:t>..</a:t>
            </a:r>
            <a:endParaRPr b="0" lang="en-US" sz="2400" spc="-1" strike="noStrike">
              <a:solidFill>
                <a:srgbClr val="000000"/>
              </a:solidFill>
              <a:latin typeface="Calibri"/>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Saysettha OT"/>
                <a:cs typeface="Saysettha OT"/>
              </a:rPr>
              <a:t>ຍັງຂາດຫລາຍຂໍ້ມູນກ່ຽວກັບ ການພັດທະນາເດັກໃນໄລຍະຕົ້ນ</a:t>
            </a:r>
            <a:endParaRPr b="0" lang="en-US" sz="2400" spc="-1" strike="noStrike">
              <a:solidFill>
                <a:srgbClr val="000000"/>
              </a:solidFill>
              <a:latin typeface="Calibri"/>
            </a:endParaRPr>
          </a:p>
        </p:txBody>
      </p:sp>
      <p:sp>
        <p:nvSpPr>
          <p:cNvPr id="166" name="Text Box 7"/>
          <p:cNvSpPr/>
          <p:nvPr/>
        </p:nvSpPr>
        <p:spPr>
          <a:xfrm>
            <a:off x="228600" y="2819520"/>
            <a:ext cx="1219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Saysettha OT"/>
                <a:cs typeface="Saysettha OT"/>
              </a:rPr>
              <a:t>ເກີດ</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Text Box 7"/>
          <p:cNvSpPr/>
          <p:nvPr/>
        </p:nvSpPr>
        <p:spPr>
          <a:xfrm>
            <a:off x="6248520" y="2971800"/>
            <a:ext cx="257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Saysettha OT"/>
                <a:cs typeface="Saysettha OT"/>
              </a:rPr>
              <a:t>ຕາຍ</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494000"/>
            <a:ext cx="8229600" cy="452592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Saysettha Lao"/>
              </a:rPr>
              <a:t>¢Ó´ø</a:t>
            </a:r>
            <a:r>
              <a:rPr b="0" lang="lo-LA" sz="2800" spc="-1" strike="noStrike">
                <a:solidFill>
                  <a:srgbClr val="ff0000"/>
                </a:solidFill>
                <a:latin typeface="Saysettha Lao"/>
                <a:cs typeface="DokChampa"/>
              </a:rPr>
              <a:t>ນ</a:t>
            </a:r>
            <a:r>
              <a:rPr b="0" lang="en-GB" sz="2800" spc="-1" strike="noStrike">
                <a:solidFill>
                  <a:srgbClr val="ff0000"/>
                </a:solidFill>
                <a:latin typeface="Saysettha Lao"/>
              </a:rPr>
              <a:t>­</a:t>
            </a:r>
            <a:r>
              <a:rPr b="0" lang="en-US" sz="2800" spc="-1" strike="noStrike">
                <a:solidFill>
                  <a:srgbClr val="ff0000"/>
                </a:solidFill>
                <a:latin typeface="Saysettha Lao"/>
              </a:rPr>
              <a:t>¡È¼¸¡ñ®</a:t>
            </a:r>
            <a:r>
              <a:rPr b="0" lang="en-GB" sz="2800" spc="-1" strike="noStrike">
                <a:solidFill>
                  <a:srgbClr val="ff0000"/>
                </a:solidFill>
                <a:latin typeface="Saysettha Lao"/>
              </a:rPr>
              <a:t>À©ñ¡</a:t>
            </a:r>
            <a:r>
              <a:rPr b="0" lang="pt-BR" sz="2800" spc="-1" strike="noStrike">
                <a:solidFill>
                  <a:srgbClr val="ff0000"/>
                </a:solidFill>
                <a:latin typeface="Saysettha Lao"/>
              </a:rPr>
              <a:t>º¾¨÷-ªÔ-¡¸È¾ 5 ¯ó</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Saysettha Lao"/>
              </a:rPr>
              <a:t>º¾¨÷</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Saysettha Lao"/>
              </a:rPr>
              <a:t>¡¾­</a:t>
            </a:r>
            <a:r>
              <a:rPr b="0" lang="lo-LA" sz="2800" spc="-1" strike="noStrike">
                <a:solidFill>
                  <a:srgbClr val="ff0000"/>
                </a:solidFill>
                <a:latin typeface="Saysettha Lao"/>
                <a:cs typeface="DokChampa"/>
              </a:rPr>
              <a:t>ນ</a:t>
            </a:r>
            <a:r>
              <a:rPr b="0" lang="en-GB" sz="2800" spc="-1" strike="noStrike">
                <a:solidFill>
                  <a:srgbClr val="ff0000"/>
                </a:solidFill>
                <a:latin typeface="Saysettha Lao"/>
              </a:rPr>
              <a:t>¢›</a:t>
            </a:r>
            <a:r>
              <a:rPr b="0" lang="lo-LA" sz="2800" spc="-1" strike="noStrike">
                <a:solidFill>
                  <a:srgbClr val="ff0000"/>
                </a:solidFill>
                <a:latin typeface="Saysettha Lao"/>
                <a:cs typeface="DokChampa"/>
              </a:rPr>
              <a:t>ນ</a:t>
            </a:r>
            <a:r>
              <a:rPr b="0" lang="en-GB" sz="2800" spc="-1" strike="noStrike">
                <a:solidFill>
                  <a:srgbClr val="ff0000"/>
                </a:solidFill>
                <a:latin typeface="Saysettha Lao"/>
              </a:rPr>
              <a:t>­ê½®¼</a:t>
            </a:r>
            <a:r>
              <a:rPr b="0" lang="lo-LA" sz="2800" spc="-1" strike="noStrike">
                <a:solidFill>
                  <a:srgbClr val="ff0000"/>
                </a:solidFill>
                <a:latin typeface="Saysettha Lao"/>
                <a:cs typeface="DokChampa"/>
              </a:rPr>
              <a:t>ນ</a:t>
            </a:r>
            <a:r>
              <a:rPr b="0" lang="en-GB" sz="2800" spc="-1" strike="noStrike">
                <a:solidFill>
                  <a:srgbClr val="ff0000"/>
                </a:solidFill>
                <a:latin typeface="Saysettha Lao"/>
              </a:rPr>
              <a:t>­¡¾</a:t>
            </a:r>
            <a:r>
              <a:rPr b="0" lang="lo-LA" sz="2800" spc="-1" strike="noStrike">
                <a:solidFill>
                  <a:srgbClr val="ff0000"/>
                </a:solidFill>
                <a:latin typeface="Saysettha Lao"/>
                <a:cs typeface="DokChampa"/>
              </a:rPr>
              <a:t>ນ</a:t>
            </a:r>
            <a:r>
              <a:rPr b="0" lang="en-GB" sz="2800" spc="-1" strike="noStrike">
                <a:solidFill>
                  <a:srgbClr val="ff0000"/>
                </a:solidFill>
                <a:latin typeface="Saysettha Lao"/>
              </a:rPr>
              <a:t>­À¡ó©</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Saysettha Lao"/>
              </a:rPr>
              <a:t>¡¾­</a:t>
            </a:r>
            <a:r>
              <a:rPr b="0" lang="lo-LA" sz="2800" spc="-1" strike="noStrike">
                <a:solidFill>
                  <a:srgbClr val="ff0000"/>
                </a:solidFill>
                <a:latin typeface="Saysettha Lao"/>
                <a:cs typeface="DokChampa"/>
              </a:rPr>
              <a:t>ນ</a:t>
            </a:r>
            <a:r>
              <a:rPr b="0" lang="pt-BR" sz="2800" spc="-1" strike="noStrike">
                <a:solidFill>
                  <a:srgbClr val="ff0000"/>
                </a:solidFill>
                <a:latin typeface="Saysettha Lao"/>
              </a:rPr>
              <a:t>²ñ©ê½­</a:t>
            </a:r>
            <a:r>
              <a:rPr b="0" lang="lo-LA" sz="2800" spc="-1" strike="noStrike">
                <a:solidFill>
                  <a:srgbClr val="ff0000"/>
                </a:solidFill>
                <a:latin typeface="Saysettha Lao"/>
                <a:cs typeface="DokChampa"/>
              </a:rPr>
              <a:t>ນ</a:t>
            </a:r>
            <a:r>
              <a:rPr b="0" lang="pt-BR" sz="2800" spc="-1" strike="noStrike">
                <a:solidFill>
                  <a:srgbClr val="ff0000"/>
                </a:solidFill>
                <a:latin typeface="Saysettha Lao"/>
              </a:rPr>
              <a:t>¾À©ñ¡Ã­Äì¨½ªí­</a:t>
            </a:r>
            <a:r>
              <a:rPr b="0" lang="lo-LA" sz="2800" spc="-1" strike="noStrike">
                <a:solidFill>
                  <a:srgbClr val="ff0000"/>
                </a:solidFill>
                <a:latin typeface="Saysettha Lao"/>
                <a:cs typeface="DokChampa"/>
              </a:rPr>
              <a:t>ນ</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aysettha Lao"/>
              </a:rPr>
              <a:t>¡¾­</a:t>
            </a:r>
            <a:r>
              <a:rPr b="0" lang="lo-LA" sz="2800" spc="-1" strike="noStrike">
                <a:solidFill>
                  <a:srgbClr val="ff0000"/>
                </a:solidFill>
                <a:latin typeface="Saysettha Lao"/>
                <a:cs typeface="DokChampa"/>
              </a:rPr>
              <a:t>ນ</a:t>
            </a:r>
            <a:r>
              <a:rPr b="0" lang="en-US" sz="2800" spc="-1" strike="noStrike">
                <a:solidFill>
                  <a:srgbClr val="ff0000"/>
                </a:solidFill>
                <a:latin typeface="Saysettha Lao"/>
              </a:rPr>
              <a:t>ìÉ¼¤ìø¡©É¸¨</a:t>
            </a:r>
            <a:r>
              <a:rPr b="0" lang="lo-LA" sz="2800" spc="-1" strike="noStrike">
                <a:solidFill>
                  <a:srgbClr val="ff0000"/>
                </a:solidFill>
                <a:latin typeface="Saysettha Lao"/>
                <a:cs typeface="DokChampa"/>
              </a:rPr>
              <a:t>ນ</a:t>
            </a:r>
            <a:r>
              <a:rPr b="0" lang="en-US" sz="2800" spc="-1" strike="noStrike">
                <a:solidFill>
                  <a:srgbClr val="ff0000"/>
                </a:solidFill>
                <a:latin typeface="Saysettha Lao"/>
              </a:rPr>
              <a:t>­ö´Á´È</a:t>
            </a:r>
            <a:r>
              <a:rPr b="0" lang="pt-BR" sz="2800" spc="-1" strike="noStrike">
                <a:solidFill>
                  <a:srgbClr val="ff0000"/>
                </a:solidFill>
                <a:latin typeface="Saysettha Lao"/>
              </a:rPr>
              <a:t> </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Saysettha Lao"/>
              </a:rPr>
              <a:t>¡¾­</a:t>
            </a:r>
            <a:r>
              <a:rPr b="0" lang="lo-LA" sz="2800" spc="-1" strike="noStrike">
                <a:solidFill>
                  <a:srgbClr val="ff0000"/>
                </a:solidFill>
                <a:latin typeface="Saysettha Lao"/>
                <a:cs typeface="DokChampa"/>
              </a:rPr>
              <a:t>ນ</a:t>
            </a:r>
            <a:r>
              <a:rPr b="0" lang="pt-BR" sz="2800" spc="-1" strike="noStrike">
                <a:solidFill>
                  <a:srgbClr val="ff0000"/>
                </a:solidFill>
                <a:latin typeface="Saysettha Lao"/>
              </a:rPr>
              <a:t>©øÁìÀ©ñ¡À¥ñ®</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aysettha Lao"/>
              </a:rPr>
              <a:t>²½¨¾©Ä¢É¨÷¤</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Saysettha Lao"/>
              </a:rPr>
              <a:t>¡¾­</a:t>
            </a:r>
            <a:r>
              <a:rPr b="0" lang="lo-LA" sz="2800" spc="-1" strike="noStrike">
                <a:solidFill>
                  <a:srgbClr val="ff0000"/>
                </a:solidFill>
                <a:latin typeface="Saysettha Lao"/>
                <a:cs typeface="DokChampa"/>
              </a:rPr>
              <a:t>ນ</a:t>
            </a:r>
            <a:r>
              <a:rPr b="0" lang="en-GB" sz="2800" spc="-1" strike="noStrike">
                <a:solidFill>
                  <a:srgbClr val="ff0000"/>
                </a:solidFill>
                <a:latin typeface="Saysettha Lao"/>
              </a:rPr>
              <a:t>¦ñ¡µ¾¡ñ</a:t>
            </a:r>
            <a:r>
              <a:rPr b="0" lang="lo-LA" sz="2800" spc="-1" strike="noStrike">
                <a:solidFill>
                  <a:srgbClr val="ff0000"/>
                </a:solidFill>
                <a:latin typeface="Saysettha Lao"/>
                <a:cs typeface="DokChampa"/>
              </a:rPr>
              <a:t>ນ</a:t>
            </a:r>
            <a:r>
              <a:rPr b="0" lang="en-GB" sz="2800" spc="-1" strike="noStrike">
                <a:solidFill>
                  <a:srgbClr val="ff0000"/>
                </a:solidFill>
                <a:latin typeface="Saysettha Lao"/>
              </a:rPr>
              <a:t>­²½¨¾© </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Saysettha Lao"/>
              </a:rPr>
              <a:t>¡¾­-</a:t>
            </a:r>
            <a:r>
              <a:rPr b="0" lang="lo-LA" sz="2800" spc="-1" strike="noStrike">
                <a:solidFill>
                  <a:srgbClr val="ff0000"/>
                </a:solidFill>
                <a:latin typeface="Saysettha Lao"/>
                <a:cs typeface="DokChampa"/>
              </a:rPr>
              <a:t>ນ</a:t>
            </a:r>
            <a:r>
              <a:rPr b="0" lang="pt-BR" sz="2800" spc="-1" strike="noStrike">
                <a:solidFill>
                  <a:srgbClr val="ff0000"/>
                </a:solidFill>
                <a:latin typeface="Saysettha Lao"/>
              </a:rPr>
              <a:t>¸ñ©-Áê¡-ì¸¤-¦ø¤-Áì½</a:t>
            </a:r>
            <a:r>
              <a:rPr b="0" lang="lo-LA" sz="2800" spc="-1" strike="noStrike">
                <a:solidFill>
                  <a:srgbClr val="ff0000"/>
                </a:solidFill>
                <a:latin typeface="Saysettha Lao"/>
                <a:cs typeface="DokChampa"/>
              </a:rPr>
              <a:t>ນ</a:t>
            </a:r>
            <a:r>
              <a:rPr b="0" lang="pt-BR" sz="2800" spc="-1" strike="noStrike">
                <a:solidFill>
                  <a:srgbClr val="ff0000"/>
                </a:solidFill>
                <a:latin typeface="Saysettha Lao"/>
              </a:rPr>
              <a:t>­ÕÎñ¡- </a:t>
            </a:r>
            <a:endParaRPr b="0" lang="en-US" sz="2800" spc="-1" strike="noStrike">
              <a:solidFill>
                <a:srgbClr val="000000"/>
              </a:solidFill>
              <a:latin typeface="Calibri"/>
            </a:endParaRPr>
          </a:p>
        </p:txBody>
      </p:sp>
      <p:pic>
        <p:nvPicPr>
          <p:cNvPr id="93" name="Rectangle 4" descr=""/>
          <p:cNvPicPr/>
          <p:nvPr/>
        </p:nvPicPr>
        <p:blipFill>
          <a:blip r:embed="rId1"/>
          <a:stretch/>
        </p:blipFill>
        <p:spPr>
          <a:xfrm>
            <a:off x="12600" y="212760"/>
            <a:ext cx="5016600" cy="1208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152280"/>
            <a:ext cx="8480520" cy="110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Saysettha OT"/>
                <a:cs typeface="Saysettha OT"/>
              </a:rPr>
              <a:t>ການປັບປຸງການພັດທະນາເດັກໄນໄລຍະຕົ້ນ</a:t>
            </a:r>
            <a:endParaRPr b="0" lang="en-US" sz="4000" spc="-1" strike="noStrike">
              <a:solidFill>
                <a:srgbClr val="000000"/>
              </a:solidFill>
              <a:latin typeface="Calibri"/>
            </a:endParaRPr>
          </a:p>
        </p:txBody>
      </p:sp>
      <p:sp>
        <p:nvSpPr>
          <p:cNvPr id="169" name=""/>
          <p:cNvSpPr txBox="1"/>
          <p:nvPr/>
        </p:nvSpPr>
        <p:spPr>
          <a:xfrm>
            <a:off x="457200" y="1523880"/>
            <a:ext cx="8229600" cy="4525920"/>
          </a:xfrm>
          <a:prstGeom prst="rect">
            <a:avLst/>
          </a:prstGeom>
          <a:noFill/>
          <a:ln w="0">
            <a:noFill/>
          </a:ln>
        </p:spPr>
        <p:txBody>
          <a:bodyPr anchor="t">
            <a:normAutofit/>
          </a:bodyPr>
          <a:p>
            <a:pPr marL="343080" indent="-343080">
              <a:lnSpc>
                <a:spcPct val="9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Saysettha OT"/>
                <a:cs typeface="Saysettha OT"/>
              </a:rPr>
              <a:t>ເດັກ </a:t>
            </a:r>
            <a:r>
              <a:rPr b="0" lang="en-US" sz="3000" spc="-1" strike="noStrike">
                <a:solidFill>
                  <a:srgbClr val="002060"/>
                </a:solidFill>
                <a:latin typeface="Saysettha OT"/>
                <a:ea typeface="Saysettha OT"/>
              </a:rPr>
              <a:t>0-4 </a:t>
            </a:r>
            <a:r>
              <a:rPr b="0" lang="en-US" sz="3000" spc="-1" strike="noStrike">
                <a:solidFill>
                  <a:srgbClr val="002060"/>
                </a:solidFill>
                <a:latin typeface="Saysettha OT"/>
                <a:cs typeface="Saysettha OT"/>
              </a:rPr>
              <a:t>ປີ</a:t>
            </a:r>
            <a:endParaRPr b="0" lang="en-US" sz="3000" spc="-1" strike="noStrike">
              <a:solidFill>
                <a:srgbClr val="000000"/>
              </a:solidFill>
              <a:latin typeface="Calibri"/>
            </a:endParaRPr>
          </a:p>
          <a:p>
            <a:pPr marL="343080" indent="-343080">
              <a:lnSpc>
                <a:spcPct val="9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Saysettha OT"/>
                <a:cs typeface="Saysettha OT"/>
              </a:rPr>
              <a:t>ຈຸດເພີ້ມເຕີມທີ່ສໍາຄັນສໍາລັບເດັກ </a:t>
            </a:r>
            <a:r>
              <a:rPr b="0" lang="en-US" sz="3000" spc="-1" strike="noStrike">
                <a:solidFill>
                  <a:srgbClr val="002060"/>
                </a:solidFill>
                <a:latin typeface="Saysettha OT"/>
                <a:ea typeface="Saysettha OT"/>
              </a:rPr>
              <a:t>3 </a:t>
            </a:r>
            <a:r>
              <a:rPr b="0" lang="en-US" sz="3000" spc="-1" strike="noStrike">
                <a:solidFill>
                  <a:srgbClr val="002060"/>
                </a:solidFill>
                <a:latin typeface="Saysettha OT"/>
                <a:cs typeface="Saysettha OT"/>
              </a:rPr>
              <a:t>ແລະ </a:t>
            </a:r>
            <a:r>
              <a:rPr b="0" lang="en-US" sz="3000" spc="-1" strike="noStrike">
                <a:solidFill>
                  <a:srgbClr val="002060"/>
                </a:solidFill>
                <a:latin typeface="Saysettha OT"/>
                <a:ea typeface="Saysettha OT"/>
              </a:rPr>
              <a:t>4 </a:t>
            </a:r>
            <a:r>
              <a:rPr b="0" lang="en-US" sz="3000" spc="-1" strike="noStrike">
                <a:solidFill>
                  <a:srgbClr val="002060"/>
                </a:solidFill>
                <a:latin typeface="Saysettha OT"/>
                <a:cs typeface="Saysettha OT"/>
              </a:rPr>
              <a:t>ປີ </a:t>
            </a:r>
            <a:endParaRPr b="0" lang="en-US" sz="3000" spc="-1" strike="noStrike">
              <a:solidFill>
                <a:srgbClr val="000000"/>
              </a:solidFill>
              <a:latin typeface="Calibri"/>
            </a:endParaRPr>
          </a:p>
          <a:p>
            <a:pPr marL="343080" indent="-3430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2060"/>
                </a:solidFill>
                <a:latin typeface="Saysettha OT"/>
                <a:cs typeface="Saysettha OT"/>
              </a:rPr>
              <a:t>ຄໍາຖາມເພື່ອການປະເມີນ</a:t>
            </a:r>
            <a:r>
              <a:rPr b="0" lang="en-GB" sz="3000" spc="-1" strike="noStrike">
                <a:solidFill>
                  <a:srgbClr val="002060"/>
                </a:solidFill>
                <a:latin typeface="Saysettha OT"/>
                <a:ea typeface="Saysettha OT"/>
              </a:rPr>
              <a:t>:</a:t>
            </a:r>
            <a:endParaRPr b="0" lang="en-US" sz="3000" spc="-1" strike="noStrike">
              <a:solidFill>
                <a:srgbClr val="000000"/>
              </a:solidFill>
              <a:latin typeface="Calibri"/>
            </a:endParaRPr>
          </a:p>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Saysettha OT"/>
                <a:cs typeface="Saysettha OT"/>
              </a:rPr>
              <a:t>ສະພາບແວດລ້ອມທີ່ສະໜັບສະໜູນໃຫ້ແກ່ການຮຽນ</a:t>
            </a:r>
            <a:endParaRPr b="0" lang="en-US" sz="2600" spc="-1" strike="noStrike">
              <a:solidFill>
                <a:srgbClr val="000000"/>
              </a:solidFill>
              <a:latin typeface="Calibri"/>
            </a:endParaRPr>
          </a:p>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Saysettha OT"/>
                <a:cs typeface="Saysettha OT"/>
              </a:rPr>
              <a:t>ຍັງບໍ່ທັນໄດ້ຮັບການດູແລຢ່າງພຽງພໍ</a:t>
            </a:r>
            <a:endParaRPr b="0" lang="en-US" sz="2600" spc="-1" strike="noStrike">
              <a:solidFill>
                <a:srgbClr val="000000"/>
              </a:solidFill>
              <a:latin typeface="Calibri"/>
            </a:endParaRPr>
          </a:p>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Saysettha OT"/>
                <a:cs typeface="Saysettha OT"/>
              </a:rPr>
              <a:t>ຜູ້ລ້ຽງດູສາມາດໃຫ້ການສະໜັບສະໜູນແກ່ການຮຽນໃນໄລຍະຕົ້ນ</a:t>
            </a:r>
            <a:endParaRPr b="0" lang="en-US" sz="2600" spc="-1" strike="noStrike">
              <a:solidFill>
                <a:srgbClr val="000000"/>
              </a:solidFill>
              <a:latin typeface="Calibri"/>
            </a:endParaRPr>
          </a:p>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Saysettha OT"/>
                <a:cs typeface="Saysettha OT"/>
              </a:rPr>
              <a:t>ການເຂົ້າເຖິງການສຶກສາໃນໄລຍະຕົ້ນ</a:t>
            </a:r>
            <a:endParaRPr b="0" lang="en-US" sz="2600" spc="-1" strike="noStrike">
              <a:solidFill>
                <a:srgbClr val="000000"/>
              </a:solidFill>
              <a:latin typeface="Calibri"/>
            </a:endParaRPr>
          </a:p>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Saysettha OT"/>
                <a:cs typeface="Saysettha OT"/>
              </a:rPr>
              <a:t>ການພັດທະນາເດັກມນໄລຍະຕົ້ນ</a:t>
            </a:r>
            <a:endParaRPr b="0" lang="en-US" sz="2600" spc="-1" strike="noStrike">
              <a:solidFill>
                <a:srgbClr val="000000"/>
              </a:solidFill>
              <a:latin typeface="Calibri"/>
            </a:endParaRPr>
          </a:p>
          <a:p>
            <a:pPr lvl="1" marL="743040" indent="-28584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0" name="Rectangle 6"/>
          <p:cNvSpPr/>
          <p:nvPr/>
        </p:nvSpPr>
        <p:spPr>
          <a:xfrm>
            <a:off x="5969160" y="531720"/>
            <a:ext cx="183960" cy="370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Saysettha OT"/>
                <a:cs typeface="Saysettha OT"/>
              </a:rPr>
              <a:t>ຄໍາຖາມກ່ຽວກັບສະພາບແວດລ້ອມທີ່ສະໜັບສະໜູນໃຫ້ແກ່ການຮໍ່າຮຽນ</a:t>
            </a:r>
            <a:endParaRPr b="0" lang="en-US" sz="4000" spc="-1" strike="noStrike">
              <a:solidFill>
                <a:srgbClr val="000000"/>
              </a:solidFill>
              <a:latin typeface="Calibri"/>
            </a:endParaRPr>
          </a:p>
        </p:txBody>
      </p:sp>
      <p:pic>
        <p:nvPicPr>
          <p:cNvPr id="172" name="Object 4" descr=""/>
          <p:cNvPicPr/>
          <p:nvPr/>
        </p:nvPicPr>
        <p:blipFill>
          <a:blip r:embed="rId1"/>
          <a:stretch/>
        </p:blipFill>
        <p:spPr>
          <a:xfrm>
            <a:off x="457200" y="1609560"/>
            <a:ext cx="8083440" cy="5248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76320"/>
            <a:ext cx="754380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Saysettha OT"/>
                <a:cs typeface="Saysettha OT"/>
              </a:rPr>
              <a:t>ຈຸດສໍາຄັນທີ່ຄວນເອົາໃຈໃສ່</a:t>
            </a:r>
            <a:endParaRPr b="0" lang="en-US" sz="4400" spc="-1" strike="noStrike">
              <a:solidFill>
                <a:srgbClr val="000000"/>
              </a:solidFill>
              <a:latin typeface="Calibri"/>
            </a:endParaRPr>
          </a:p>
        </p:txBody>
      </p:sp>
      <p:sp>
        <p:nvSpPr>
          <p:cNvPr id="174" name=""/>
          <p:cNvSpPr txBox="1"/>
          <p:nvPr/>
        </p:nvSpPr>
        <p:spPr>
          <a:xfrm>
            <a:off x="457200" y="1066680"/>
            <a:ext cx="8229600" cy="5639040"/>
          </a:xfrm>
          <a:prstGeom prst="rect">
            <a:avLst/>
          </a:prstGeom>
          <a:noFill/>
          <a:ln w="0">
            <a:noFill/>
          </a:ln>
        </p:spPr>
        <p:txBody>
          <a:bodyPr anchor="t">
            <a:normAutofit/>
          </a:bodyPr>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Saysettha OT"/>
                <a:ea typeface="Saysettha OT"/>
              </a:rPr>
              <a:t>EC1 </a:t>
            </a:r>
            <a:r>
              <a:rPr b="0" lang="en-GB" sz="2800" spc="-1" strike="noStrike">
                <a:solidFill>
                  <a:srgbClr val="002060"/>
                </a:solidFill>
                <a:latin typeface="Saysettha OT"/>
                <a:cs typeface="Saysettha OT"/>
              </a:rPr>
              <a:t>ຖາມຄໍາຖາມສະເພາະກ່ຽວກັບປື້ມຂອງເດັກ ຫລືປື້ມຮູບສໍາລັບເດັກ</a:t>
            </a:r>
            <a:endParaRPr b="0" lang="en-US" sz="2800" spc="-1" strike="noStrike">
              <a:solidFill>
                <a:srgbClr val="000000"/>
              </a:solidFill>
              <a:latin typeface="Calibri"/>
            </a:endParaRPr>
          </a:p>
          <a:p>
            <a:pPr marL="343080" indent="-343080">
              <a:lnSpc>
                <a:spcPct val="100000"/>
              </a:lnSpc>
              <a:spcBef>
                <a:spcPts val="2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Saysettha OT"/>
                <a:cs typeface="Saysettha OT"/>
              </a:rPr>
              <a:t>ບໍ່ໄດ້ລວມເອົາປື້ມອ່ານຂອງໂຮງຮຽນ ແລະ ປື້ມອຶ່ນໆສໍາລັບຜູ້ໃຫຍ່ທີ່ມີຢູ່ໃນເຮືອນ</a:t>
            </a:r>
            <a:endParaRPr b="0" lang="en-US" sz="2800" spc="-1" strike="noStrike">
              <a:solidFill>
                <a:srgbClr val="000000"/>
              </a:solidFill>
              <a:latin typeface="Calibri"/>
            </a:endParaRPr>
          </a:p>
          <a:p>
            <a:pPr marL="343080" indent="-343080">
              <a:lnSpc>
                <a:spcPct val="100000"/>
              </a:lnSpc>
              <a:spcBef>
                <a:spcPts val="2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Saysettha OT"/>
                <a:cs typeface="Saysettha OT"/>
              </a:rPr>
              <a:t>ບໍ່ຈໍາເປັນວ່າຜູ້ສອບຖາມຈະຕ້ອງໄດ້ນັບປື້ມເອົາເອງ</a:t>
            </a:r>
            <a:r>
              <a:rPr b="0" lang="en-GB" sz="2800" spc="-1" strike="noStrike">
                <a:solidFill>
                  <a:srgbClr val="002060"/>
                </a:solidFill>
                <a:latin typeface="Saysettha OT"/>
                <a:ea typeface="Saysettha OT"/>
              </a:rPr>
              <a:t>, </a:t>
            </a:r>
            <a:r>
              <a:rPr b="0" lang="en-GB" sz="2800" spc="-1" strike="noStrike">
                <a:solidFill>
                  <a:srgbClr val="002060"/>
                </a:solidFill>
                <a:latin typeface="Saysettha OT"/>
                <a:cs typeface="Saysettha OT"/>
              </a:rPr>
              <a:t>ທັງໝົດແມ່ນອີງໃສ່ຜູ້ຕອບສໍາພາດເວົ້າໃຫ້ຟັ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75960"/>
            <a:ext cx="7162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Saysettha OT"/>
                <a:cs typeface="Saysettha OT"/>
              </a:rPr>
              <a:t>ຄໍາຖາມກ່ຽວກັບການຂາດການດູແລຮັກສາ</a:t>
            </a:r>
            <a:endParaRPr b="0" lang="en-US" sz="4000" spc="-1" strike="noStrike">
              <a:solidFill>
                <a:srgbClr val="000000"/>
              </a:solidFill>
              <a:latin typeface="Calibri"/>
            </a:endParaRPr>
          </a:p>
        </p:txBody>
      </p:sp>
      <p:sp>
        <p:nvSpPr>
          <p:cNvPr id="176" name="TextBox 6"/>
          <p:cNvSpPr/>
          <p:nvPr/>
        </p:nvSpPr>
        <p:spPr>
          <a:xfrm>
            <a:off x="457200" y="5334120"/>
            <a:ext cx="8686800" cy="11912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Saysettha OT"/>
                <a:cs typeface="Saysettha OT"/>
              </a:rPr>
              <a:t>ຄໍາຖາມແມ່ນສະເພາະເຈາະຈົງໃສ່ສະພາບການທີ່ຜູ້ໃຫ້ສໍາພາດສາມາດອານຸຍາດ</a:t>
            </a:r>
            <a:r>
              <a:rPr b="0" lang="en-GB" sz="2400" spc="-1" strike="noStrike">
                <a:solidFill>
                  <a:srgbClr val="002060"/>
                </a:solidFill>
                <a:latin typeface="Saysettha OT"/>
                <a:ea typeface="Saysettha OT"/>
              </a:rPr>
              <a:t>, </a:t>
            </a:r>
            <a:r>
              <a:rPr b="0" lang="en-GB" sz="2400" spc="-1" strike="noStrike">
                <a:solidFill>
                  <a:srgbClr val="002060"/>
                </a:solidFill>
                <a:latin typeface="Saysettha OT"/>
                <a:cs typeface="Saysettha OT"/>
              </a:rPr>
              <a:t>ບໍ່ແມ່ນວ່າຈະພາເອົາເດັກອອກໄປຢູ່ຫ້ອງອື່ນຂອງເຮືອນແລະສອບຖາມ</a:t>
            </a:r>
            <a:endParaRPr b="0" lang="en-US" sz="2400" spc="-1" strike="noStrike">
              <a:solidFill>
                <a:srgbClr val="000000"/>
              </a:solidFill>
              <a:latin typeface="Calibri"/>
            </a:endParaRPr>
          </a:p>
        </p:txBody>
      </p:sp>
      <p:pic>
        <p:nvPicPr>
          <p:cNvPr id="177" name="Object 5" descr=""/>
          <p:cNvPicPr/>
          <p:nvPr/>
        </p:nvPicPr>
        <p:blipFill>
          <a:blip r:embed="rId1"/>
          <a:stretch/>
        </p:blipFill>
        <p:spPr>
          <a:xfrm>
            <a:off x="311040" y="1225440"/>
            <a:ext cx="8467920" cy="403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Saysettha OT"/>
                <a:cs typeface="Saysettha OT"/>
              </a:rPr>
              <a:t>ຄໍາຖາມກ່ຽວກັບການເຂົ້າຮັບການສຶກສາຂອງເດັກໄນໃລຍະຕົ້ນ</a:t>
            </a:r>
            <a:endParaRPr b="0" lang="en-US" sz="4000" spc="-1" strike="noStrike">
              <a:solidFill>
                <a:srgbClr val="000000"/>
              </a:solidFill>
              <a:latin typeface="Calibri"/>
            </a:endParaRPr>
          </a:p>
        </p:txBody>
      </p:sp>
      <p:sp>
        <p:nvSpPr>
          <p:cNvPr id="179" name="TextBox 7"/>
          <p:cNvSpPr/>
          <p:nvPr/>
        </p:nvSpPr>
        <p:spPr>
          <a:xfrm>
            <a:off x="304920" y="3581280"/>
            <a:ext cx="8686800" cy="35067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Saysettha OT"/>
                <a:ea typeface="Saysettha OT"/>
              </a:rPr>
              <a:t>EC5, </a:t>
            </a:r>
            <a:r>
              <a:rPr b="0" lang="en-GB" sz="2800" spc="-1" strike="noStrike">
                <a:solidFill>
                  <a:srgbClr val="002060"/>
                </a:solidFill>
                <a:latin typeface="Saysettha OT"/>
                <a:cs typeface="Saysettha OT"/>
              </a:rPr>
              <a:t>ມີຄວາມຈໍາເປັນທີ່ຈະຕ້ອງໄດ້ອາທິບາຍ ກ່ຽວກັບແຜນງານການສຶກສາສໍາລັບເດັກໃນໄລຍະຕົ້ນ ຕາມທີ່ໄດ້ແນະນໍາແລ້ວ</a:t>
            </a:r>
            <a:endParaRPr b="0" lang="en-US" sz="2800" spc="-1" strike="noStrike">
              <a:solidFill>
                <a:srgbClr val="000000"/>
              </a:solidFill>
              <a:latin typeface="Calibri"/>
            </a:endParaRPr>
          </a:p>
          <a:p>
            <a:pPr marL="177840" indent="-177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77840" indent="-177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Saysettha OT"/>
                <a:ea typeface="Saysettha OT"/>
              </a:rPr>
              <a:t>EC6, </a:t>
            </a:r>
            <a:r>
              <a:rPr b="0" lang="en-GB" sz="2800" spc="-1" strike="noStrike">
                <a:solidFill>
                  <a:srgbClr val="002060"/>
                </a:solidFill>
                <a:latin typeface="Saysettha OT"/>
                <a:cs typeface="Saysettha OT"/>
              </a:rPr>
              <a:t>ແມ່ນການບັນທຶກຄາດຄະເນຈໍານວນຊົ່ວໂມງທີ່ເດັກໄດ້ເຂົ້າຮຽນຕາມລະບົບການຮຽນ ຫລື ຕາມແຜນງານການສຶກສາສໍາລັບເດັກໃນ </a:t>
            </a:r>
            <a:r>
              <a:rPr b="0" lang="en-GB" sz="2800" spc="-1" strike="noStrike">
                <a:solidFill>
                  <a:srgbClr val="002060"/>
                </a:solidFill>
                <a:latin typeface="Saysettha OT"/>
                <a:ea typeface="Saysettha OT"/>
              </a:rPr>
              <a:t>7 </a:t>
            </a:r>
            <a:r>
              <a:rPr b="0" lang="en-GB" sz="2800" spc="-1" strike="noStrike">
                <a:solidFill>
                  <a:srgbClr val="002060"/>
                </a:solidFill>
                <a:latin typeface="Saysettha OT"/>
                <a:cs typeface="Saysettha OT"/>
              </a:rPr>
              <a:t>ວັນສຸດທ້າຍ</a:t>
            </a:r>
            <a:endParaRPr b="0" lang="en-US" sz="2800" spc="-1" strike="noStrike">
              <a:solidFill>
                <a:srgbClr val="000000"/>
              </a:solidFill>
              <a:latin typeface="Calibri"/>
            </a:endParaRPr>
          </a:p>
          <a:p>
            <a:pPr marL="177840" indent="-177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0" name="Object 5" descr=""/>
          <p:cNvPicPr/>
          <p:nvPr/>
        </p:nvPicPr>
        <p:blipFill>
          <a:blip r:embed="rId1"/>
          <a:stretch/>
        </p:blipFill>
        <p:spPr>
          <a:xfrm>
            <a:off x="311040" y="1517760"/>
            <a:ext cx="7974000" cy="228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61920"/>
            <a:ext cx="89154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Saysettha OT"/>
                <a:cs typeface="Saysettha OT"/>
              </a:rPr>
              <a:t>ຄໍາຖາມກ່ຽວກັບການສະໜັບສະໜູນການຮຽນໄນໃລຍະຕົ້ນ</a:t>
            </a:r>
            <a:endParaRPr b="0" lang="en-US" sz="4000" spc="-1" strike="noStrike">
              <a:solidFill>
                <a:srgbClr val="000000"/>
              </a:solidFill>
              <a:latin typeface="Calibri"/>
            </a:endParaRPr>
          </a:p>
        </p:txBody>
      </p:sp>
      <p:pic>
        <p:nvPicPr>
          <p:cNvPr id="182" name="Object 4" descr=""/>
          <p:cNvPicPr/>
          <p:nvPr/>
        </p:nvPicPr>
        <p:blipFill>
          <a:blip r:embed="rId1"/>
          <a:stretch/>
        </p:blipFill>
        <p:spPr>
          <a:xfrm>
            <a:off x="384120" y="1225440"/>
            <a:ext cx="7845480" cy="5632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Saysettha OT"/>
                <a:cs typeface="Saysettha OT"/>
              </a:rPr>
              <a:t>ການປັບປຸງການພັດທະນາເດັກໃນໄລຍະຕົ້ນ</a:t>
            </a:r>
            <a:endParaRPr b="0" lang="en-US" sz="4000" spc="-1" strike="noStrike">
              <a:solidFill>
                <a:srgbClr val="000000"/>
              </a:solidFill>
              <a:latin typeface="Calibri"/>
            </a:endParaRPr>
          </a:p>
        </p:txBody>
      </p:sp>
      <p:pic>
        <p:nvPicPr>
          <p:cNvPr id="184" name="Object 5" descr=""/>
          <p:cNvPicPr/>
          <p:nvPr/>
        </p:nvPicPr>
        <p:blipFill>
          <a:blip r:embed="rId1"/>
          <a:stretch/>
        </p:blipFill>
        <p:spPr>
          <a:xfrm>
            <a:off x="457200" y="1517760"/>
            <a:ext cx="8210520" cy="51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Saysettha OT"/>
                <a:cs typeface="Saysettha OT"/>
              </a:rPr>
              <a:t>ການປັບປຸງການພັດທະນາເດັກໃນໄລຍະຕົ້ນ </a:t>
            </a:r>
            <a:r>
              <a:rPr b="1" lang="en-US" sz="4400" spc="-1" strike="noStrike">
                <a:solidFill>
                  <a:srgbClr val="ffff00"/>
                </a:solidFill>
                <a:latin typeface="Saysettha OT"/>
                <a:ea typeface="Saysettha OT"/>
              </a:rPr>
              <a:t>(</a:t>
            </a:r>
            <a:r>
              <a:rPr b="1" lang="en-US" sz="4400" spc="-1" strike="noStrike">
                <a:solidFill>
                  <a:srgbClr val="ffff00"/>
                </a:solidFill>
                <a:latin typeface="Saysettha OT"/>
                <a:cs typeface="Saysettha OT"/>
              </a:rPr>
              <a:t>ຕໍ່</a:t>
            </a:r>
            <a:r>
              <a:rPr b="1" lang="en-US" sz="4400" spc="-1" strike="noStrike">
                <a:solidFill>
                  <a:srgbClr val="ffff00"/>
                </a:solidFill>
                <a:latin typeface="Saysettha OT"/>
                <a:ea typeface="Saysettha OT"/>
              </a:rPr>
              <a:t>)</a:t>
            </a:r>
            <a:endParaRPr b="0" lang="en-US" sz="4400" spc="-1" strike="noStrike">
              <a:solidFill>
                <a:srgbClr val="000000"/>
              </a:solidFill>
              <a:latin typeface="Calibri"/>
            </a:endParaRPr>
          </a:p>
        </p:txBody>
      </p:sp>
      <p:sp>
        <p:nvSpPr>
          <p:cNvPr id="186" name="TextBox 4"/>
          <p:cNvSpPr/>
          <p:nvPr/>
        </p:nvSpPr>
        <p:spPr>
          <a:xfrm>
            <a:off x="304920" y="4343400"/>
            <a:ext cx="8458200" cy="13737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Saysettha OT"/>
                <a:cs typeface="Saysettha OT"/>
              </a:rPr>
              <a:t>ຈະຕ້ອງໄດ້ເອົາໃຈໃສ່ສີ່ງເລັກໆນ້ອຽເວລາທີ່ເຮົາຖາມກ່ຽວກັບສີ່ງທີ່ເດັກຫລີ້ນ </a:t>
            </a:r>
            <a:r>
              <a:rPr b="0" lang="en-GB" sz="2800" spc="-1" strike="noStrike">
                <a:solidFill>
                  <a:srgbClr val="002060"/>
                </a:solidFill>
                <a:latin typeface="Saysettha OT"/>
                <a:ea typeface="Saysettha OT"/>
              </a:rPr>
              <a:t>(</a:t>
            </a:r>
            <a:r>
              <a:rPr b="0" lang="en-GB" sz="2800" spc="-1" strike="noStrike">
                <a:solidFill>
                  <a:srgbClr val="002060"/>
                </a:solidFill>
                <a:latin typeface="Saysettha OT"/>
                <a:cs typeface="Saysettha OT"/>
              </a:rPr>
              <a:t>ໃມ້</a:t>
            </a:r>
            <a:r>
              <a:rPr b="0" lang="en-GB" sz="2800" spc="-1" strike="noStrike">
                <a:solidFill>
                  <a:srgbClr val="002060"/>
                </a:solidFill>
                <a:latin typeface="Saysettha OT"/>
                <a:ea typeface="Saysettha OT"/>
              </a:rPr>
              <a:t>, </a:t>
            </a:r>
            <a:r>
              <a:rPr b="0" lang="en-GB" sz="2800" spc="-1" strike="noStrike">
                <a:solidFill>
                  <a:srgbClr val="002060"/>
                </a:solidFill>
                <a:latin typeface="Saysettha OT"/>
                <a:cs typeface="Saysettha OT"/>
              </a:rPr>
              <a:t>ກ້ອນຫີນ</a:t>
            </a:r>
            <a:r>
              <a:rPr b="0" lang="en-GB" sz="2800" spc="-1" strike="noStrike">
                <a:solidFill>
                  <a:srgbClr val="002060"/>
                </a:solidFill>
                <a:latin typeface="Saysettha OT"/>
                <a:ea typeface="Saysettha OT"/>
              </a:rPr>
              <a:t>, </a:t>
            </a:r>
            <a:r>
              <a:rPr b="0" lang="en-GB" sz="2800" spc="-1" strike="noStrike">
                <a:solidFill>
                  <a:srgbClr val="002060"/>
                </a:solidFill>
                <a:latin typeface="Saysettha OT"/>
                <a:cs typeface="Saysettha OT"/>
              </a:rPr>
              <a:t>ເປືອກຫອຍ ຫລື ໃບໄມ້</a:t>
            </a:r>
            <a:r>
              <a:rPr b="0" lang="en-GB" sz="2800" spc="-1" strike="noStrike">
                <a:solidFill>
                  <a:srgbClr val="002060"/>
                </a:solidFill>
                <a:latin typeface="Saysettha OT"/>
                <a:ea typeface="Saysettha OT"/>
              </a:rPr>
              <a:t>)</a:t>
            </a:r>
            <a:endParaRPr b="0" lang="en-US" sz="2800" spc="-1" strike="noStrike">
              <a:solidFill>
                <a:srgbClr val="000000"/>
              </a:solidFill>
              <a:latin typeface="Calibri"/>
            </a:endParaRPr>
          </a:p>
        </p:txBody>
      </p:sp>
      <p:pic>
        <p:nvPicPr>
          <p:cNvPr id="187" name="Object 5" descr=""/>
          <p:cNvPicPr/>
          <p:nvPr/>
        </p:nvPicPr>
        <p:blipFill>
          <a:blip r:embed="rId1"/>
          <a:stretch/>
        </p:blipFill>
        <p:spPr>
          <a:xfrm>
            <a:off x="533520" y="1371600"/>
            <a:ext cx="784836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Saysettha OT"/>
                <a:cs typeface="Saysettha OT"/>
              </a:rPr>
              <a:t>ການປັບປຸງການພັດທະນາເດັກໃນໄລຍະຕົ້ນ </a:t>
            </a:r>
            <a:r>
              <a:rPr b="1" lang="en-US" sz="4400" spc="-1" strike="noStrike">
                <a:solidFill>
                  <a:srgbClr val="ffff00"/>
                </a:solidFill>
                <a:latin typeface="Saysettha OT"/>
                <a:ea typeface="Saysettha OT"/>
              </a:rPr>
              <a:t>(</a:t>
            </a:r>
            <a:r>
              <a:rPr b="1" lang="en-US" sz="4400" spc="-1" strike="noStrike">
                <a:solidFill>
                  <a:srgbClr val="ffff00"/>
                </a:solidFill>
                <a:latin typeface="Saysettha OT"/>
                <a:cs typeface="Saysettha OT"/>
              </a:rPr>
              <a:t>ຕໍ່</a:t>
            </a:r>
            <a:r>
              <a:rPr b="1" lang="en-US" sz="4400" spc="-1" strike="noStrike">
                <a:solidFill>
                  <a:srgbClr val="ffff00"/>
                </a:solidFill>
                <a:latin typeface="Saysettha OT"/>
                <a:ea typeface="Saysettha OT"/>
              </a:rPr>
              <a:t>)</a:t>
            </a:r>
            <a:endParaRPr b="0" lang="en-US" sz="4400" spc="-1" strike="noStrike">
              <a:solidFill>
                <a:srgbClr val="000000"/>
              </a:solidFill>
              <a:latin typeface="Calibri"/>
            </a:endParaRPr>
          </a:p>
        </p:txBody>
      </p:sp>
      <p:sp>
        <p:nvSpPr>
          <p:cNvPr id="189" name="TextBox 5"/>
          <p:cNvSpPr/>
          <p:nvPr/>
        </p:nvSpPr>
        <p:spPr>
          <a:xfrm>
            <a:off x="304920" y="4343400"/>
            <a:ext cx="8458200" cy="9471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Saysettha OT"/>
                <a:cs typeface="Saysettha OT"/>
              </a:rPr>
              <a:t>ໝາຍວົງມົນໃສ່ບ່ອນທີ່ຜູ້ຕອບຄໍາຖາມຕອບ</a:t>
            </a:r>
            <a:r>
              <a:rPr b="0" lang="en-GB" sz="2800" spc="-1" strike="noStrike">
                <a:solidFill>
                  <a:srgbClr val="002060"/>
                </a:solidFill>
                <a:latin typeface="Saysettha OT"/>
                <a:ea typeface="Saysettha OT"/>
              </a:rPr>
              <a:t>. </a:t>
            </a:r>
            <a:r>
              <a:rPr b="0" lang="en-GB" sz="2800" spc="-1" strike="noStrike">
                <a:solidFill>
                  <a:srgbClr val="002060"/>
                </a:solidFill>
                <a:latin typeface="Saysettha OT"/>
                <a:cs typeface="Saysettha OT"/>
              </a:rPr>
              <a:t>ບໍ່ຕ້ອງສົນໃຈເຖິງສາເຫດຂອງມັນວ່າຍ້ອນຫັຍງ</a:t>
            </a:r>
            <a:endParaRPr b="0" lang="en-US" sz="2800" spc="-1" strike="noStrike">
              <a:solidFill>
                <a:srgbClr val="000000"/>
              </a:solidFill>
              <a:latin typeface="Calibri"/>
            </a:endParaRPr>
          </a:p>
        </p:txBody>
      </p:sp>
      <p:pic>
        <p:nvPicPr>
          <p:cNvPr id="190" name="Object 5" descr=""/>
          <p:cNvPicPr/>
          <p:nvPr/>
        </p:nvPicPr>
        <p:blipFill>
          <a:blip r:embed="rId1"/>
          <a:stretch/>
        </p:blipFill>
        <p:spPr>
          <a:xfrm>
            <a:off x="384120" y="1517760"/>
            <a:ext cx="7974000" cy="3200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Saysettha OT"/>
                <a:cs typeface="Saysettha OT"/>
              </a:rPr>
              <a:t>ການປັບປຸງການພັດທະນາເດັກໃນໄລຍະຕົ້ນ </a:t>
            </a:r>
            <a:r>
              <a:rPr b="1" lang="en-US" sz="4400" spc="-1" strike="noStrike">
                <a:solidFill>
                  <a:srgbClr val="ffff00"/>
                </a:solidFill>
                <a:latin typeface="Saysettha OT"/>
                <a:ea typeface="Saysettha OT"/>
              </a:rPr>
              <a:t>(</a:t>
            </a:r>
            <a:r>
              <a:rPr b="1" lang="en-US" sz="4400" spc="-1" strike="noStrike">
                <a:solidFill>
                  <a:srgbClr val="ffff00"/>
                </a:solidFill>
                <a:latin typeface="Saysettha OT"/>
                <a:cs typeface="Saysettha OT"/>
              </a:rPr>
              <a:t>ຕໍ່</a:t>
            </a:r>
            <a:r>
              <a:rPr b="1" lang="en-US" sz="4400" spc="-1" strike="noStrike">
                <a:solidFill>
                  <a:srgbClr val="ffff00"/>
                </a:solidFill>
                <a:latin typeface="Saysettha OT"/>
                <a:ea typeface="Saysettha OT"/>
              </a:rPr>
              <a:t>)</a:t>
            </a:r>
            <a:endParaRPr b="0" lang="en-US" sz="4400" spc="-1" strike="noStrike">
              <a:solidFill>
                <a:srgbClr val="000000"/>
              </a:solidFill>
              <a:latin typeface="Calibri"/>
            </a:endParaRPr>
          </a:p>
        </p:txBody>
      </p:sp>
      <p:sp>
        <p:nvSpPr>
          <p:cNvPr id="192" name="TextBox 4"/>
          <p:cNvSpPr/>
          <p:nvPr/>
        </p:nvSpPr>
        <p:spPr>
          <a:xfrm>
            <a:off x="304920" y="5105520"/>
            <a:ext cx="8458200" cy="9471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Saysettha OT"/>
                <a:cs typeface="Saysettha OT"/>
              </a:rPr>
              <a:t>ໝາຍວົງມົນໃສ່ບ່ອນທີ່ຜູ້ຕອບຄໍາຖາມຕອບ</a:t>
            </a:r>
            <a:r>
              <a:rPr b="0" lang="en-GB" sz="2800" spc="-1" strike="noStrike">
                <a:solidFill>
                  <a:srgbClr val="002060"/>
                </a:solidFill>
                <a:latin typeface="Saysettha OT"/>
                <a:ea typeface="Saysettha OT"/>
              </a:rPr>
              <a:t>. </a:t>
            </a:r>
            <a:r>
              <a:rPr b="0" lang="en-GB" sz="2800" spc="-1" strike="noStrike">
                <a:solidFill>
                  <a:srgbClr val="002060"/>
                </a:solidFill>
                <a:latin typeface="Saysettha OT"/>
                <a:cs typeface="Saysettha OT"/>
              </a:rPr>
              <a:t>ບໍ່ຕ້ອງສົນໃຈເຖິງສາເຫດຂອງມັນວ່າຍ້ອນຫັຍງ</a:t>
            </a:r>
            <a:endParaRPr b="0" lang="en-US" sz="2800" spc="-1" strike="noStrike">
              <a:solidFill>
                <a:srgbClr val="000000"/>
              </a:solidFill>
              <a:latin typeface="Calibri"/>
            </a:endParaRPr>
          </a:p>
        </p:txBody>
      </p:sp>
      <p:pic>
        <p:nvPicPr>
          <p:cNvPr id="193" name="Object 5" descr=""/>
          <p:cNvPicPr/>
          <p:nvPr/>
        </p:nvPicPr>
        <p:blipFill>
          <a:blip r:embed="rId1"/>
          <a:stretch/>
        </p:blipFill>
        <p:spPr>
          <a:xfrm>
            <a:off x="533520" y="1219320"/>
            <a:ext cx="7467480" cy="373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S4 Survey Design Workshop</a:t>
            </a:r>
            <a:endParaRPr b="0" lang="en-US" sz="1200" spc="-1" strike="noStrike">
              <a:solidFill>
                <a:srgbClr val="000000"/>
              </a:solidFill>
              <a:latin typeface="Calibri"/>
            </a:endParaRPr>
          </a:p>
        </p:txBody>
      </p:sp>
      <p:grpSp>
        <p:nvGrpSpPr>
          <p:cNvPr id="95" name="Group 14"/>
          <p:cNvGrpSpPr/>
          <p:nvPr/>
        </p:nvGrpSpPr>
        <p:grpSpPr>
          <a:xfrm>
            <a:off x="152280" y="304920"/>
            <a:ext cx="9172800" cy="6553080"/>
            <a:chOff x="152280" y="304920"/>
            <a:chExt cx="9172800" cy="6553080"/>
          </a:xfrm>
        </p:grpSpPr>
        <p:sp>
          <p:nvSpPr>
            <p:cNvPr id="96" name="Text Box 4"/>
            <p:cNvSpPr/>
            <p:nvPr/>
          </p:nvSpPr>
          <p:spPr>
            <a:xfrm>
              <a:off x="380880" y="304920"/>
              <a:ext cx="1828800" cy="67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b65ab"/>
                  </a:solidFill>
                  <a:latin typeface="Saysettha Lao"/>
                </a:rPr>
                <a:t>¡¾­-¦¿-Í¸© ©ñ©-¦½-­óÏ¾¨</a:t>
              </a:r>
              <a:endParaRPr b="0" lang="en-US" sz="1000" spc="-1" strike="noStrike">
                <a:solidFill>
                  <a:srgbClr val="000000"/>
                </a:solidFill>
                <a:latin typeface="Calibri"/>
              </a:endParaRPr>
            </a:p>
            <a:p>
              <a:pP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b65ab"/>
                  </a:solidFill>
                  <a:latin typeface="Saysettha Lao"/>
                </a:rPr>
                <a:t>¦ñ¤£ö´-ì¾¸ </a:t>
              </a:r>
              <a:r>
                <a:rPr b="1" lang="en-GB" sz="1000" spc="-1" strike="noStrike">
                  <a:solidFill>
                    <a:srgbClr val="2b65ab"/>
                  </a:solidFill>
                  <a:latin typeface="Arial"/>
                </a:rPr>
                <a:t>LSIS(MICS/DHS  </a:t>
              </a:r>
              <a:endParaRPr b="0" lang="en-US" sz="1000" spc="-1" strike="noStrike">
                <a:solidFill>
                  <a:srgbClr val="000000"/>
                </a:solidFill>
                <a:latin typeface="Calibri"/>
              </a:endParaRPr>
            </a:p>
          </p:txBody>
        </p:sp>
        <p:pic>
          <p:nvPicPr>
            <p:cNvPr id="97" name="Picture 5" descr=""/>
            <p:cNvPicPr/>
            <p:nvPr/>
          </p:nvPicPr>
          <p:blipFill>
            <a:blip r:embed="rId1"/>
            <a:stretch/>
          </p:blipFill>
          <p:spPr>
            <a:xfrm>
              <a:off x="3047760" y="457200"/>
              <a:ext cx="5533920" cy="533160"/>
            </a:xfrm>
            <a:prstGeom prst="rect">
              <a:avLst/>
            </a:prstGeom>
            <a:ln w="0">
              <a:noFill/>
            </a:ln>
          </p:spPr>
        </p:pic>
        <p:pic>
          <p:nvPicPr>
            <p:cNvPr id="98" name="Picture 8" descr=""/>
            <p:cNvPicPr/>
            <p:nvPr/>
          </p:nvPicPr>
          <p:blipFill>
            <a:blip r:embed="rId2"/>
            <a:stretch/>
          </p:blipFill>
          <p:spPr>
            <a:xfrm>
              <a:off x="152280" y="990720"/>
              <a:ext cx="9172800" cy="5867280"/>
            </a:xfrm>
            <a:prstGeom prst="rect">
              <a:avLst/>
            </a:prstGeom>
            <a:ln w="0">
              <a:noFill/>
            </a:ln>
          </p:spPr>
        </p:pic>
      </p:grpSp>
      <p:grpSp>
        <p:nvGrpSpPr>
          <p:cNvPr id="99" name="Text Box 5"/>
          <p:cNvGrpSpPr/>
          <p:nvPr/>
        </p:nvGrpSpPr>
        <p:grpSpPr>
          <a:xfrm>
            <a:off x="4632480" y="4559400"/>
            <a:ext cx="4340160" cy="2596320"/>
            <a:chOff x="4632480" y="4559400"/>
            <a:chExt cx="4340160" cy="2596320"/>
          </a:xfrm>
        </p:grpSpPr>
        <p:pic>
          <p:nvPicPr>
            <p:cNvPr id="100" name="Text Box 5" descr=""/>
            <p:cNvPicPr/>
            <p:nvPr/>
          </p:nvPicPr>
          <p:blipFill>
            <a:blip r:embed="rId3"/>
            <a:stretch/>
          </p:blipFill>
          <p:spPr>
            <a:xfrm>
              <a:off x="4632480" y="4559400"/>
              <a:ext cx="4340160" cy="1950840"/>
            </a:xfrm>
            <a:prstGeom prst="rect">
              <a:avLst/>
            </a:prstGeom>
            <a:ln w="0">
              <a:noFill/>
            </a:ln>
          </p:spPr>
        </p:pic>
        <p:sp>
          <p:nvSpPr>
            <p:cNvPr id="101" name=""/>
            <p:cNvSpPr/>
            <p:nvPr/>
          </p:nvSpPr>
          <p:spPr>
            <a:xfrm>
              <a:off x="4800600" y="4724280"/>
              <a:ext cx="4114800" cy="24314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125"/>
                </a:spcBef>
                <a:buClr>
                  <a:srgbClr val="ffffff"/>
                </a:buClr>
                <a:buFont typeface="Saysettha La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aysettha Lao"/>
                </a:rPr>
                <a:t>¡¾­</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ñ©¡¾</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ñ®Á´È¢º¤À©ñ¡ê†´óº¾¨÷ ì÷È´ 5 ¯ó. «É¾Á´ÈÀ¦¨§ó¸ò© ¹ìõµøÈ®Èº</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Ã©Îˆ¤, Ã¹É¦¿²¾©°øÉ©øÁìÀ©ñ¡ê†À¯ñ</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ªí</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ªð</a:t>
              </a:r>
              <a:endParaRPr b="0" lang="en-US" sz="1800" spc="-1" strike="noStrike">
                <a:solidFill>
                  <a:srgbClr val="000000"/>
                </a:solidFill>
                <a:latin typeface="Calibri"/>
              </a:endParaRPr>
            </a:p>
            <a:p>
              <a:pPr marL="177840" indent="-177840">
                <a:lnSpc>
                  <a:spcPct val="100000"/>
                </a:lnSpc>
                <a:spcBef>
                  <a:spcPts val="1125"/>
                </a:spcBef>
                <a:buClr>
                  <a:srgbClr val="ffffff"/>
                </a:buClr>
                <a:buFont typeface="Saysettha La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aysettha Lao"/>
                </a:rPr>
                <a:t>£¸</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Á´È­Á®®¦º®«¾´Î‡¤¦¿ìñ®À©ñ¡ì÷È´ 5 ¯ó ÁªÈì½£ö­</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ê†µøÈÃ</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ö¸À»õº­</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9"/>
                                        </p:tgtEl>
                                        <p:attrNameLst>
                                          <p:attrName>style.visibility</p:attrName>
                                        </p:attrNameLst>
                                      </p:cBhvr>
                                      <p:to>
                                        <p:strVal val="visible"/>
                                      </p:to>
                                    </p:set>
                                    <p:animEffect filter="wipe(left)" transition="in">
                                      <p:cBhvr additive="repl">
                                        <p:cTn id="7"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762120"/>
            <a:ext cx="7772400" cy="2340000"/>
          </a:xfrm>
          <a:prstGeom prst="rect">
            <a:avLst/>
          </a:prstGeom>
          <a:noFill/>
          <a:ln w="0">
            <a:noFill/>
          </a:ln>
        </p:spPr>
        <p:txBody>
          <a:bodyPr anchor="ctr">
            <a:noAutofit/>
          </a:bodyPr>
          <a:p>
            <a:pPr indent="0" algn="ctr">
              <a:lnSpc>
                <a:spcPct val="13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3600" spc="-1" strike="noStrike">
                <a:solidFill>
                  <a:srgbClr val="c00000"/>
                </a:solidFill>
                <a:latin typeface="Saysettha OT"/>
                <a:cs typeface="Saysettha OT"/>
              </a:rPr>
              <a:t>ການສຳຫຼວດດັດສະນີໝາຍສັງຄົມລາວ</a:t>
            </a:r>
            <a:r>
              <a:rPr b="0" lang="en-US" sz="3600" spc="-1" strike="noStrike">
                <a:solidFill>
                  <a:srgbClr val="c00000"/>
                </a:solidFill>
                <a:latin typeface="Saysettha OT"/>
                <a:ea typeface="Saysettha OT"/>
              </a:rPr>
              <a:t> </a:t>
            </a:r>
            <a:r>
              <a:rPr b="0" lang="en-US" sz="3600" spc="-1" strike="noStrike">
                <a:solidFill>
                  <a:srgbClr val="c00000"/>
                </a:solidFill>
                <a:latin typeface="Saysettha OT"/>
                <a:ea typeface="Saysettha OT"/>
              </a:rPr>
              <a:t>(LSIS)</a:t>
            </a:r>
            <a:br>
              <a:rPr sz="3200"/>
            </a:br>
            <a:r>
              <a:rPr b="0" lang="lo-LA" sz="3200" spc="-1" strike="noStrike">
                <a:solidFill>
                  <a:srgbClr val="c00000"/>
                </a:solidFill>
                <a:latin typeface="Saysettha OT"/>
                <a:cs typeface="Saysettha OT"/>
              </a:rPr>
              <a:t>ການ</a:t>
            </a:r>
            <a:r>
              <a:rPr b="0" lang="lo-LA" sz="2900" spc="-1" strike="noStrike">
                <a:solidFill>
                  <a:srgbClr val="c00000"/>
                </a:solidFill>
                <a:latin typeface="Saysettha OT"/>
                <a:cs typeface="Saysettha OT"/>
              </a:rPr>
              <a:t>ອົບຮົມນັກເດີນສຳຫຼວດ</a:t>
            </a:r>
            <a:endParaRPr b="0" lang="en-US" sz="2900" spc="-1" strike="noStrike">
              <a:solidFill>
                <a:srgbClr val="000000"/>
              </a:solidFill>
              <a:latin typeface="Calibri"/>
            </a:endParaRPr>
          </a:p>
        </p:txBody>
      </p:sp>
      <p:sp>
        <p:nvSpPr>
          <p:cNvPr id="195" name="Rectangle 17"/>
          <p:cNvSpPr/>
          <p:nvPr/>
        </p:nvSpPr>
        <p:spPr>
          <a:xfrm>
            <a:off x="457200" y="3352680"/>
            <a:ext cx="8229600" cy="76320"/>
          </a:xfrm>
          <a:prstGeom prst="rect">
            <a:avLst/>
          </a:prstGeom>
          <a:solidFill>
            <a:srgbClr val="339966"/>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TextBox 7"/>
          <p:cNvSpPr/>
          <p:nvPr/>
        </p:nvSpPr>
        <p:spPr>
          <a:xfrm>
            <a:off x="838080" y="3919680"/>
            <a:ext cx="8001000" cy="15991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3600" spc="-1" strike="noStrike">
                <a:solidFill>
                  <a:srgbClr val="002060"/>
                </a:solidFill>
                <a:latin typeface="Saysettha OT"/>
                <a:cs typeface="Saysettha OT"/>
              </a:rPr>
              <a:t>ແບບສອບຖາມສຳລັບເດັກອາຍຸຕ່ຳກວ່າ</a:t>
            </a:r>
            <a:r>
              <a:rPr b="0" lang="lo-LA" sz="1000" spc="-1" strike="noStrike">
                <a:solidFill>
                  <a:srgbClr val="002060"/>
                </a:solidFill>
                <a:latin typeface="Saysettha OT"/>
                <a:ea typeface="Saysettha OT"/>
              </a:rPr>
              <a:t> </a:t>
            </a:r>
            <a:r>
              <a:rPr b="0" lang="lo-LA" sz="3600" spc="-1" strike="noStrike">
                <a:solidFill>
                  <a:srgbClr val="002060"/>
                </a:solidFill>
                <a:latin typeface="Saysettha OT"/>
                <a:ea typeface="Saysettha OT"/>
              </a:rPr>
              <a:t>5</a:t>
            </a:r>
            <a:r>
              <a:rPr b="0" lang="lo-LA" sz="900" spc="-1" strike="noStrike">
                <a:solidFill>
                  <a:srgbClr val="002060"/>
                </a:solidFill>
                <a:latin typeface="Saysettha OT"/>
                <a:ea typeface="Saysettha OT"/>
              </a:rPr>
              <a:t> </a:t>
            </a:r>
            <a:r>
              <a:rPr b="0" lang="lo-LA" sz="3600" spc="-1" strike="noStrike">
                <a:solidFill>
                  <a:srgbClr val="002060"/>
                </a:solidFill>
                <a:latin typeface="Saysettha OT"/>
                <a:cs typeface="Saysettha OT"/>
              </a:rPr>
              <a:t>ປີ</a:t>
            </a:r>
            <a:r>
              <a:rPr b="0" lang="en-US" sz="3600" spc="-1" strike="noStrike">
                <a:solidFill>
                  <a:srgbClr val="002060"/>
                </a:solidFill>
                <a:latin typeface="Saysettha OT"/>
                <a:ea typeface="Saysettha OT"/>
              </a:rPr>
              <a:t>:</a:t>
            </a:r>
            <a:endParaRPr b="0" lang="en-US" sz="3600" spc="-1" strike="noStrike">
              <a:solidFill>
                <a:srgbClr val="000000"/>
              </a:solidFill>
              <a:latin typeface="Calibri"/>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000" spc="-1" strike="noStrike">
                <a:solidFill>
                  <a:srgbClr val="002060"/>
                </a:solidFill>
                <a:latin typeface="Saysettha OT"/>
                <a:cs typeface="Saysettha OT"/>
              </a:rPr>
              <a:t>ການລ້ຽງລູກດ້ວຍນົມແມ່</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42640" y="274320"/>
            <a:ext cx="7791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aysettha OT"/>
                <a:cs typeface="Saysettha OT"/>
              </a:rPr>
              <a:t>ຂໍ້ສະເໜີແນະໃນການລ້ຽງລູກ</a:t>
            </a:r>
            <a:r>
              <a:rPr b="1" lang="lo-LA" sz="3600" spc="-1" strike="noStrike">
                <a:solidFill>
                  <a:srgbClr val="000000"/>
                </a:solidFill>
                <a:latin typeface="Saysettha OT"/>
                <a:cs typeface="Saysettha OT"/>
              </a:rPr>
              <a:t>ຂອງ </a:t>
            </a:r>
            <a:r>
              <a:rPr b="1" lang="en-US" sz="3600" spc="-1" strike="noStrike">
                <a:solidFill>
                  <a:srgbClr val="000000"/>
                </a:solidFill>
                <a:latin typeface="Saysettha OT"/>
                <a:ea typeface="Saysettha OT"/>
              </a:rPr>
              <a:t>WHO/UNICEF</a:t>
            </a:r>
            <a:endParaRPr b="0" lang="en-US" sz="3600" spc="-1" strike="noStrike">
              <a:solidFill>
                <a:srgbClr val="000000"/>
              </a:solidFill>
              <a:latin typeface="Calibri"/>
            </a:endParaRPr>
          </a:p>
        </p:txBody>
      </p:sp>
      <p:sp>
        <p:nvSpPr>
          <p:cNvPr id="198" name=""/>
          <p:cNvSpPr txBox="1"/>
          <p:nvPr/>
        </p:nvSpPr>
        <p:spPr>
          <a:xfrm>
            <a:off x="457200" y="1752120"/>
            <a:ext cx="8229600" cy="4800600"/>
          </a:xfrm>
          <a:prstGeom prst="rect">
            <a:avLst/>
          </a:prstGeom>
          <a:noFill/>
          <a:ln w="0">
            <a:noFill/>
          </a:ln>
        </p:spPr>
        <p:txBody>
          <a:bodyPr anchor="t">
            <a:normAutofit fontScale="92000"/>
          </a:bodyPr>
          <a:p>
            <a:pPr marL="250920" indent="-25092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Saysettha OT"/>
                <a:cs typeface="Saysettha OT"/>
              </a:rPr>
              <a:t>ການລ້ຽງລູກດ້ວຍນົມແມ່ພຽງຢ່າງດຽວ</a:t>
            </a:r>
            <a:r>
              <a:rPr b="1" i="1" lang="lo-LA" sz="2600" spc="-1" strike="noStrike">
                <a:solidFill>
                  <a:srgbClr val="000000"/>
                </a:solidFill>
                <a:latin typeface="Saysettha OT"/>
                <a:ea typeface="Saysettha OT"/>
              </a:rPr>
              <a:t> </a:t>
            </a:r>
            <a:r>
              <a:rPr b="1" lang="en-US" sz="2600" spc="-1" strike="noStrike">
                <a:solidFill>
                  <a:srgbClr val="000000"/>
                </a:solidFill>
                <a:latin typeface="Saysettha OT"/>
                <a:cs typeface="Saysettha OT"/>
              </a:rPr>
              <a:t>ສຳລັບ </a:t>
            </a:r>
            <a:r>
              <a:rPr b="1" i="1" lang="en-US" sz="2600" spc="-1" strike="noStrike">
                <a:solidFill>
                  <a:srgbClr val="000000"/>
                </a:solidFill>
                <a:latin typeface="Saysettha OT"/>
                <a:ea typeface="Saysettha OT"/>
              </a:rPr>
              <a:t>6 </a:t>
            </a:r>
            <a:r>
              <a:rPr b="1" i="1" lang="en-US" sz="2600" spc="-1" strike="noStrike">
                <a:solidFill>
                  <a:srgbClr val="000000"/>
                </a:solidFill>
                <a:latin typeface="Saysettha OT"/>
                <a:cs typeface="Saysettha OT"/>
              </a:rPr>
              <a:t>ເດືອນທຳອິດ</a:t>
            </a:r>
            <a:endParaRPr b="0" lang="en-US" sz="2600" spc="-1" strike="noStrike">
              <a:solidFill>
                <a:srgbClr val="000000"/>
              </a:solidFill>
              <a:latin typeface="Calibri"/>
            </a:endParaRPr>
          </a:p>
          <a:p>
            <a:pPr marL="250920" indent="-250920">
              <a:lnSpc>
                <a:spcPct val="12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Saysettha OT"/>
                <a:cs typeface="Saysettha OT"/>
              </a:rPr>
              <a:t>ສືບຕໍ່ </a:t>
            </a:r>
            <a:r>
              <a:rPr b="1" lang="en-US" sz="2600" spc="-1" strike="noStrike">
                <a:solidFill>
                  <a:srgbClr val="000000"/>
                </a:solidFill>
                <a:latin typeface="Saysettha OT"/>
                <a:cs typeface="Saysettha OT"/>
              </a:rPr>
              <a:t>ລ້ຽງລູກດ້ວຍນົມແມ່ຈົນຮອດອາຍຸ </a:t>
            </a:r>
            <a:r>
              <a:rPr b="1" i="1" lang="en-US" sz="2600" spc="-1" strike="noStrike">
                <a:solidFill>
                  <a:srgbClr val="000000"/>
                </a:solidFill>
                <a:latin typeface="Saysettha OT"/>
                <a:ea typeface="Saysettha OT"/>
              </a:rPr>
              <a:t>2 </a:t>
            </a:r>
            <a:r>
              <a:rPr b="1" i="1" lang="en-US" sz="2600" spc="-1" strike="noStrike">
                <a:solidFill>
                  <a:srgbClr val="000000"/>
                </a:solidFill>
                <a:latin typeface="Saysettha OT"/>
                <a:cs typeface="Saysettha OT"/>
              </a:rPr>
              <a:t>ປີ </a:t>
            </a:r>
            <a:r>
              <a:rPr b="1" lang="en-US" sz="2600" spc="-1" strike="noStrike">
                <a:solidFill>
                  <a:srgbClr val="000000"/>
                </a:solidFill>
                <a:latin typeface="Saysettha OT"/>
                <a:cs typeface="Saysettha OT"/>
              </a:rPr>
              <a:t>ແລະ ສູງກວ່າ</a:t>
            </a:r>
            <a:endParaRPr b="0" lang="en-US" sz="2600" spc="-1" strike="noStrike">
              <a:solidFill>
                <a:srgbClr val="000000"/>
              </a:solidFill>
              <a:latin typeface="Calibri"/>
            </a:endParaRPr>
          </a:p>
          <a:p>
            <a:pPr marL="250920" indent="-250920">
              <a:lnSpc>
                <a:spcPct val="12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aysettha OT"/>
                <a:cs typeface="Saysettha OT"/>
              </a:rPr>
              <a:t>ເລີ່ມໃຫ້ອາຫານເສີມ ທີ່ປອດໄພ</a:t>
            </a:r>
            <a:r>
              <a:rPr b="1" lang="en-US" sz="2600" spc="-1" strike="noStrike">
                <a:solidFill>
                  <a:srgbClr val="000000"/>
                </a:solidFill>
                <a:latin typeface="Saysettha OT"/>
                <a:ea typeface="Saysettha OT"/>
              </a:rPr>
              <a:t>, </a:t>
            </a:r>
            <a:r>
              <a:rPr b="1" lang="en-US" sz="2600" spc="-1" strike="noStrike">
                <a:solidFill>
                  <a:srgbClr val="000000"/>
                </a:solidFill>
                <a:latin typeface="Saysettha OT"/>
                <a:cs typeface="Saysettha OT"/>
              </a:rPr>
              <a:t>ເໝາະສົມ</a:t>
            </a:r>
            <a:r>
              <a:rPr b="1" lang="lo-LA" sz="2600" spc="-1" strike="noStrike">
                <a:solidFill>
                  <a:srgbClr val="000000"/>
                </a:solidFill>
                <a:latin typeface="Saysettha OT"/>
                <a:ea typeface="Saysettha OT"/>
              </a:rPr>
              <a:t> </a:t>
            </a:r>
            <a:r>
              <a:rPr b="1" lang="en-US" sz="2600" spc="-1" strike="noStrike">
                <a:solidFill>
                  <a:srgbClr val="000000"/>
                </a:solidFill>
                <a:latin typeface="Saysettha OT"/>
                <a:cs typeface="Saysettha OT"/>
              </a:rPr>
              <a:t>ແລະ</a:t>
            </a:r>
            <a:r>
              <a:rPr b="1" lang="lo-LA" sz="2600" spc="-1" strike="noStrike">
                <a:solidFill>
                  <a:srgbClr val="000000"/>
                </a:solidFill>
                <a:latin typeface="Saysettha OT"/>
                <a:ea typeface="Saysettha OT"/>
              </a:rPr>
              <a:t> </a:t>
            </a:r>
            <a:r>
              <a:rPr b="1" lang="en-US" sz="2600" spc="-1" strike="noStrike">
                <a:solidFill>
                  <a:srgbClr val="000000"/>
                </a:solidFill>
                <a:latin typeface="Saysettha OT"/>
                <a:cs typeface="Saysettha OT"/>
              </a:rPr>
              <a:t>ພຽງພໍ ເມື່ອເດັກອາຍຸ ໄດ້ </a:t>
            </a:r>
            <a:r>
              <a:rPr b="1" lang="en-US" sz="2600" spc="-1" strike="noStrike">
                <a:solidFill>
                  <a:srgbClr val="000000"/>
                </a:solidFill>
                <a:latin typeface="Saysettha OT"/>
                <a:ea typeface="Saysettha OT"/>
              </a:rPr>
              <a:t>6 </a:t>
            </a:r>
            <a:r>
              <a:rPr b="1" lang="en-US" sz="2600" spc="-1" strike="noStrike">
                <a:solidFill>
                  <a:srgbClr val="000000"/>
                </a:solidFill>
                <a:latin typeface="Saysettha OT"/>
                <a:cs typeface="Saysettha OT"/>
              </a:rPr>
              <a:t>ເດືອນ</a:t>
            </a:r>
            <a:endParaRPr b="0" lang="en-US" sz="2600" spc="-1" strike="noStrike">
              <a:solidFill>
                <a:srgbClr val="000000"/>
              </a:solidFill>
              <a:latin typeface="Calibri"/>
            </a:endParaRPr>
          </a:p>
          <a:p>
            <a:pPr marL="250920" indent="-250920">
              <a:lnSpc>
                <a:spcPct val="12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Saysettha OT"/>
                <a:cs typeface="Saysettha OT"/>
              </a:rPr>
              <a:t>ຄວາມຖີ່ </a:t>
            </a:r>
            <a:r>
              <a:rPr b="1" lang="lo-LA" sz="2600" spc="-1" strike="noStrike">
                <a:solidFill>
                  <a:srgbClr val="000000"/>
                </a:solidFill>
                <a:latin typeface="Saysettha OT"/>
                <a:cs typeface="Saysettha OT"/>
              </a:rPr>
              <a:t>ໃນການໃຫ້ອາຫານເສີມ</a:t>
            </a:r>
            <a:r>
              <a:rPr b="1" lang="en-US" sz="2600" spc="-1" strike="noStrike">
                <a:solidFill>
                  <a:srgbClr val="000000"/>
                </a:solidFill>
                <a:latin typeface="Saysettha OT"/>
                <a:ea typeface="Saysettha OT"/>
              </a:rPr>
              <a:t>:</a:t>
            </a:r>
            <a:endParaRPr b="0" lang="en-US" sz="2600" spc="-1" strike="noStrike">
              <a:solidFill>
                <a:srgbClr val="000000"/>
              </a:solidFill>
              <a:latin typeface="Calibri"/>
            </a:endParaRPr>
          </a:p>
          <a:p>
            <a:pPr lvl="1" marL="588240" indent="-250920">
              <a:lnSpc>
                <a:spcPct val="120000"/>
              </a:lnSpc>
              <a:spcBef>
                <a:spcPts val="1312"/>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o-LA" sz="2100" spc="-1" strike="noStrike">
                <a:solidFill>
                  <a:srgbClr val="000000"/>
                </a:solidFill>
                <a:latin typeface="Saysettha OT"/>
                <a:cs typeface="Saysettha OT"/>
              </a:rPr>
              <a:t>ລ້ຽງດ້ວຍ</a:t>
            </a:r>
            <a:r>
              <a:rPr b="1" lang="en-US" sz="2100" spc="-1" strike="noStrike">
                <a:solidFill>
                  <a:srgbClr val="000000"/>
                </a:solidFill>
                <a:latin typeface="Saysettha OT"/>
                <a:cs typeface="Saysettha OT"/>
              </a:rPr>
              <a:t>ນົມແມ່</a:t>
            </a:r>
            <a:r>
              <a:rPr b="1" lang="en-US" sz="2100" spc="-1" strike="noStrike">
                <a:solidFill>
                  <a:srgbClr val="000000"/>
                </a:solidFill>
                <a:latin typeface="Saysettha OT"/>
                <a:ea typeface="Saysettha OT"/>
              </a:rPr>
              <a:t>: 2 </a:t>
            </a:r>
            <a:r>
              <a:rPr b="1" lang="en-US" sz="2100" spc="-1" strike="noStrike">
                <a:solidFill>
                  <a:srgbClr val="000000"/>
                </a:solidFill>
                <a:latin typeface="Saysettha OT"/>
                <a:cs typeface="Saysettha OT"/>
              </a:rPr>
              <a:t>ເທື່ອ ຕໍ່ມື້ ສຳລັບ ເດັກອາຍຸ </a:t>
            </a:r>
            <a:r>
              <a:rPr b="1" lang="en-US" sz="2100" spc="-1" strike="noStrike">
                <a:solidFill>
                  <a:srgbClr val="000000"/>
                </a:solidFill>
                <a:latin typeface="Saysettha OT"/>
                <a:ea typeface="Saysettha OT"/>
              </a:rPr>
              <a:t>6-8 </a:t>
            </a:r>
            <a:r>
              <a:rPr b="1" lang="en-US" sz="2100" spc="-1" strike="noStrike">
                <a:solidFill>
                  <a:srgbClr val="000000"/>
                </a:solidFill>
                <a:latin typeface="Saysettha OT"/>
                <a:cs typeface="Saysettha OT"/>
              </a:rPr>
              <a:t>ເດືອນ</a:t>
            </a:r>
            <a:r>
              <a:rPr b="1" lang="en-US" sz="2100" spc="-1" strike="noStrike">
                <a:solidFill>
                  <a:srgbClr val="000000"/>
                </a:solidFill>
                <a:latin typeface="Saysettha OT"/>
                <a:ea typeface="Saysettha OT"/>
              </a:rPr>
              <a:t>;  3 </a:t>
            </a:r>
            <a:r>
              <a:rPr b="1" lang="en-US" sz="2100" spc="-1" strike="noStrike">
                <a:solidFill>
                  <a:srgbClr val="000000"/>
                </a:solidFill>
                <a:latin typeface="Saysettha OT"/>
                <a:cs typeface="Saysettha OT"/>
              </a:rPr>
              <a:t>ເທື່ອ</a:t>
            </a:r>
            <a:r>
              <a:rPr b="1" lang="lo-LA" sz="2100" spc="-1" strike="noStrike">
                <a:solidFill>
                  <a:srgbClr val="000000"/>
                </a:solidFill>
                <a:latin typeface="Saysettha OT"/>
                <a:ea typeface="Saysettha OT"/>
              </a:rPr>
              <a:t> </a:t>
            </a:r>
            <a:r>
              <a:rPr b="1" lang="en-US" sz="2100" spc="-1" strike="noStrike">
                <a:solidFill>
                  <a:srgbClr val="000000"/>
                </a:solidFill>
                <a:latin typeface="Saysettha OT"/>
                <a:cs typeface="Saysettha OT"/>
              </a:rPr>
              <a:t>ຕໍ່ມື້ ສຳລັບ ເດັກອາຍຸ </a:t>
            </a:r>
            <a:r>
              <a:rPr b="1" lang="en-US" sz="2100" spc="-1" strike="noStrike">
                <a:solidFill>
                  <a:srgbClr val="000000"/>
                </a:solidFill>
                <a:latin typeface="Saysettha OT"/>
                <a:ea typeface="Saysettha OT"/>
              </a:rPr>
              <a:t>9-23 </a:t>
            </a:r>
            <a:r>
              <a:rPr b="1" lang="en-US" sz="2100" spc="-1" strike="noStrike">
                <a:solidFill>
                  <a:srgbClr val="000000"/>
                </a:solidFill>
                <a:latin typeface="Saysettha OT"/>
                <a:cs typeface="Saysettha OT"/>
              </a:rPr>
              <a:t>ເດືອນ</a:t>
            </a:r>
            <a:endParaRPr b="0" lang="en-US" sz="2100" spc="-1" strike="noStrike">
              <a:solidFill>
                <a:srgbClr val="000000"/>
              </a:solidFill>
              <a:latin typeface="Calibri"/>
            </a:endParaRPr>
          </a:p>
          <a:p>
            <a:pPr lvl="1" marL="588240" indent="-250920">
              <a:lnSpc>
                <a:spcPct val="120000"/>
              </a:lnSpc>
              <a:spcBef>
                <a:spcPts val="1312"/>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Saysettha OT"/>
                <a:cs typeface="Saysettha OT"/>
              </a:rPr>
              <a:t>ບໍ່ໄດ້ລ້ຽງດ້ວຍນົມແມ່</a:t>
            </a:r>
            <a:r>
              <a:rPr b="1" lang="en-US" sz="2100" spc="-1" strike="noStrike">
                <a:solidFill>
                  <a:srgbClr val="000000"/>
                </a:solidFill>
                <a:latin typeface="Saysettha OT"/>
                <a:ea typeface="Saysettha OT"/>
              </a:rPr>
              <a:t>: 4 </a:t>
            </a:r>
            <a:r>
              <a:rPr b="1" lang="en-US" sz="2100" spc="-1" strike="noStrike">
                <a:solidFill>
                  <a:srgbClr val="000000"/>
                </a:solidFill>
                <a:latin typeface="Saysettha OT"/>
                <a:cs typeface="Saysettha OT"/>
              </a:rPr>
              <a:t>ເທື່ອ ຕໍ່ມື້ ສຳລັບ ເດັກອາຍຸ </a:t>
            </a:r>
            <a:r>
              <a:rPr b="1" lang="en-US" sz="2100" spc="-1" strike="noStrike">
                <a:solidFill>
                  <a:srgbClr val="000000"/>
                </a:solidFill>
                <a:latin typeface="Saysettha OT"/>
                <a:ea typeface="Saysettha OT"/>
              </a:rPr>
              <a:t>6-23 </a:t>
            </a:r>
            <a:r>
              <a:rPr b="1" lang="en-US" sz="2100" spc="-1" strike="noStrike">
                <a:solidFill>
                  <a:srgbClr val="000000"/>
                </a:solidFill>
                <a:latin typeface="Saysettha OT"/>
                <a:cs typeface="Saysettha OT"/>
              </a:rPr>
              <a:t>ເດືອນ</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000" spc="-1" strike="noStrike">
                <a:solidFill>
                  <a:srgbClr val="002060"/>
                </a:solidFill>
                <a:latin typeface="Saysettha OT"/>
                <a:cs typeface="Saysettha OT"/>
              </a:rPr>
              <a:t>ເປົ້າໝາຍໃນການສຳພາດ</a:t>
            </a:r>
            <a:endParaRPr b="0" lang="en-US" sz="4000" spc="-1" strike="noStrike">
              <a:solidFill>
                <a:srgbClr val="000000"/>
              </a:solidFill>
              <a:latin typeface="Calibri"/>
            </a:endParaRPr>
          </a:p>
        </p:txBody>
      </p:sp>
      <p:sp>
        <p:nvSpPr>
          <p:cNvPr id="200" name=""/>
          <p:cNvSpPr txBox="1"/>
          <p:nvPr/>
        </p:nvSpPr>
        <p:spPr>
          <a:xfrm>
            <a:off x="609120" y="1676160"/>
            <a:ext cx="8001000" cy="2514600"/>
          </a:xfrm>
          <a:prstGeom prst="rect">
            <a:avLst/>
          </a:prstGeom>
          <a:noFill/>
          <a:ln w="0">
            <a:noFill/>
          </a:ln>
        </p:spPr>
        <p:txBody>
          <a:bodyPr anchor="t">
            <a:normAutofit fontScale="91000"/>
          </a:bodyPr>
          <a:p>
            <a:pPr marL="248040" indent="-24804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48040" indent="-24804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aysettha OT"/>
                <a:cs typeface="Saysettha OT"/>
              </a:rPr>
              <a:t>ເດັກອາຍຸຕ່ຳກວ່າ </a:t>
            </a:r>
            <a:r>
              <a:rPr b="1" lang="en-US" sz="3200" spc="-1" strike="noStrike">
                <a:solidFill>
                  <a:srgbClr val="000000"/>
                </a:solidFill>
                <a:latin typeface="Saysettha OT"/>
                <a:ea typeface="Saysettha OT"/>
              </a:rPr>
              <a:t>5 </a:t>
            </a:r>
            <a:r>
              <a:rPr b="1" lang="en-US" sz="3200" spc="-1" strike="noStrike">
                <a:solidFill>
                  <a:srgbClr val="000000"/>
                </a:solidFill>
                <a:latin typeface="Saysettha OT"/>
                <a:cs typeface="Saysettha OT"/>
              </a:rPr>
              <a:t>ປີ ທຸກຄົນ </a:t>
            </a:r>
            <a:r>
              <a:rPr b="1" lang="en-US" sz="3200" spc="-1" strike="noStrike">
                <a:solidFill>
                  <a:srgbClr val="000000"/>
                </a:solidFill>
                <a:latin typeface="Saysettha OT"/>
                <a:ea typeface="Saysettha OT"/>
              </a:rPr>
              <a:t>(</a:t>
            </a:r>
            <a:r>
              <a:rPr b="1" lang="en-US" sz="3200" spc="-1" strike="noStrike">
                <a:solidFill>
                  <a:srgbClr val="000000"/>
                </a:solidFill>
                <a:latin typeface="Saysettha OT"/>
                <a:cs typeface="Saysettha OT"/>
              </a:rPr>
              <a:t>ທີ່ຍັງມີຊີວິດຢູ່</a:t>
            </a:r>
            <a:r>
              <a:rPr b="1" lang="en-US" sz="3200" spc="-1" strike="noStrike">
                <a:solidFill>
                  <a:srgbClr val="000000"/>
                </a:solidFill>
                <a:latin typeface="Saysettha OT"/>
                <a:ea typeface="Saysettha OT"/>
              </a:rPr>
              <a:t>)</a:t>
            </a:r>
            <a:endParaRPr b="0" lang="en-US" sz="3200" spc="-1" strike="noStrike">
              <a:solidFill>
                <a:srgbClr val="000000"/>
              </a:solidFill>
              <a:latin typeface="Calibri"/>
            </a:endParaRPr>
          </a:p>
          <a:p>
            <a:pPr marL="248040" indent="-24804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o-LA" sz="3200" spc="-1" strike="noStrike">
                <a:solidFill>
                  <a:srgbClr val="000000"/>
                </a:solidFill>
                <a:latin typeface="Saysettha OT"/>
                <a:cs typeface="Saysettha OT"/>
              </a:rPr>
              <a:t>ສຳພາດແມ່ ຫລື ຜູ້ດູແລເດັກ</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28600"/>
            <a:ext cx="5638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Saysettha OT"/>
                <a:cs typeface="Saysettha OT"/>
              </a:rPr>
              <a:t>ການລ້ຽງລູກດ້ວຍນົມແມ່</a:t>
            </a:r>
            <a:endParaRPr b="0" lang="en-US" sz="3600" spc="-1" strike="noStrike">
              <a:solidFill>
                <a:srgbClr val="000000"/>
              </a:solidFill>
              <a:latin typeface="Calibri"/>
            </a:endParaRPr>
          </a:p>
        </p:txBody>
      </p:sp>
      <p:sp>
        <p:nvSpPr>
          <p:cNvPr id="202" name=""/>
          <p:cNvSpPr txBox="1"/>
          <p:nvPr/>
        </p:nvSpPr>
        <p:spPr>
          <a:xfrm>
            <a:off x="228600" y="1371240"/>
            <a:ext cx="8610480" cy="5257800"/>
          </a:xfrm>
          <a:prstGeom prst="rect">
            <a:avLst/>
          </a:prstGeom>
          <a:noFill/>
          <a:ln w="0">
            <a:noFill/>
          </a:ln>
        </p:spPr>
        <p:txBody>
          <a:bodyPr anchor="t">
            <a:normAutofit fontScale="94000"/>
          </a:bodyPr>
          <a:p>
            <a:pPr lvl="1" marL="338400" indent="576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2600" spc="-1" strike="noStrike">
                <a:solidFill>
                  <a:srgbClr val="000000"/>
                </a:solidFill>
                <a:latin typeface="Saysettha OT"/>
                <a:cs typeface="Saysettha OT"/>
              </a:rPr>
              <a:t>ແມ່ ຫລື </a:t>
            </a:r>
            <a:r>
              <a:rPr b="1" lang="en-US" sz="2600" spc="-1" strike="noStrike">
                <a:solidFill>
                  <a:srgbClr val="000000"/>
                </a:solidFill>
                <a:latin typeface="Saysettha OT"/>
                <a:cs typeface="Saysettha OT"/>
              </a:rPr>
              <a:t>ຜູ້ດູແລເດັກ</a:t>
            </a:r>
            <a:r>
              <a:rPr b="1" lang="lo-LA" sz="2600" spc="-1" strike="noStrike">
                <a:solidFill>
                  <a:srgbClr val="000000"/>
                </a:solidFill>
                <a:latin typeface="Saysettha OT"/>
                <a:ea typeface="Saysettha OT"/>
              </a:rPr>
              <a:t> ຈະໄດ້ຖືກຖາມ</a:t>
            </a:r>
            <a:r>
              <a:rPr b="1" lang="en-US" sz="2600" spc="-1" strike="noStrike">
                <a:solidFill>
                  <a:srgbClr val="000000"/>
                </a:solidFill>
                <a:latin typeface="Saysettha OT"/>
                <a:cs typeface="Saysettha OT"/>
              </a:rPr>
              <a:t>ກ່ຽວກັບ</a:t>
            </a:r>
            <a:r>
              <a:rPr b="1" lang="lo-LA" sz="2600" spc="-1" strike="noStrike">
                <a:solidFill>
                  <a:srgbClr val="000000"/>
                </a:solidFill>
                <a:latin typeface="Saysettha OT"/>
                <a:cs typeface="Saysettha OT"/>
              </a:rPr>
              <a:t>ການບໍລິໂພກ     ດັ່ງ</a:t>
            </a:r>
            <a:r>
              <a:rPr b="1" lang="en-US" sz="2600" spc="-1" strike="noStrike">
                <a:solidFill>
                  <a:srgbClr val="000000"/>
                </a:solidFill>
                <a:latin typeface="Saysettha OT"/>
                <a:cs typeface="Saysettha OT"/>
              </a:rPr>
              <a:t>ຕໍ່ໄປນີ້</a:t>
            </a:r>
            <a:r>
              <a:rPr b="1" lang="lo-LA" sz="2600" spc="-1" strike="noStrike">
                <a:solidFill>
                  <a:srgbClr val="000000"/>
                </a:solidFill>
                <a:latin typeface="Saysettha OT"/>
                <a:ea typeface="Saysettha OT"/>
              </a:rPr>
              <a:t> </a:t>
            </a:r>
            <a:r>
              <a:rPr b="1" lang="en-US" sz="2600" spc="-1" strike="noStrike">
                <a:solidFill>
                  <a:srgbClr val="000000"/>
                </a:solidFill>
                <a:latin typeface="Saysettha OT"/>
                <a:cs typeface="Saysettha OT"/>
              </a:rPr>
              <a:t>ສຳລັບເດັກອາຍຸຕ່ຳກວ່າ </a:t>
            </a:r>
            <a:r>
              <a:rPr b="1" lang="en-US" sz="2600" spc="-1" strike="noStrike">
                <a:solidFill>
                  <a:srgbClr val="000000"/>
                </a:solidFill>
                <a:latin typeface="Saysettha OT"/>
                <a:ea typeface="Saysettha OT"/>
              </a:rPr>
              <a:t>5 </a:t>
            </a:r>
            <a:r>
              <a:rPr b="1" lang="en-US" sz="2600" spc="-1" strike="noStrike">
                <a:solidFill>
                  <a:srgbClr val="000000"/>
                </a:solidFill>
                <a:latin typeface="Saysettha OT"/>
                <a:cs typeface="Saysettha OT"/>
              </a:rPr>
              <a:t>ປີ ແຕ່ລະຄົນ</a:t>
            </a:r>
            <a:endParaRPr b="0" lang="en-US" sz="2600" spc="-1" strike="noStrike">
              <a:solidFill>
                <a:srgbClr val="000000"/>
              </a:solidFill>
              <a:latin typeface="Calibri"/>
            </a:endParaRPr>
          </a:p>
          <a:p>
            <a:pPr lvl="1" marL="338400" indent="5760">
              <a:lnSpc>
                <a:spcPct val="11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Saysettha OT"/>
                <a:cs typeface="Saysettha OT"/>
              </a:rPr>
              <a:t>ເດັກເຄີຍກີນນົມແມ່ ແລະ ປະຈຸບັນຍັງກີນນົມແມ່ຢູ່</a:t>
            </a:r>
            <a:r>
              <a:rPr b="1" lang="lo-LA" sz="2300" spc="-1" strike="noStrike">
                <a:solidFill>
                  <a:srgbClr val="000000"/>
                </a:solidFill>
                <a:latin typeface="Saysettha OT"/>
                <a:ea typeface="Saysettha OT"/>
              </a:rPr>
              <a:t> ຫລື ບໍ່</a:t>
            </a:r>
            <a:endParaRPr b="0" lang="en-US" sz="2300" spc="-1" strike="noStrike">
              <a:solidFill>
                <a:srgbClr val="000000"/>
              </a:solidFill>
              <a:latin typeface="Calibri"/>
            </a:endParaRPr>
          </a:p>
          <a:p>
            <a:pPr lvl="1" marL="338400" indent="5760">
              <a:lnSpc>
                <a:spcPct val="11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Saysettha OT"/>
                <a:cs typeface="Saysettha OT"/>
              </a:rPr>
              <a:t>ເດັກໄດ້ກີນ</a:t>
            </a:r>
            <a:r>
              <a:rPr b="1" lang="lo-LA" sz="2300" spc="-1" strike="noStrike">
                <a:solidFill>
                  <a:srgbClr val="000000"/>
                </a:solidFill>
                <a:latin typeface="Saysettha OT"/>
                <a:cs typeface="Saysettha OT"/>
              </a:rPr>
              <a:t>ທາດ</a:t>
            </a:r>
            <a:r>
              <a:rPr b="1" lang="en-US" sz="2300" spc="-1" strike="noStrike">
                <a:solidFill>
                  <a:srgbClr val="000000"/>
                </a:solidFill>
                <a:latin typeface="Saysettha OT"/>
                <a:cs typeface="Saysettha OT"/>
              </a:rPr>
              <a:t>ແຫຼວ ຫ</a:t>
            </a:r>
            <a:r>
              <a:rPr b="1" lang="lo-LA" sz="2300" spc="-1" strike="noStrike">
                <a:solidFill>
                  <a:srgbClr val="000000"/>
                </a:solidFill>
                <a:latin typeface="Saysettha OT"/>
                <a:cs typeface="Saysettha OT"/>
              </a:rPr>
              <a:t>ລື</a:t>
            </a:r>
            <a:r>
              <a:rPr b="1" lang="en-US" sz="2300" spc="-1" strike="noStrike">
                <a:solidFill>
                  <a:srgbClr val="000000"/>
                </a:solidFill>
                <a:latin typeface="Saysettha OT"/>
                <a:ea typeface="Saysettha OT"/>
              </a:rPr>
              <a:t> ອາຫານ ໃນ </a:t>
            </a:r>
            <a:r>
              <a:rPr b="1" lang="en-US" sz="2300" spc="-1" strike="noStrike">
                <a:solidFill>
                  <a:srgbClr val="000000"/>
                </a:solidFill>
                <a:latin typeface="Saysettha OT"/>
                <a:ea typeface="Saysettha OT"/>
              </a:rPr>
              <a:t>24 </a:t>
            </a:r>
            <a:r>
              <a:rPr b="1" lang="en-US" sz="2300" spc="-1" strike="noStrike">
                <a:solidFill>
                  <a:srgbClr val="000000"/>
                </a:solidFill>
                <a:latin typeface="Saysettha OT"/>
                <a:cs typeface="Saysettha OT"/>
              </a:rPr>
              <a:t>ຊົ່ວໂມງ ກ່ອນ</a:t>
            </a:r>
            <a:r>
              <a:rPr b="1" lang="lo-LA" sz="2300" spc="-1" strike="noStrike">
                <a:solidFill>
                  <a:srgbClr val="000000"/>
                </a:solidFill>
                <a:latin typeface="Saysettha OT"/>
                <a:cs typeface="Saysettha OT"/>
              </a:rPr>
              <a:t>ການສຳພາດ </a:t>
            </a:r>
            <a:endParaRPr b="0" lang="en-US" sz="2300" spc="-1" strike="noStrike">
              <a:solidFill>
                <a:srgbClr val="000000"/>
              </a:solidFill>
              <a:latin typeface="Calibri"/>
            </a:endParaRPr>
          </a:p>
          <a:p>
            <a:pPr lvl="1" marL="338400" indent="5760">
              <a:lnSpc>
                <a:spcPct val="11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Saysettha OT"/>
                <a:cs typeface="Saysettha OT"/>
              </a:rPr>
              <a:t>ຜະລິດຕະພັນນົມ</a:t>
            </a:r>
            <a:r>
              <a:rPr b="1" lang="lo-LA" sz="2300" spc="-1" strike="noStrike">
                <a:solidFill>
                  <a:srgbClr val="000000"/>
                </a:solidFill>
                <a:latin typeface="Saysettha OT"/>
                <a:ea typeface="Saysettha OT"/>
              </a:rPr>
              <a:t> </a:t>
            </a:r>
            <a:r>
              <a:rPr b="1" lang="lo-LA" sz="2300" spc="-1" strike="noStrike">
                <a:solidFill>
                  <a:srgbClr val="000000"/>
                </a:solidFill>
                <a:latin typeface="Saysettha OT"/>
                <a:ea typeface="Saysettha OT"/>
              </a:rPr>
              <a:t>(</a:t>
            </a:r>
            <a:r>
              <a:rPr b="1" lang="lo-LA" sz="2300" spc="-1" strike="noStrike">
                <a:solidFill>
                  <a:srgbClr val="000000"/>
                </a:solidFill>
                <a:latin typeface="Saysettha OT"/>
                <a:cs typeface="Saysettha OT"/>
              </a:rPr>
              <a:t>ນົມຝຸ່ນສຳເລັດຮູບ</a:t>
            </a:r>
            <a:r>
              <a:rPr b="1" lang="en-US" sz="2300" spc="-1" strike="noStrike">
                <a:solidFill>
                  <a:srgbClr val="000000"/>
                </a:solidFill>
                <a:latin typeface="Saysettha OT"/>
                <a:ea typeface="Saysettha OT"/>
              </a:rPr>
              <a:t>/</a:t>
            </a:r>
            <a:r>
              <a:rPr b="1" lang="lo-LA" sz="2300" spc="-1" strike="noStrike">
                <a:solidFill>
                  <a:srgbClr val="000000"/>
                </a:solidFill>
                <a:latin typeface="Saysettha OT"/>
                <a:cs typeface="Saysettha OT"/>
              </a:rPr>
              <a:t>ນົມປອງ</a:t>
            </a:r>
            <a:r>
              <a:rPr b="1" lang="lo-LA" sz="2300" spc="-1" strike="noStrike">
                <a:solidFill>
                  <a:srgbClr val="000000"/>
                </a:solidFill>
                <a:latin typeface="Saysettha OT"/>
                <a:ea typeface="Saysettha OT"/>
              </a:rPr>
              <a:t>) </a:t>
            </a:r>
            <a:r>
              <a:rPr b="1" lang="en-US" sz="2300" spc="-1" strike="noStrike">
                <a:solidFill>
                  <a:srgbClr val="000000"/>
                </a:solidFill>
                <a:latin typeface="Saysettha OT"/>
                <a:cs typeface="Saysettha OT"/>
              </a:rPr>
              <a:t>ແລະ</a:t>
            </a:r>
            <a:r>
              <a:rPr b="1" lang="lo-LA" sz="2300" spc="-1" strike="noStrike">
                <a:solidFill>
                  <a:srgbClr val="000000"/>
                </a:solidFill>
                <a:latin typeface="Saysettha OT"/>
                <a:ea typeface="Saysettha OT"/>
              </a:rPr>
              <a:t> </a:t>
            </a:r>
            <a:r>
              <a:rPr b="1" lang="en-US" sz="2300" spc="-1" strike="noStrike">
                <a:solidFill>
                  <a:srgbClr val="000000"/>
                </a:solidFill>
                <a:latin typeface="Saysettha OT"/>
                <a:cs typeface="Saysettha OT"/>
              </a:rPr>
              <a:t>ຈຳນວນເທື່ອທີ່</a:t>
            </a:r>
            <a:r>
              <a:rPr b="1" lang="lo-LA" sz="2300" spc="-1" strike="noStrike">
                <a:solidFill>
                  <a:srgbClr val="000000"/>
                </a:solidFill>
                <a:latin typeface="Saysettha OT"/>
                <a:cs typeface="Saysettha OT"/>
              </a:rPr>
              <a:t>ໄດ້ບໍລິໂພກ</a:t>
            </a:r>
            <a:endParaRPr b="0" lang="en-US" sz="2300" spc="-1" strike="noStrike">
              <a:solidFill>
                <a:srgbClr val="000000"/>
              </a:solidFill>
              <a:latin typeface="Calibri"/>
            </a:endParaRPr>
          </a:p>
          <a:p>
            <a:pPr lvl="1" marL="338400" indent="5760">
              <a:lnSpc>
                <a:spcPct val="11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o-LA" sz="2300" spc="-1" strike="noStrike">
                <a:solidFill>
                  <a:srgbClr val="000000"/>
                </a:solidFill>
                <a:latin typeface="Saysettha OT"/>
                <a:cs typeface="Saysettha OT"/>
              </a:rPr>
              <a:t>ບັນດາທາດ</a:t>
            </a:r>
            <a:r>
              <a:rPr b="1" lang="en-US" sz="2300" spc="-1" strike="noStrike">
                <a:solidFill>
                  <a:srgbClr val="000000"/>
                </a:solidFill>
                <a:latin typeface="Saysettha OT"/>
                <a:cs typeface="Saysettha OT"/>
              </a:rPr>
              <a:t>ແຫຼວ</a:t>
            </a:r>
            <a:r>
              <a:rPr b="1" lang="lo-LA" sz="2300" spc="-1" strike="noStrike">
                <a:solidFill>
                  <a:srgbClr val="000000"/>
                </a:solidFill>
                <a:latin typeface="Saysettha OT"/>
                <a:ea typeface="Saysettha OT"/>
              </a:rPr>
              <a:t>, </a:t>
            </a:r>
            <a:r>
              <a:rPr b="1" lang="lo-LA" sz="2300" spc="-1" strike="noStrike">
                <a:solidFill>
                  <a:srgbClr val="000000"/>
                </a:solidFill>
                <a:latin typeface="Saysettha OT"/>
                <a:cs typeface="Saysettha OT"/>
              </a:rPr>
              <a:t>ວິຕະມິນ ຫລື ຢາ</a:t>
            </a:r>
            <a:r>
              <a:rPr b="1" lang="lo-LA" sz="2300" spc="-1" strike="noStrike">
                <a:solidFill>
                  <a:srgbClr val="000000"/>
                </a:solidFill>
                <a:latin typeface="Saysettha OT"/>
                <a:ea typeface="Saysettha OT"/>
              </a:rPr>
              <a:t>, </a:t>
            </a:r>
            <a:r>
              <a:rPr b="1" lang="lo-LA" sz="2300" spc="-1" strike="noStrike">
                <a:solidFill>
                  <a:srgbClr val="000000"/>
                </a:solidFill>
                <a:latin typeface="Saysettha OT"/>
                <a:cs typeface="Saysettha OT"/>
              </a:rPr>
              <a:t>ນ້ຳທະເລຝຸ່ນ ແລະ ທາດແຫຼວອື່ນໆ </a:t>
            </a:r>
            <a:endParaRPr b="0" lang="en-US" sz="2300" spc="-1" strike="noStrike">
              <a:solidFill>
                <a:srgbClr val="000000"/>
              </a:solidFill>
              <a:latin typeface="Calibri"/>
            </a:endParaRPr>
          </a:p>
          <a:p>
            <a:pPr lvl="1" marL="338400" indent="5760">
              <a:lnSpc>
                <a:spcPct val="11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o-LA" sz="2300" spc="-1" strike="noStrike">
                <a:solidFill>
                  <a:srgbClr val="000000"/>
                </a:solidFill>
                <a:latin typeface="Saysettha OT"/>
                <a:cs typeface="Saysettha OT"/>
              </a:rPr>
              <a:t>ການ</a:t>
            </a:r>
            <a:r>
              <a:rPr b="1" lang="en-US" sz="2300" spc="-1" strike="noStrike">
                <a:solidFill>
                  <a:srgbClr val="000000"/>
                </a:solidFill>
                <a:latin typeface="Saysettha OT"/>
                <a:cs typeface="Saysettha OT"/>
              </a:rPr>
              <a:t>ກີນອາຫານ</a:t>
            </a:r>
            <a:r>
              <a:rPr b="1" lang="lo-LA" sz="2300" spc="-1" strike="noStrike">
                <a:solidFill>
                  <a:srgbClr val="000000"/>
                </a:solidFill>
                <a:latin typeface="Saysettha OT"/>
                <a:ea typeface="Saysettha OT"/>
              </a:rPr>
              <a:t> </a:t>
            </a:r>
            <a:r>
              <a:rPr b="1" lang="en-US" sz="2300" spc="-1" strike="noStrike">
                <a:solidFill>
                  <a:srgbClr val="000000"/>
                </a:solidFill>
                <a:latin typeface="Saysettha OT"/>
                <a:cs typeface="Saysettha OT"/>
              </a:rPr>
              <a:t>ທີ່ບໍ່ແມ່ນ</a:t>
            </a:r>
            <a:r>
              <a:rPr b="1" lang="lo-LA" sz="2300" spc="-1" strike="noStrike">
                <a:solidFill>
                  <a:srgbClr val="000000"/>
                </a:solidFill>
                <a:latin typeface="Saysettha OT"/>
                <a:cs typeface="Saysettha OT"/>
              </a:rPr>
              <a:t>ອາຫານ</a:t>
            </a:r>
            <a:r>
              <a:rPr b="1" lang="en-US" sz="2300" spc="-1" strike="noStrike">
                <a:solidFill>
                  <a:srgbClr val="000000"/>
                </a:solidFill>
                <a:latin typeface="Saysettha OT"/>
                <a:cs typeface="Saysettha OT"/>
              </a:rPr>
              <a:t>ແຫຼວ</a:t>
            </a:r>
            <a:r>
              <a:rPr b="1" lang="lo-LA" sz="2300" spc="-1" strike="noStrike">
                <a:solidFill>
                  <a:srgbClr val="000000"/>
                </a:solidFill>
                <a:latin typeface="Saysettha OT"/>
                <a:ea typeface="Saysettha OT"/>
              </a:rPr>
              <a:t> ແລະ</a:t>
            </a:r>
            <a:r>
              <a:rPr b="1" lang="en-US" sz="2300" spc="-1" strike="noStrike">
                <a:solidFill>
                  <a:srgbClr val="000000"/>
                </a:solidFill>
                <a:latin typeface="Saysettha OT"/>
                <a:ea typeface="Saysettha OT"/>
              </a:rPr>
              <a:t> ຈຳນວນເທື່ອ</a:t>
            </a:r>
            <a:r>
              <a:rPr b="1" lang="lo-LA" sz="2300" spc="-1" strike="noStrike">
                <a:solidFill>
                  <a:srgbClr val="000000"/>
                </a:solidFill>
                <a:latin typeface="Saysettha OT"/>
                <a:cs typeface="Saysettha OT"/>
              </a:rPr>
              <a:t>ທີ່ໄດ້ ບໍລິໂພກ</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2280"/>
            <a:ext cx="56386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000" spc="-1" strike="noStrike">
                <a:solidFill>
                  <a:srgbClr val="002060"/>
                </a:solidFill>
                <a:latin typeface="Saysettha OT"/>
                <a:cs typeface="Saysettha OT"/>
              </a:rPr>
              <a:t>ຈຸດທີ່ຄວນເອົາໃຈໃສ່</a:t>
            </a:r>
            <a:endParaRPr b="0" lang="en-US" sz="4000" spc="-1" strike="noStrike">
              <a:solidFill>
                <a:srgbClr val="000000"/>
              </a:solidFill>
              <a:latin typeface="Calibri"/>
            </a:endParaRPr>
          </a:p>
        </p:txBody>
      </p:sp>
      <p:sp>
        <p:nvSpPr>
          <p:cNvPr id="204" name=""/>
          <p:cNvSpPr txBox="1"/>
          <p:nvPr/>
        </p:nvSpPr>
        <p:spPr>
          <a:xfrm>
            <a:off x="457200" y="1294920"/>
            <a:ext cx="8305920" cy="5334120"/>
          </a:xfrm>
          <a:prstGeom prst="rect">
            <a:avLst/>
          </a:prstGeom>
          <a:noFill/>
          <a:ln w="0">
            <a:noFill/>
          </a:ln>
        </p:spPr>
        <p:txBody>
          <a:bodyPr anchor="t">
            <a:normAutofit/>
          </a:bodyPr>
          <a:p>
            <a:pPr lvl="1" marL="349200" indent="-285840">
              <a:lnSpc>
                <a:spcPct val="11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aysettha OT"/>
                <a:cs typeface="Saysettha OT"/>
              </a:rPr>
              <a:t>ຄຳຖາມຂໍ້ </a:t>
            </a:r>
            <a:r>
              <a:rPr b="1" lang="en-GB" sz="2400" spc="-1" strike="noStrike">
                <a:solidFill>
                  <a:srgbClr val="000000"/>
                </a:solidFill>
                <a:latin typeface="Saysettha OT"/>
                <a:ea typeface="Saysettha OT"/>
              </a:rPr>
              <a:t>BF3-BF18 </a:t>
            </a:r>
            <a:r>
              <a:rPr b="1" lang="en-GB" sz="2400" spc="-1" strike="noStrike">
                <a:solidFill>
                  <a:srgbClr val="000000"/>
                </a:solidFill>
                <a:latin typeface="Saysettha OT"/>
                <a:cs typeface="Saysettha OT"/>
              </a:rPr>
              <a:t>ຖາມກ່ຽວກັບເດັກໄດ້ກີນຫຍັງແດ່</a:t>
            </a:r>
            <a:r>
              <a:rPr b="1" lang="lo-LA" sz="2400" spc="-1" strike="noStrike">
                <a:solidFill>
                  <a:srgbClr val="000000"/>
                </a:solidFill>
                <a:latin typeface="Saysettha OT"/>
                <a:ea typeface="Saysettha OT"/>
              </a:rPr>
              <a:t> </a:t>
            </a:r>
            <a:r>
              <a:rPr b="1" lang="en-GB" sz="2400" spc="-1" strike="noStrike">
                <a:solidFill>
                  <a:srgbClr val="000000"/>
                </a:solidFill>
                <a:latin typeface="Saysettha OT"/>
                <a:cs typeface="Saysettha OT"/>
              </a:rPr>
              <a:t>ໃນໄລຍະ </a:t>
            </a:r>
            <a:r>
              <a:rPr b="1" lang="en-GB" sz="2400" spc="-1" strike="noStrike">
                <a:solidFill>
                  <a:srgbClr val="000000"/>
                </a:solidFill>
                <a:latin typeface="Saysettha OT"/>
                <a:ea typeface="Saysettha OT"/>
              </a:rPr>
              <a:t>24 </a:t>
            </a:r>
            <a:r>
              <a:rPr b="1" lang="en-GB" sz="2400" spc="-1" strike="noStrike">
                <a:solidFill>
                  <a:srgbClr val="000000"/>
                </a:solidFill>
                <a:latin typeface="Saysettha OT"/>
                <a:cs typeface="Saysettha OT"/>
              </a:rPr>
              <a:t>ຊົ່ວໂມງ ກ່ອນການສຳພາດ</a:t>
            </a:r>
            <a:endParaRPr b="0" lang="en-US" sz="2400" spc="-1" strike="noStrike">
              <a:solidFill>
                <a:srgbClr val="000000"/>
              </a:solidFill>
              <a:latin typeface="Calibri"/>
            </a:endParaRPr>
          </a:p>
          <a:p>
            <a:pPr lvl="1" marL="349200" indent="-285840">
              <a:lnSpc>
                <a:spcPct val="11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aysettha OT"/>
                <a:cs typeface="Saysettha OT"/>
              </a:rPr>
              <a:t>ຮັບ</a:t>
            </a:r>
            <a:r>
              <a:rPr b="1" lang="lo-LA" sz="2400" spc="-1" strike="noStrike">
                <a:solidFill>
                  <a:srgbClr val="000000"/>
                </a:solidFill>
                <a:latin typeface="Saysettha OT"/>
                <a:cs typeface="Saysettha OT"/>
              </a:rPr>
              <a:t>ປະ</a:t>
            </a:r>
            <a:r>
              <a:rPr b="1" lang="en-GB" sz="2400" spc="-1" strike="noStrike">
                <a:solidFill>
                  <a:srgbClr val="000000"/>
                </a:solidFill>
                <a:latin typeface="Saysettha OT"/>
                <a:cs typeface="Saysettha OT"/>
              </a:rPr>
              <a:t>ກັນວ່າຜູ້ຕອບ</a:t>
            </a:r>
            <a:r>
              <a:rPr b="1" lang="lo-LA" sz="2400" spc="-1" strike="noStrike">
                <a:solidFill>
                  <a:srgbClr val="000000"/>
                </a:solidFill>
                <a:latin typeface="Saysettha OT"/>
                <a:cs typeface="Saysettha OT"/>
              </a:rPr>
              <a:t>ສຳພາດ</a:t>
            </a:r>
            <a:r>
              <a:rPr b="1" lang="en-GB" sz="2400" spc="-1" strike="noStrike">
                <a:solidFill>
                  <a:srgbClr val="000000"/>
                </a:solidFill>
                <a:latin typeface="Saysettha OT"/>
                <a:cs typeface="Saysettha OT"/>
              </a:rPr>
              <a:t>ເຂົ້າໃຈຄຳຖາມ</a:t>
            </a:r>
            <a:r>
              <a:rPr b="1" lang="en-GB" sz="2400" spc="-1" strike="noStrike">
                <a:solidFill>
                  <a:srgbClr val="000000"/>
                </a:solidFill>
                <a:latin typeface="Saysettha OT"/>
                <a:ea typeface="Saysettha OT"/>
              </a:rPr>
              <a:t>, </a:t>
            </a:r>
            <a:r>
              <a:rPr b="1" lang="en-GB" sz="2400" spc="-1" strike="noStrike">
                <a:solidFill>
                  <a:srgbClr val="000000"/>
                </a:solidFill>
                <a:latin typeface="Saysettha OT"/>
                <a:cs typeface="Saysettha OT"/>
              </a:rPr>
              <a:t>ໂດຍສະເພາະ ຄວາມໝາຍຂອງຄຳວ່າ </a:t>
            </a:r>
            <a:r>
              <a:rPr b="1" lang="en-US" sz="2400" spc="-1" strike="noStrike">
                <a:solidFill>
                  <a:srgbClr val="000000"/>
                </a:solidFill>
                <a:latin typeface="Saysettha OT"/>
                <a:ea typeface="Saysettha OT"/>
              </a:rPr>
              <a:t>“</a:t>
            </a:r>
            <a:r>
              <a:rPr b="1" lang="en-GB" sz="2400" spc="-1" strike="noStrike">
                <a:solidFill>
                  <a:srgbClr val="000000"/>
                </a:solidFill>
                <a:latin typeface="Saysettha OT"/>
                <a:cs typeface="Saysettha OT"/>
              </a:rPr>
              <a:t>ມື້ວານນີ້</a:t>
            </a:r>
            <a:r>
              <a:rPr b="1" lang="en-GB" sz="2400" spc="-1" strike="noStrike">
                <a:solidFill>
                  <a:srgbClr val="000000"/>
                </a:solidFill>
                <a:latin typeface="Saysettha OT"/>
                <a:ea typeface="Saysettha OT"/>
              </a:rPr>
              <a:t>, </a:t>
            </a:r>
            <a:r>
              <a:rPr b="1" lang="lo-LA" sz="2400" spc="-1" strike="noStrike">
                <a:solidFill>
                  <a:srgbClr val="000000"/>
                </a:solidFill>
                <a:latin typeface="Saysettha OT"/>
                <a:cs typeface="Saysettha OT"/>
              </a:rPr>
              <a:t>ໃນຕອນ</a:t>
            </a:r>
            <a:r>
              <a:rPr b="1" lang="en-GB" sz="2400" spc="-1" strike="noStrike">
                <a:solidFill>
                  <a:srgbClr val="000000"/>
                </a:solidFill>
                <a:latin typeface="Saysettha OT"/>
                <a:cs typeface="Saysettha OT"/>
              </a:rPr>
              <a:t>ກາງເວັນ</a:t>
            </a:r>
            <a:r>
              <a:rPr b="1" lang="lo-LA" sz="2400" spc="-1" strike="noStrike">
                <a:solidFill>
                  <a:srgbClr val="000000"/>
                </a:solidFill>
                <a:latin typeface="Saysettha OT"/>
                <a:ea typeface="Saysettha OT"/>
              </a:rPr>
              <a:t> </a:t>
            </a:r>
            <a:r>
              <a:rPr b="1" lang="en-GB" sz="2400" spc="-1" strike="noStrike">
                <a:solidFill>
                  <a:srgbClr val="000000"/>
                </a:solidFill>
                <a:latin typeface="Saysettha OT"/>
                <a:cs typeface="Saysettha OT"/>
              </a:rPr>
              <a:t>ຫ</a:t>
            </a:r>
            <a:r>
              <a:rPr b="1" lang="lo-LA" sz="2400" spc="-1" strike="noStrike">
                <a:solidFill>
                  <a:srgbClr val="000000"/>
                </a:solidFill>
                <a:latin typeface="Saysettha OT"/>
                <a:cs typeface="Saysettha OT"/>
              </a:rPr>
              <a:t>ລື </a:t>
            </a:r>
            <a:r>
              <a:rPr b="1" lang="en-GB" sz="2400" spc="-1" strike="noStrike">
                <a:solidFill>
                  <a:srgbClr val="000000"/>
                </a:solidFill>
                <a:latin typeface="Saysettha OT"/>
                <a:cs typeface="Saysettha OT"/>
              </a:rPr>
              <a:t>ກາ</a:t>
            </a:r>
            <a:r>
              <a:rPr b="1" lang="lo-LA" sz="2400" spc="-1" strike="noStrike">
                <a:solidFill>
                  <a:srgbClr val="000000"/>
                </a:solidFill>
                <a:latin typeface="Saysettha OT"/>
                <a:cs typeface="Saysettha OT"/>
              </a:rPr>
              <a:t>ງ</a:t>
            </a:r>
            <a:r>
              <a:rPr b="1" lang="en-GB" sz="2400" spc="-1" strike="noStrike">
                <a:solidFill>
                  <a:srgbClr val="000000"/>
                </a:solidFill>
                <a:latin typeface="Saysettha OT"/>
                <a:cs typeface="Saysettha OT"/>
              </a:rPr>
              <a:t>ຄືນ” ນັ້</a:t>
            </a:r>
            <a:r>
              <a:rPr b="1" lang="lo-LA" sz="2400" spc="-1" strike="noStrike">
                <a:solidFill>
                  <a:srgbClr val="000000"/>
                </a:solidFill>
                <a:latin typeface="Saysettha OT"/>
                <a:cs typeface="Saysettha OT"/>
              </a:rPr>
              <a:t>ນແມ່ນ</a:t>
            </a:r>
            <a:r>
              <a:rPr b="1" lang="en-GB" sz="2400" spc="-1" strike="noStrike">
                <a:solidFill>
                  <a:srgbClr val="000000"/>
                </a:solidFill>
                <a:latin typeface="Saysettha OT"/>
                <a:cs typeface="Saysettha OT"/>
              </a:rPr>
              <a:t>ແນວໃດ</a:t>
            </a:r>
            <a:endParaRPr b="0" lang="en-US" sz="2400" spc="-1" strike="noStrike">
              <a:solidFill>
                <a:srgbClr val="000000"/>
              </a:solidFill>
              <a:latin typeface="Calibri"/>
            </a:endParaRPr>
          </a:p>
          <a:p>
            <a:pPr lvl="1" marL="349200" indent="-285840">
              <a:lnSpc>
                <a:spcPct val="11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aysettha OT"/>
                <a:cs typeface="Saysettha OT"/>
              </a:rPr>
              <a:t>ຖ້າພຽງເວົ້າວ່າ “ມື້ວານນີ້”</a:t>
            </a:r>
            <a:r>
              <a:rPr b="1" lang="en-GB" sz="2400" spc="-1" strike="noStrike">
                <a:solidFill>
                  <a:srgbClr val="000000"/>
                </a:solidFill>
                <a:latin typeface="Saysettha OT"/>
                <a:ea typeface="Saysettha OT"/>
              </a:rPr>
              <a:t>, </a:t>
            </a:r>
            <a:r>
              <a:rPr b="1" lang="en-GB" sz="2400" spc="-1" strike="noStrike">
                <a:solidFill>
                  <a:srgbClr val="000000"/>
                </a:solidFill>
                <a:latin typeface="Saysettha OT"/>
                <a:cs typeface="Saysettha OT"/>
              </a:rPr>
              <a:t>ຜູ້ຕອບ</a:t>
            </a:r>
            <a:r>
              <a:rPr b="1" lang="lo-LA" sz="2400" spc="-1" strike="noStrike">
                <a:solidFill>
                  <a:srgbClr val="000000"/>
                </a:solidFill>
                <a:latin typeface="Saysettha OT"/>
                <a:cs typeface="Saysettha OT"/>
              </a:rPr>
              <a:t>ສຳພາດ</a:t>
            </a:r>
            <a:r>
              <a:rPr b="1" lang="en-GB" sz="2400" spc="-1" strike="noStrike">
                <a:solidFill>
                  <a:srgbClr val="000000"/>
                </a:solidFill>
                <a:latin typeface="Saysettha OT"/>
                <a:cs typeface="Saysettha OT"/>
              </a:rPr>
              <a:t>ອາດຄິດວ່າ</a:t>
            </a:r>
            <a:r>
              <a:rPr b="1" lang="lo-LA" sz="2400" spc="-1" strike="noStrike">
                <a:solidFill>
                  <a:srgbClr val="000000"/>
                </a:solidFill>
                <a:latin typeface="Saysettha OT"/>
                <a:ea typeface="Saysettha OT"/>
              </a:rPr>
              <a:t> </a:t>
            </a:r>
            <a:r>
              <a:rPr b="1" lang="en-GB" sz="2400" spc="-1" strike="noStrike">
                <a:solidFill>
                  <a:srgbClr val="000000"/>
                </a:solidFill>
                <a:latin typeface="Saysettha OT"/>
                <a:cs typeface="Saysettha OT"/>
              </a:rPr>
              <a:t>ແມ່ນເວລາກາງເວັນຂອງມື້ວານນີ້ ຫ</a:t>
            </a:r>
            <a:r>
              <a:rPr b="1" lang="lo-LA" sz="2400" spc="-1" strike="noStrike">
                <a:solidFill>
                  <a:srgbClr val="000000"/>
                </a:solidFill>
                <a:latin typeface="Saysettha OT"/>
                <a:cs typeface="Saysettha OT"/>
              </a:rPr>
              <a:t>ລື</a:t>
            </a:r>
            <a:r>
              <a:rPr b="1" lang="en-GB" sz="2400" spc="-1" strike="noStrike">
                <a:solidFill>
                  <a:srgbClr val="000000"/>
                </a:solidFill>
                <a:latin typeface="Saysettha OT"/>
                <a:ea typeface="Saysettha OT"/>
              </a:rPr>
              <a:t> ລາວອາດຈະບໍ່ຄິດວ່າແມ່ນເວລາກາງຄືນ</a:t>
            </a:r>
            <a:r>
              <a:rPr b="1" lang="lo-LA" sz="2400" spc="-1" strike="noStrike">
                <a:solidFill>
                  <a:srgbClr val="000000"/>
                </a:solidFill>
                <a:latin typeface="Saysettha OT"/>
                <a:ea typeface="Saysettha OT"/>
              </a:rPr>
              <a:t> </a:t>
            </a:r>
            <a:r>
              <a:rPr b="1" lang="en-GB" sz="2400" spc="-1" strike="noStrike">
                <a:solidFill>
                  <a:srgbClr val="000000"/>
                </a:solidFill>
                <a:latin typeface="Saysettha OT"/>
                <a:cs typeface="Saysettha OT"/>
              </a:rPr>
              <a:t>ຂອງມື້ວານນີ້ </a:t>
            </a:r>
            <a:endParaRPr b="0" lang="en-US" sz="2400" spc="-1" strike="noStrike">
              <a:solidFill>
                <a:srgbClr val="000000"/>
              </a:solidFill>
              <a:latin typeface="Calibri"/>
            </a:endParaRPr>
          </a:p>
          <a:p>
            <a:pPr lvl="1" marL="349200" indent="-285840">
              <a:lnSpc>
                <a:spcPct val="11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aysettha OT"/>
                <a:cs typeface="Saysettha OT"/>
              </a:rPr>
              <a:t>ເພາະສະນັ້ນ</a:t>
            </a:r>
            <a:r>
              <a:rPr b="1" lang="en-GB" sz="2400" spc="-1" strike="noStrike">
                <a:solidFill>
                  <a:srgbClr val="000000"/>
                </a:solidFill>
                <a:latin typeface="Saysettha OT"/>
                <a:ea typeface="Saysettha OT"/>
              </a:rPr>
              <a:t>, </a:t>
            </a:r>
            <a:r>
              <a:rPr b="1" lang="en-GB" sz="2400" spc="-1" strike="noStrike">
                <a:solidFill>
                  <a:srgbClr val="000000"/>
                </a:solidFill>
                <a:latin typeface="Saysettha OT"/>
                <a:cs typeface="Saysettha OT"/>
              </a:rPr>
              <a:t>ຜູ້ສຳພາດຄວນຖາມ “ມື້ວານນີ້</a:t>
            </a:r>
            <a:r>
              <a:rPr b="1" lang="en-GB" sz="2400" spc="-1" strike="noStrike">
                <a:solidFill>
                  <a:srgbClr val="000000"/>
                </a:solidFill>
                <a:latin typeface="Saysettha OT"/>
                <a:ea typeface="Saysettha OT"/>
              </a:rPr>
              <a:t>, </a:t>
            </a:r>
            <a:r>
              <a:rPr b="1" lang="en-GB" sz="2400" spc="-1" strike="noStrike">
                <a:solidFill>
                  <a:srgbClr val="000000"/>
                </a:solidFill>
                <a:latin typeface="Saysettha OT"/>
                <a:cs typeface="Saysettha OT"/>
              </a:rPr>
              <a:t>ໄລຍະກາງເວັນ ຫ</a:t>
            </a:r>
            <a:r>
              <a:rPr b="1" lang="lo-LA" sz="2400" spc="-1" strike="noStrike">
                <a:solidFill>
                  <a:srgbClr val="000000"/>
                </a:solidFill>
                <a:latin typeface="Saysettha OT"/>
                <a:cs typeface="Saysettha OT"/>
              </a:rPr>
              <a:t>ລື </a:t>
            </a:r>
            <a:r>
              <a:rPr b="1" lang="en-GB" sz="2400" spc="-1" strike="noStrike">
                <a:solidFill>
                  <a:srgbClr val="000000"/>
                </a:solidFill>
                <a:latin typeface="Saysettha OT"/>
                <a:cs typeface="Saysettha OT"/>
              </a:rPr>
              <a:t>ກາ</a:t>
            </a:r>
            <a:r>
              <a:rPr b="1" lang="lo-LA" sz="2400" spc="-1" strike="noStrike">
                <a:solidFill>
                  <a:srgbClr val="000000"/>
                </a:solidFill>
                <a:latin typeface="Saysettha OT"/>
                <a:cs typeface="Saysettha OT"/>
              </a:rPr>
              <a:t>ງ</a:t>
            </a:r>
            <a:r>
              <a:rPr b="1" lang="en-GB" sz="2400" spc="-1" strike="noStrike">
                <a:solidFill>
                  <a:srgbClr val="000000"/>
                </a:solidFill>
                <a:latin typeface="Saysettha OT"/>
                <a:cs typeface="Saysettha OT"/>
              </a:rPr>
              <a:t>ຄືນ” ສຳລັບທຸກຄຳຖາມ</a:t>
            </a:r>
            <a:endParaRPr b="0" lang="en-US" sz="2400" spc="-1" strike="noStrike">
              <a:solidFill>
                <a:srgbClr val="000000"/>
              </a:solidFill>
              <a:latin typeface="Calibri"/>
            </a:endParaRPr>
          </a:p>
          <a:p>
            <a:pPr lvl="1" marL="349200" indent="-285840">
              <a:lnSpc>
                <a:spcPct val="11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9200" indent="-285840">
              <a:lnSpc>
                <a:spcPct val="11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Arial"/>
              </a:rPr>
              <a:t>MICS4 Survey Design Workshop</a:t>
            </a:r>
            <a:endParaRPr b="0" lang="en-US" sz="1200" spc="-1" strike="noStrike">
              <a:solidFill>
                <a:srgbClr val="000000"/>
              </a:solidFill>
              <a:latin typeface="Calibri"/>
            </a:endParaRPr>
          </a:p>
        </p:txBody>
      </p:sp>
      <p:sp>
        <p:nvSpPr>
          <p:cNvPr id="206" name="Rectangle 2"/>
          <p:cNvSpPr/>
          <p:nvPr/>
        </p:nvSpPr>
        <p:spPr>
          <a:xfrm>
            <a:off x="1143000" y="838080"/>
            <a:ext cx="7543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000" spc="-1" strike="noStrike">
                <a:solidFill>
                  <a:srgbClr val="002060"/>
                </a:solidFill>
                <a:latin typeface="Saysettha OT"/>
                <a:cs typeface="Saysettha OT"/>
              </a:rPr>
              <a:t>ລາຍລະອຽດ</a:t>
            </a:r>
            <a:r>
              <a:rPr b="1" lang="en-US" sz="4000" spc="-1" strike="noStrike">
                <a:solidFill>
                  <a:srgbClr val="002060"/>
                </a:solidFill>
                <a:latin typeface="Saysettha OT"/>
                <a:ea typeface="Saysettha OT"/>
              </a:rPr>
              <a:t> </a:t>
            </a:r>
            <a:r>
              <a:rPr b="1" lang="lo-LA" sz="4000" spc="-1" strike="noStrike">
                <a:solidFill>
                  <a:srgbClr val="002060"/>
                </a:solidFill>
                <a:latin typeface="Saysettha OT"/>
                <a:cs typeface="Saysettha OT"/>
              </a:rPr>
              <a:t>ແລະ</a:t>
            </a:r>
            <a:r>
              <a:rPr b="1" lang="en-US" sz="4000" spc="-1" strike="noStrike">
                <a:solidFill>
                  <a:srgbClr val="002060"/>
                </a:solidFill>
                <a:latin typeface="Saysettha OT"/>
                <a:ea typeface="Saysettha OT"/>
              </a:rPr>
              <a:t> </a:t>
            </a:r>
            <a:r>
              <a:rPr b="1" lang="lo-LA" sz="4000" spc="-1" strike="noStrike">
                <a:solidFill>
                  <a:srgbClr val="002060"/>
                </a:solidFill>
                <a:latin typeface="Saysettha OT"/>
                <a:cs typeface="Saysettha OT"/>
              </a:rPr>
              <a:t>ວິທີການຈົດກ່າຍໃສ່ແບບສອບຖາມ</a:t>
            </a:r>
            <a:endParaRPr b="0" lang="en-US" sz="4000" spc="-1" strike="noStrike">
              <a:solidFill>
                <a:srgbClr val="000000"/>
              </a:solidFill>
              <a:latin typeface="Calibri"/>
            </a:endParaRPr>
          </a:p>
        </p:txBody>
      </p:sp>
      <p:sp>
        <p:nvSpPr>
          <p:cNvPr id="207" name="Right Arrow 5"/>
          <p:cNvSpPr/>
          <p:nvPr/>
        </p:nvSpPr>
        <p:spPr>
          <a:xfrm>
            <a:off x="2133720" y="2819520"/>
            <a:ext cx="2666880" cy="17524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aysettha OT"/>
                <a:cs typeface="Saysettha OT"/>
              </a:rPr>
              <a:t>ການສຳຫຼວດດັດສະນີໝາຍສັງຄົມລາວ</a:t>
            </a:r>
            <a:br>
              <a:rPr sz="4000"/>
            </a:br>
            <a:r>
              <a:rPr b="1" lang="en-US" sz="4000" spc="-1" strike="noStrike">
                <a:solidFill>
                  <a:srgbClr val="000000"/>
                </a:solidFill>
                <a:latin typeface="Saysettha OT"/>
                <a:cs typeface="Saysettha OT"/>
              </a:rPr>
              <a:t>ການອົບຮົມນັກເດີນສຳຫຼວດ</a:t>
            </a:r>
            <a:endParaRPr b="0" lang="en-US" sz="4000" spc="-1" strike="noStrike">
              <a:solidFill>
                <a:srgbClr val="000000"/>
              </a:solidFill>
              <a:latin typeface="Calibri"/>
            </a:endParaRPr>
          </a:p>
        </p:txBody>
      </p:sp>
      <p:sp>
        <p:nvSpPr>
          <p:cNvPr id="209" name="PlaceHolder 2"/>
          <p:cNvSpPr>
            <a:spLocks noGrp="1"/>
          </p:cNvSpPr>
          <p:nvPr>
            <p:ph type="subTitle"/>
          </p:nvPr>
        </p:nvSpPr>
        <p:spPr>
          <a:xfrm>
            <a:off x="457200" y="3352320"/>
            <a:ext cx="8229600" cy="25909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8989"/>
                </a:solidFill>
                <a:latin typeface="Saysettha OT"/>
                <a:cs typeface="Saysettha OT"/>
              </a:rPr>
              <a:t>ແບບສອບຖາມສຳລັບເດັກອາຍຸຕ່ຳກວ່າ </a:t>
            </a:r>
            <a:r>
              <a:rPr b="0" lang="en-US" sz="3600" spc="-1" strike="noStrike">
                <a:solidFill>
                  <a:srgbClr val="898989"/>
                </a:solidFill>
                <a:latin typeface="Saysettha OT"/>
                <a:ea typeface="Saysettha OT"/>
              </a:rPr>
              <a:t>5 </a:t>
            </a:r>
            <a:r>
              <a:rPr b="0" lang="en-US" sz="3600" spc="-1" strike="noStrike">
                <a:solidFill>
                  <a:srgbClr val="898989"/>
                </a:solidFill>
                <a:latin typeface="Saysettha OT"/>
                <a:cs typeface="Saysettha OT"/>
              </a:rPr>
              <a:t>ປີ</a:t>
            </a:r>
            <a:r>
              <a:rPr b="0" lang="en-US" sz="3600" spc="-1" strike="noStrike">
                <a:solidFill>
                  <a:srgbClr val="898989"/>
                </a:solidFill>
                <a:latin typeface="Saysettha OT"/>
                <a:ea typeface="Saysettha OT"/>
              </a:rPr>
              <a:t>:</a:t>
            </a:r>
            <a:endParaRPr b="0" lang="en-US" sz="36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98989"/>
                </a:solidFill>
                <a:latin typeface="Saysettha OT"/>
                <a:cs typeface="Saysettha OT"/>
              </a:rPr>
              <a:t>ການດູແລເດັກເຈັບ</a:t>
            </a:r>
            <a:endParaRPr b="0" lang="en-US" sz="4000" spc="-1" strike="noStrike">
              <a:solidFill>
                <a:srgbClr val="000000"/>
              </a:solidFill>
              <a:latin typeface="Calibri"/>
            </a:endParaRPr>
          </a:p>
        </p:txBody>
      </p:sp>
      <p:sp>
        <p:nvSpPr>
          <p:cNvPr id="210" name="Rectangle 17"/>
          <p:cNvSpPr/>
          <p:nvPr/>
        </p:nvSpPr>
        <p:spPr>
          <a:xfrm>
            <a:off x="457200" y="2819520"/>
            <a:ext cx="8229600" cy="75960"/>
          </a:xfrm>
          <a:prstGeom prst="rect">
            <a:avLst/>
          </a:prstGeom>
          <a:solidFill>
            <a:srgbClr val="339966"/>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304560"/>
            <a:ext cx="3429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Saysettha OT"/>
                <a:cs typeface="Saysettha OT"/>
              </a:rPr>
              <a:t>ພາບລວມ</a:t>
            </a:r>
            <a:endParaRPr b="0" lang="en-US" sz="4400" spc="-1" strike="noStrike">
              <a:solidFill>
                <a:srgbClr val="000000"/>
              </a:solidFill>
              <a:latin typeface="Calibri"/>
            </a:endParaRPr>
          </a:p>
        </p:txBody>
      </p:sp>
      <p:sp>
        <p:nvSpPr>
          <p:cNvPr id="212"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aysettha OT"/>
                <a:cs typeface="Saysettha OT"/>
              </a:rPr>
              <a:t>ອັກເສບປອດ</a:t>
            </a:r>
            <a:endParaRPr b="0" lang="en-US" sz="3100" spc="-1" strike="noStrike">
              <a:solidFill>
                <a:srgbClr val="000000"/>
              </a:solidFill>
              <a:latin typeface="Calibri"/>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aysettha OT"/>
                <a:cs typeface="Saysettha OT"/>
              </a:rPr>
              <a:t>ຖອກທ້ອງ</a:t>
            </a:r>
            <a:endParaRPr b="0" lang="en-US" sz="3100" spc="-1" strike="noStrike">
              <a:solidFill>
                <a:srgbClr val="000000"/>
              </a:solidFill>
              <a:latin typeface="Calibri"/>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aysettha OT"/>
                <a:cs typeface="Saysettha OT"/>
              </a:rPr>
              <a:t>ການເກັບມ້ຽນອາຈົມຂອງເດັກ</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Calibri"/>
                <a:ea typeface="MS PGothic"/>
              </a:rPr>
              <a:t>MICS4 Survey Design Workshop</a:t>
            </a:r>
            <a:endParaRPr b="0" lang="en-US" sz="1200" spc="-1" strike="noStrike">
              <a:solidFill>
                <a:srgbClr val="000000"/>
              </a:solidFill>
              <a:latin typeface="Calibri"/>
            </a:endParaRPr>
          </a:p>
        </p:txBody>
      </p:sp>
      <p:sp>
        <p:nvSpPr>
          <p:cNvPr id="21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aysettha OT"/>
                <a:cs typeface="Saysettha OT"/>
              </a:rPr>
              <a:t>ສາຍເຫດຕົ້ນຕໍທີ່ພາໃຫ້ເດັກເສຍຊີວິດ </a:t>
            </a:r>
            <a:endParaRPr b="0" lang="en-US" sz="36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060"/>
                </a:solidFill>
                <a:latin typeface="Saysettha OT"/>
                <a:cs typeface="Saysettha OT"/>
              </a:rPr>
              <a:t>ອັກເສບປອດ ແລະ ຖ້ກທ້ອງ ແມ່ນສາຍເຫດຕົ້ນຕໍຂອງການຕາຍຂອງເດັກອາຍຸຕ່ຳກວ່າ </a:t>
            </a:r>
            <a:r>
              <a:rPr b="1" lang="en-US" sz="1900" spc="-1" strike="noStrike">
                <a:solidFill>
                  <a:srgbClr val="002060"/>
                </a:solidFill>
                <a:latin typeface="Saysettha OT"/>
                <a:ea typeface="Saysettha OT"/>
              </a:rPr>
              <a:t>5 </a:t>
            </a:r>
            <a:r>
              <a:rPr b="1" lang="en-US" sz="1900" spc="-1" strike="noStrike">
                <a:solidFill>
                  <a:srgbClr val="002060"/>
                </a:solidFill>
                <a:latin typeface="Saysettha OT"/>
                <a:cs typeface="Saysettha OT"/>
              </a:rPr>
              <a:t>ປີ ເທົ່າກັບ </a:t>
            </a:r>
            <a:r>
              <a:rPr b="1" lang="en-US" sz="1900" spc="-1" strike="noStrike">
                <a:solidFill>
                  <a:srgbClr val="002060"/>
                </a:solidFill>
                <a:latin typeface="Saysettha OT"/>
                <a:ea typeface="Saysettha OT"/>
              </a:rPr>
              <a:t>40% </a:t>
            </a:r>
            <a:r>
              <a:rPr b="1" lang="en-US" sz="1900" spc="-1" strike="noStrike">
                <a:solidFill>
                  <a:srgbClr val="002060"/>
                </a:solidFill>
                <a:latin typeface="Saysettha OT"/>
                <a:cs typeface="Saysettha OT"/>
              </a:rPr>
              <a:t>ຂອງການຕາຍລວມຂອງເດັກ ໃນແຕ່ລະປີ</a:t>
            </a:r>
            <a:endParaRPr b="0" lang="en-US" sz="1900" spc="-1" strike="noStrike">
              <a:solidFill>
                <a:srgbClr val="000000"/>
              </a:solidFill>
              <a:latin typeface="Calibri"/>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060"/>
                </a:solidFill>
                <a:latin typeface="Saysettha OT"/>
                <a:cs typeface="Saysettha OT"/>
              </a:rPr>
              <a:t>ແຫ່ຼງຂໍ້ມູນ</a:t>
            </a:r>
            <a:r>
              <a:rPr b="0" i="1" lang="en-US" sz="1600" spc="-1" strike="noStrike">
                <a:solidFill>
                  <a:srgbClr val="002060"/>
                </a:solidFill>
                <a:latin typeface="Saysettha OT"/>
                <a:ea typeface="Saysettha OT"/>
              </a:rPr>
              <a:t>: </a:t>
            </a:r>
            <a:r>
              <a:rPr b="0" i="1" lang="en-US" sz="1600" spc="-1" strike="noStrike">
                <a:solidFill>
                  <a:srgbClr val="002060"/>
                </a:solidFill>
                <a:latin typeface="Saysettha OT"/>
                <a:cs typeface="Saysettha OT"/>
              </a:rPr>
              <a:t>ການຄາດຄະເນຂອງອົງການອະນາໄມໂລກກ່ຽວກັບການເປັນພະຍາດທົ່ວໂລກ</a:t>
            </a:r>
            <a:r>
              <a:rPr b="0" i="1" lang="en-US" sz="1600" spc="-1" strike="noStrike">
                <a:solidFill>
                  <a:srgbClr val="002060"/>
                </a:solidFill>
                <a:latin typeface="Saysettha OT"/>
                <a:ea typeface="Saysettha OT"/>
              </a:rPr>
              <a:t>(2004)</a:t>
            </a:r>
            <a:endParaRPr b="0" lang="en-US" sz="1600" spc="-1" strike="noStrike">
              <a:solidFill>
                <a:srgbClr val="000000"/>
              </a:solidFill>
              <a:latin typeface="Calibri"/>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060"/>
                </a:solidFill>
                <a:latin typeface="Saysettha OT"/>
                <a:cs typeface="Saysettha OT"/>
              </a:rPr>
              <a:t>ໝາຍເຫດ</a:t>
            </a:r>
            <a:r>
              <a:rPr b="0" i="1" lang="en-US" sz="1600" spc="-1" strike="noStrike">
                <a:solidFill>
                  <a:srgbClr val="002060"/>
                </a:solidFill>
                <a:latin typeface="Saysettha OT"/>
                <a:ea typeface="Saysettha OT"/>
              </a:rPr>
              <a:t>: </a:t>
            </a:r>
            <a:r>
              <a:rPr b="0" i="1" lang="en-US" sz="1600" spc="-1" strike="noStrike">
                <a:solidFill>
                  <a:srgbClr val="002060"/>
                </a:solidFill>
                <a:latin typeface="Saysettha OT"/>
                <a:cs typeface="Saysettha OT"/>
              </a:rPr>
              <a:t>ໃນໂລກ</a:t>
            </a:r>
            <a:r>
              <a:rPr b="0" i="1" lang="en-US" sz="1600" spc="-1" strike="noStrike">
                <a:solidFill>
                  <a:srgbClr val="002060"/>
                </a:solidFill>
                <a:latin typeface="Saysettha OT"/>
                <a:ea typeface="Saysettha OT"/>
              </a:rPr>
              <a:t>, </a:t>
            </a:r>
            <a:r>
              <a:rPr b="0" i="1" lang="en-US" sz="1600" spc="-1" strike="noStrike">
                <a:solidFill>
                  <a:srgbClr val="002060"/>
                </a:solidFill>
                <a:latin typeface="Saysettha OT"/>
                <a:cs typeface="Saysettha OT"/>
              </a:rPr>
              <a:t>ຫຼາຍກວ່າ </a:t>
            </a:r>
            <a:r>
              <a:rPr b="0" i="1" lang="en-US" sz="1600" spc="-1" strike="noStrike">
                <a:solidFill>
                  <a:srgbClr val="002060"/>
                </a:solidFill>
                <a:latin typeface="Saysettha OT"/>
                <a:ea typeface="Saysettha OT"/>
              </a:rPr>
              <a:t>1/3</a:t>
            </a:r>
            <a:r>
              <a:rPr b="0" i="1" lang="en-US" sz="1600" spc="-1" strike="noStrike">
                <a:solidFill>
                  <a:srgbClr val="002060"/>
                </a:solidFill>
                <a:latin typeface="Saysettha OT"/>
                <a:cs typeface="Saysettha OT"/>
              </a:rPr>
              <a:t>ຂອງການຕາຍຂອງເດັກອາຍຸຕ່ຳກວ່າ </a:t>
            </a:r>
            <a:r>
              <a:rPr b="0" i="1" lang="en-US" sz="1600" spc="-1" strike="noStrike">
                <a:solidFill>
                  <a:srgbClr val="002060"/>
                </a:solidFill>
                <a:latin typeface="Saysettha OT"/>
                <a:ea typeface="Saysettha OT"/>
              </a:rPr>
              <a:t>5 </a:t>
            </a:r>
            <a:r>
              <a:rPr b="0" i="1" lang="en-US" sz="1600" spc="-1" strike="noStrike">
                <a:solidFill>
                  <a:srgbClr val="002060"/>
                </a:solidFill>
                <a:latin typeface="Saysettha OT"/>
                <a:cs typeface="Saysettha OT"/>
              </a:rPr>
              <a:t>ປີ ແມ່ນຍ້ອນຂາດອາຫານ</a:t>
            </a:r>
            <a:r>
              <a:rPr b="0" i="1" lang="en-US" sz="1600" spc="-1" strike="noStrike">
                <a:solidFill>
                  <a:srgbClr val="002060"/>
                </a:solidFill>
                <a:latin typeface="Saysettha OT"/>
                <a:ea typeface="Saysettha OT"/>
              </a:rPr>
              <a:t>.</a:t>
            </a:r>
            <a:endParaRPr b="0" lang="en-US" sz="1600" spc="-1" strike="noStrike">
              <a:solidFill>
                <a:srgbClr val="000000"/>
              </a:solidFill>
              <a:latin typeface="Calibri"/>
            </a:endParaRPr>
          </a:p>
        </p:txBody>
      </p:sp>
      <p:pic>
        <p:nvPicPr>
          <p:cNvPr id="216" name="Chart 6" descr=""/>
          <p:cNvPicPr/>
          <p:nvPr/>
        </p:nvPicPr>
        <p:blipFill>
          <a:blip r:embed="rId1"/>
          <a:stretch/>
        </p:blipFill>
        <p:spPr>
          <a:xfrm>
            <a:off x="1146240" y="3041640"/>
            <a:ext cx="7089840" cy="3809880"/>
          </a:xfrm>
          <a:prstGeom prst="rect">
            <a:avLst/>
          </a:prstGeom>
          <a:ln w="0">
            <a:noFill/>
          </a:ln>
        </p:spPr>
      </p:pic>
      <p:sp>
        <p:nvSpPr>
          <p:cNvPr id="217" name="Text Box 7"/>
          <p:cNvSpPr/>
          <p:nvPr/>
        </p:nvSpPr>
        <p:spPr>
          <a:xfrm>
            <a:off x="4267080" y="38862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ece1"/>
                </a:solidFill>
                <a:latin typeface="Saysettha OT"/>
              </a:rPr>
              <a:t>ອັກເສບປອດ</a:t>
            </a:r>
            <a:endParaRPr b="0" lang="en-US" sz="1200" spc="-1" strike="noStrike">
              <a:solidFill>
                <a:srgbClr val="000000"/>
              </a:solidFill>
              <a:latin typeface="Calibri"/>
            </a:endParaRPr>
          </a:p>
        </p:txBody>
      </p:sp>
      <p:sp>
        <p:nvSpPr>
          <p:cNvPr id="218" name="Text Box 8"/>
          <p:cNvSpPr/>
          <p:nvPr/>
        </p:nvSpPr>
        <p:spPr>
          <a:xfrm>
            <a:off x="3352680" y="35812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ece1"/>
                </a:solidFill>
                <a:latin typeface="Saysettha OT"/>
              </a:rPr>
              <a:t>ຖອກທ້ອງ</a:t>
            </a:r>
            <a:endParaRPr b="0" lang="en-US" sz="1200" spc="-1" strike="noStrike">
              <a:solidFill>
                <a:srgbClr val="000000"/>
              </a:solidFill>
              <a:latin typeface="Calibri"/>
            </a:endParaRPr>
          </a:p>
        </p:txBody>
      </p:sp>
      <p:sp>
        <p:nvSpPr>
          <p:cNvPr id="219" name="Text Box 9"/>
          <p:cNvSpPr/>
          <p:nvPr/>
        </p:nvSpPr>
        <p:spPr>
          <a:xfrm>
            <a:off x="3124080" y="47242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ece1"/>
                </a:solidFill>
                <a:latin typeface="Saysettha OT"/>
              </a:rPr>
              <a:t>ອື່ນໆ</a:t>
            </a:r>
            <a:endParaRPr b="0" lang="en-US" sz="1200" spc="-1" strike="noStrike">
              <a:solidFill>
                <a:srgbClr val="000000"/>
              </a:solidFill>
              <a:latin typeface="Calibri"/>
            </a:endParaRPr>
          </a:p>
        </p:txBody>
      </p:sp>
      <p:sp>
        <p:nvSpPr>
          <p:cNvPr id="220" name="Text Box 10"/>
          <p:cNvSpPr/>
          <p:nvPr/>
        </p:nvSpPr>
        <p:spPr>
          <a:xfrm>
            <a:off x="4648320" y="4572000"/>
            <a:ext cx="1600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ece1"/>
                </a:solidFill>
                <a:latin typeface="Saysettha OT"/>
              </a:rPr>
              <a:t>ສາຍຂອງເດັກເກີ</a:t>
            </a:r>
            <a:r>
              <a:rPr b="1" lang="th-TH" sz="1200" spc="-1" strike="noStrike">
                <a:solidFill>
                  <a:srgbClr val="eeece1"/>
                </a:solidFill>
                <a:latin typeface="Saysettha OT"/>
                <a:cs typeface="Cordia New"/>
              </a:rPr>
              <a:t>ດໃໝ່</a:t>
            </a:r>
            <a:endParaRPr b="0" lang="en-US" sz="1200" spc="-1" strike="noStrike">
              <a:solidFill>
                <a:srgbClr val="000000"/>
              </a:solidFill>
              <a:latin typeface="Calibri"/>
            </a:endParaRPr>
          </a:p>
        </p:txBody>
      </p:sp>
      <p:sp>
        <p:nvSpPr>
          <p:cNvPr id="221" name="Text Box 11"/>
          <p:cNvSpPr/>
          <p:nvPr/>
        </p:nvSpPr>
        <p:spPr>
          <a:xfrm>
            <a:off x="3657600" y="5334120"/>
            <a:ext cx="609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eeece1"/>
                </a:solidFill>
                <a:latin typeface="Calibri"/>
                <a:cs typeface="Cordia New"/>
              </a:rPr>
              <a:t>ມາລາ ເລຍ</a:t>
            </a:r>
            <a:endParaRPr b="0" lang="en-US" sz="1200" spc="-1" strike="noStrike">
              <a:solidFill>
                <a:srgbClr val="000000"/>
              </a:solidFill>
              <a:latin typeface="Calibri"/>
            </a:endParaRPr>
          </a:p>
        </p:txBody>
      </p:sp>
      <p:sp>
        <p:nvSpPr>
          <p:cNvPr id="222" name="Text Box 12"/>
          <p:cNvSpPr/>
          <p:nvPr/>
        </p:nvSpPr>
        <p:spPr>
          <a:xfrm>
            <a:off x="4038480" y="5638680"/>
            <a:ext cx="457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000" spc="-1" strike="noStrike">
                <a:solidFill>
                  <a:srgbClr val="eeece1"/>
                </a:solidFill>
                <a:latin typeface="Saysettha OT"/>
                <a:cs typeface="Cordia New"/>
              </a:rPr>
              <a:t>ໝາກແດງ</a:t>
            </a:r>
            <a:endParaRPr b="0" lang="en-US" sz="1000" spc="-1" strike="noStrike">
              <a:solidFill>
                <a:srgbClr val="000000"/>
              </a:solidFill>
              <a:latin typeface="Calibri"/>
            </a:endParaRPr>
          </a:p>
        </p:txBody>
      </p:sp>
      <p:sp>
        <p:nvSpPr>
          <p:cNvPr id="223" name="Text Box 13"/>
          <p:cNvSpPr/>
          <p:nvPr/>
        </p:nvSpPr>
        <p:spPr>
          <a:xfrm>
            <a:off x="4572000" y="5638680"/>
            <a:ext cx="3808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 Box 14"/>
          <p:cNvSpPr/>
          <p:nvPr/>
        </p:nvSpPr>
        <p:spPr>
          <a:xfrm>
            <a:off x="4495680" y="548640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000" spc="-1" strike="noStrike">
                <a:solidFill>
                  <a:srgbClr val="eeece1"/>
                </a:solidFill>
                <a:latin typeface="Saysettha OT"/>
                <a:cs typeface="Cordia New"/>
              </a:rPr>
              <a:t>ບາດແຜ</a:t>
            </a:r>
            <a:endParaRPr b="0" lang="en-US" sz="1000" spc="-1" strike="noStrike">
              <a:solidFill>
                <a:srgbClr val="000000"/>
              </a:solidFill>
              <a:latin typeface="Calibri"/>
            </a:endParaRPr>
          </a:p>
        </p:txBody>
      </p:sp>
      <p:sp>
        <p:nvSpPr>
          <p:cNvPr id="225" name="Text Box 15"/>
          <p:cNvSpPr/>
          <p:nvPr/>
        </p:nvSpPr>
        <p:spPr>
          <a:xfrm>
            <a:off x="4419720" y="6019920"/>
            <a:ext cx="18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000" spc="-1" strike="noStrike">
                <a:solidFill>
                  <a:srgbClr val="eeece1"/>
                </a:solidFill>
                <a:latin typeface="Saysettha OT"/>
                <a:cs typeface="Cordia New"/>
              </a:rPr>
              <a:t>ເອດ</a:t>
            </a:r>
            <a:endParaRPr b="0" lang="en-US" sz="1000" spc="-1" strike="noStrike">
              <a:solidFill>
                <a:srgbClr val="000000"/>
              </a:solidFill>
              <a:latin typeface="Calibri"/>
            </a:endParaRPr>
          </a:p>
        </p:txBody>
      </p:sp>
      <p:sp>
        <p:nvSpPr>
          <p:cNvPr id="226" name="Text Box 16"/>
          <p:cNvSpPr/>
          <p:nvPr/>
        </p:nvSpPr>
        <p:spPr>
          <a:xfrm>
            <a:off x="4191120" y="661356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000" spc="-1" strike="noStrike">
                <a:solidFill>
                  <a:srgbClr val="eeece1"/>
                </a:solidFill>
                <a:latin typeface="Saysettha OT"/>
                <a:cs typeface="Cordia New"/>
              </a:rPr>
              <a:t>ເອດ</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360"/>
            <a:ext cx="2895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Saysettha OT"/>
                <a:cs typeface="Saysettha OT"/>
              </a:rPr>
              <a:t>ອັກເສບປອດ</a:t>
            </a:r>
            <a:endParaRPr b="0" lang="en-US" sz="4000" spc="-1" strike="noStrike">
              <a:solidFill>
                <a:srgbClr val="000000"/>
              </a:solidFill>
              <a:latin typeface="Calibri"/>
            </a:endParaRPr>
          </a:p>
        </p:txBody>
      </p:sp>
      <p:sp>
        <p:nvSpPr>
          <p:cNvPr id="228" name="Rectangle 3"/>
          <p:cNvSpPr/>
          <p:nvPr/>
        </p:nvSpPr>
        <p:spPr>
          <a:xfrm>
            <a:off x="457200" y="14479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49"/>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aysettha OT"/>
                <a:cs typeface="MS PGothic"/>
              </a:rPr>
              <a:t>ອີງໃສ່ກໍລະນີສົງໃສອັກເສບປອດ </a:t>
            </a:r>
            <a:r>
              <a:rPr b="0" lang="en-US" sz="2600" spc="-1" strike="noStrike">
                <a:solidFill>
                  <a:srgbClr val="000000"/>
                </a:solidFill>
                <a:latin typeface="Saysettha OT"/>
                <a:ea typeface="MS PGothic"/>
              </a:rPr>
              <a:t>(</a:t>
            </a:r>
            <a:r>
              <a:rPr b="0" lang="en-US" sz="2600" spc="-1" strike="noStrike">
                <a:solidFill>
                  <a:srgbClr val="000000"/>
                </a:solidFill>
                <a:latin typeface="Saysettha OT"/>
                <a:cs typeface="MS PGothic"/>
              </a:rPr>
              <a:t>ຜ່ານມາໄດ້ອີງໃສ່ພະຍາດອັກເສບລະບົບຫາຍໃຈຮຸນແຮງ</a:t>
            </a:r>
            <a:r>
              <a:rPr b="0" lang="en-US" sz="2600" spc="-1" strike="noStrike">
                <a:solidFill>
                  <a:srgbClr val="000000"/>
                </a:solidFill>
                <a:latin typeface="Saysettha OT"/>
                <a:ea typeface="MS PGothic"/>
              </a:rPr>
              <a:t>)</a:t>
            </a:r>
            <a:endParaRPr b="0" lang="en-US" sz="2600" spc="-1" strike="noStrike">
              <a:solidFill>
                <a:srgbClr val="000000"/>
              </a:solidFill>
              <a:latin typeface="Calibri"/>
            </a:endParaRPr>
          </a:p>
          <a:p>
            <a:pPr marL="343080" indent="-343080">
              <a:lnSpc>
                <a:spcPct val="115000"/>
              </a:lnSpc>
              <a:spcBef>
                <a:spcPts val="649"/>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15000"/>
              </a:lnSpc>
              <a:spcBef>
                <a:spcPts val="649"/>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aysettha OT"/>
                <a:cs typeface="MS PGothic"/>
              </a:rPr>
              <a:t>ສົງໃສອັກເສບປອດຊຶ່ງລວມເອົາເດັກທີ່ເປັນພະຍາດພ້ອມດ້ວຍ ອາການໄອ ຕິດຕາມດ້ວຍການຫາຍໃຈໄວ ແລະ</a:t>
            </a:r>
            <a:r>
              <a:rPr b="0" lang="en-US" sz="2600" spc="-1" strike="noStrike">
                <a:solidFill>
                  <a:srgbClr val="000000"/>
                </a:solidFill>
                <a:latin typeface="Saysettha OT"/>
                <a:ea typeface="MS PGothic"/>
              </a:rPr>
              <a:t>/</a:t>
            </a:r>
            <a:r>
              <a:rPr b="0" lang="en-US" sz="2600" spc="-1" strike="noStrike">
                <a:solidFill>
                  <a:srgbClr val="000000"/>
                </a:solidFill>
                <a:latin typeface="Saysettha OT"/>
                <a:cs typeface="MS PGothic"/>
              </a:rPr>
              <a:t>ຫຼື ຫາຍໃຈຍາກ ພາຍໃນ </a:t>
            </a:r>
            <a:r>
              <a:rPr b="0" lang="en-US" sz="2600" spc="-1" strike="noStrike">
                <a:solidFill>
                  <a:srgbClr val="000000"/>
                </a:solidFill>
                <a:latin typeface="Saysettha OT"/>
                <a:ea typeface="MS PGothic"/>
              </a:rPr>
              <a:t>2 </a:t>
            </a:r>
            <a:r>
              <a:rPr b="0" lang="en-US" sz="2600" spc="-1" strike="noStrike">
                <a:solidFill>
                  <a:srgbClr val="000000"/>
                </a:solidFill>
                <a:latin typeface="Saysettha OT"/>
                <a:cs typeface="MS PGothic"/>
              </a:rPr>
              <a:t>ອາທິດຜ່ານມາ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Saysettha La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15000"/>
              </a:lnSpc>
              <a:spcBef>
                <a:spcPts val="649"/>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aysettha OT"/>
                <a:cs typeface="MS PGothic"/>
              </a:rPr>
              <a:t>ກໍລະນີ’ເປັນຫວັດຕ້ອງໄດ້ຖາມຄຳຖາມອີກວ່າ</a:t>
            </a:r>
            <a:r>
              <a:rPr b="0" lang="en-US" sz="2600" spc="-1" strike="noStrike">
                <a:solidFill>
                  <a:srgbClr val="000000"/>
                </a:solidFill>
                <a:latin typeface="Saysettha OT"/>
                <a:ea typeface="MS PGothic"/>
              </a:rPr>
              <a:t>: “</a:t>
            </a:r>
            <a:r>
              <a:rPr b="0" lang="en-US" sz="2600" spc="-1" strike="noStrike">
                <a:solidFill>
                  <a:srgbClr val="000000"/>
                </a:solidFill>
                <a:latin typeface="Saysettha OT"/>
                <a:cs typeface="MS PGothic"/>
              </a:rPr>
              <a:t>ອາ </a:t>
            </a:r>
            <a:r>
              <a:rPr b="0" lang="en-US" sz="2600" spc="-1" strike="noStrike">
                <a:solidFill>
                  <a:srgbClr val="000000"/>
                </a:solidFill>
                <a:latin typeface="Arial"/>
                <a:cs typeface="MS PGothic"/>
              </a:rPr>
              <a:t>ການຫາຍໃຈໄວ ແລະ</a:t>
            </a:r>
            <a:r>
              <a:rPr b="0" lang="en-US" sz="2600" spc="-1" strike="noStrike">
                <a:solidFill>
                  <a:srgbClr val="000000"/>
                </a:solidFill>
                <a:latin typeface="Arial"/>
                <a:ea typeface="MS PGothic"/>
              </a:rPr>
              <a:t>/</a:t>
            </a:r>
            <a:r>
              <a:rPr b="0" lang="en-US" sz="2600" spc="-1" strike="noStrike">
                <a:solidFill>
                  <a:srgbClr val="000000"/>
                </a:solidFill>
                <a:latin typeface="Arial"/>
                <a:cs typeface="MS PGothic"/>
              </a:rPr>
              <a:t>ຫຼື ຫາຍໃຈຍາກຍ້ອນມີບັນຫາ ຢູ່ຜົ້ງເອິກຫຼື ຍ້ອນຕັນດັງຫຼື ຂີ້ມູກຍ້ອຍບໍ່</a:t>
            </a:r>
            <a:r>
              <a:rPr b="0" lang="en-US" sz="1800" spc="-1" strike="noStrike">
                <a:solidFill>
                  <a:srgbClr val="000000"/>
                </a:solidFill>
                <a:latin typeface="Arial"/>
                <a:ea typeface="MS PGothic"/>
              </a:rPr>
              <a:t>?</a:t>
            </a:r>
            <a:r>
              <a:rPr b="0" lang="en-US" sz="2600" spc="-1" strike="noStrike">
                <a:solidFill>
                  <a:srgbClr val="000000"/>
                </a:solidFill>
                <a:latin typeface="Saysettha OT"/>
                <a:ea typeface="MS PGothic"/>
              </a:rPr>
              <a:t>”</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S4 Survey Design Workshop</a:t>
            </a:r>
            <a:endParaRPr b="0" lang="en-US" sz="1200" spc="-1" strike="noStrike">
              <a:solidFill>
                <a:srgbClr val="000000"/>
              </a:solidFill>
              <a:latin typeface="Calibri"/>
            </a:endParaRPr>
          </a:p>
        </p:txBody>
      </p:sp>
      <p:grpSp>
        <p:nvGrpSpPr>
          <p:cNvPr id="103" name="Group 14"/>
          <p:cNvGrpSpPr/>
          <p:nvPr/>
        </p:nvGrpSpPr>
        <p:grpSpPr>
          <a:xfrm>
            <a:off x="152280" y="304920"/>
            <a:ext cx="9172800" cy="6553080"/>
            <a:chOff x="152280" y="304920"/>
            <a:chExt cx="9172800" cy="6553080"/>
          </a:xfrm>
        </p:grpSpPr>
        <p:sp>
          <p:nvSpPr>
            <p:cNvPr id="104" name="Text Box 4"/>
            <p:cNvSpPr/>
            <p:nvPr/>
          </p:nvSpPr>
          <p:spPr>
            <a:xfrm>
              <a:off x="380880" y="304920"/>
              <a:ext cx="1828800" cy="67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b65ab"/>
                  </a:solidFill>
                  <a:latin typeface="Saysettha Lao"/>
                </a:rPr>
                <a:t>¡¾­-¦¿-Í¸© ©ñ©-¦½-­óÏ¾¨</a:t>
              </a:r>
              <a:endParaRPr b="0" lang="en-US" sz="1000" spc="-1" strike="noStrike">
                <a:solidFill>
                  <a:srgbClr val="000000"/>
                </a:solidFill>
                <a:latin typeface="Calibri"/>
              </a:endParaRPr>
            </a:p>
            <a:p>
              <a:pP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b65ab"/>
                  </a:solidFill>
                  <a:latin typeface="Saysettha Lao"/>
                </a:rPr>
                <a:t>¦ñ¤£ö´-ì¾¸ </a:t>
              </a:r>
              <a:r>
                <a:rPr b="1" lang="en-GB" sz="1000" spc="-1" strike="noStrike">
                  <a:solidFill>
                    <a:srgbClr val="2b65ab"/>
                  </a:solidFill>
                  <a:latin typeface="Arial"/>
                </a:rPr>
                <a:t>LSIS(MICS/DHS  </a:t>
              </a:r>
              <a:endParaRPr b="0" lang="en-US" sz="1000" spc="-1" strike="noStrike">
                <a:solidFill>
                  <a:srgbClr val="000000"/>
                </a:solidFill>
                <a:latin typeface="Calibri"/>
              </a:endParaRPr>
            </a:p>
          </p:txBody>
        </p:sp>
        <p:pic>
          <p:nvPicPr>
            <p:cNvPr id="105" name="Picture 5" descr=""/>
            <p:cNvPicPr/>
            <p:nvPr/>
          </p:nvPicPr>
          <p:blipFill>
            <a:blip r:embed="rId1"/>
            <a:stretch/>
          </p:blipFill>
          <p:spPr>
            <a:xfrm>
              <a:off x="3047760" y="457200"/>
              <a:ext cx="5533920" cy="533160"/>
            </a:xfrm>
            <a:prstGeom prst="rect">
              <a:avLst/>
            </a:prstGeom>
            <a:ln w="0">
              <a:noFill/>
            </a:ln>
          </p:spPr>
        </p:pic>
        <p:pic>
          <p:nvPicPr>
            <p:cNvPr id="106" name="Picture 8" descr=""/>
            <p:cNvPicPr/>
            <p:nvPr/>
          </p:nvPicPr>
          <p:blipFill>
            <a:blip r:embed="rId2"/>
            <a:stretch/>
          </p:blipFill>
          <p:spPr>
            <a:xfrm>
              <a:off x="152280" y="990720"/>
              <a:ext cx="9172800" cy="5867280"/>
            </a:xfrm>
            <a:prstGeom prst="rect">
              <a:avLst/>
            </a:prstGeom>
            <a:ln w="0">
              <a:noFill/>
            </a:ln>
          </p:spPr>
        </p:pic>
      </p:grpSp>
      <p:grpSp>
        <p:nvGrpSpPr>
          <p:cNvPr id="107" name="Text Box 44"/>
          <p:cNvGrpSpPr/>
          <p:nvPr/>
        </p:nvGrpSpPr>
        <p:grpSpPr>
          <a:xfrm>
            <a:off x="2730600" y="3541680"/>
            <a:ext cx="3968640" cy="3143520"/>
            <a:chOff x="2730600" y="3541680"/>
            <a:chExt cx="3968640" cy="3143520"/>
          </a:xfrm>
        </p:grpSpPr>
        <p:pic>
          <p:nvPicPr>
            <p:cNvPr id="108" name="Text Box 44" descr=""/>
            <p:cNvPicPr/>
            <p:nvPr/>
          </p:nvPicPr>
          <p:blipFill>
            <a:blip r:embed="rId3"/>
            <a:stretch/>
          </p:blipFill>
          <p:spPr>
            <a:xfrm>
              <a:off x="2730600" y="3541680"/>
              <a:ext cx="3968640" cy="3048120"/>
            </a:xfrm>
            <a:prstGeom prst="rect">
              <a:avLst/>
            </a:prstGeom>
            <a:ln w="0">
              <a:noFill/>
            </a:ln>
          </p:spPr>
        </p:pic>
        <p:sp>
          <p:nvSpPr>
            <p:cNvPr id="109" name=""/>
            <p:cNvSpPr/>
            <p:nvPr/>
          </p:nvSpPr>
          <p:spPr>
            <a:xfrm>
              <a:off x="2895480" y="3705120"/>
              <a:ext cx="3733920" cy="29800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125"/>
                </a:spcBef>
                <a:buClr>
                  <a:srgbClr val="ffffff"/>
                </a:buClr>
                <a:buFont typeface="Saysettha La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aysettha Lao"/>
                </a:rPr>
                <a:t>²¾¡ê¿ºò© (UF1-UF6) ¥¿À¯ñ</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ªÉº¤ªˆ´Ã¦ÈÃ¹É¦¿Àìñ©ê</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ñ­êó ¹ìñ¤¥¾¡Á®®³º´®ñ­</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ó£ö¸À»õº</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 ¦¿Àìñ©ÁìÉ¸</a:t>
              </a:r>
              <a:endParaRPr b="0" lang="en-US" sz="1800" spc="-1" strike="noStrike">
                <a:solidFill>
                  <a:srgbClr val="000000"/>
                </a:solidFill>
                <a:latin typeface="Calibri"/>
              </a:endParaRPr>
            </a:p>
            <a:p>
              <a:pPr marL="177840" indent="-177840">
                <a:lnSpc>
                  <a:spcPct val="100000"/>
                </a:lnSpc>
                <a:spcBef>
                  <a:spcPts val="1125"/>
                </a:spcBef>
                <a:buClr>
                  <a:srgbClr val="ffffff"/>
                </a:buClr>
                <a:buFont typeface="Saysettha La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aysettha Lao"/>
                </a:rPr>
                <a:t>¡¾­</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ì¸´À¢í¾¡ñ­</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º¤À¢©¦¿¹ì¸©, £ö¸À»õº</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 Àì¡ì¿©ñ®®÷¡£ö</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º¤Á´È, Àì¡ì¿©ñ®®÷¡£ö</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º¤À©ñ¡ ¯½¡º®À¯ñ</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ºñ</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¼¸À²ˆºÃ§ÉÃ</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¾</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 ¥¿Á</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À©ñ¡ê†À¢í¾»È¸´Ã­ </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¾</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¹ì¸©</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0">
                                  <p:stCondLst>
                                    <p:cond delay="0"/>
                                  </p:stCondLst>
                                  <p:childTnLst>
                                    <p:set>
                                      <p:cBhvr>
                                        <p:cTn id="13" dur="1" fill="hold">
                                          <p:stCondLst>
                                            <p:cond delay="0"/>
                                          </p:stCondLst>
                                        </p:cTn>
                                        <p:tgtEl>
                                          <p:spTgt spid="107"/>
                                        </p:tgtEl>
                                        <p:attrNameLst>
                                          <p:attrName>style.visibility</p:attrName>
                                        </p:attrNameLst>
                                      </p:cBhvr>
                                      <p:to>
                                        <p:strVal val="visible"/>
                                      </p:to>
                                    </p:set>
                                    <p:animEffect filter="wedge" transition="in">
                                      <p:cBhvr additive="repl">
                                        <p:cTn id="1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0" y="762120"/>
            <a:ext cx="2286000" cy="60958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249"/>
              </a:spcBef>
              <a:buClr>
                <a:srgbClr val="00206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05000"/>
              </a:lnSpc>
              <a:spcBef>
                <a:spcPts val="550"/>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ysettha OT"/>
                <a:cs typeface="MS PGothic"/>
              </a:rPr>
              <a:t>ກໍລະນີສົງ ໃສອັກເສບ ປອດ </a:t>
            </a:r>
            <a:r>
              <a:rPr b="0" lang="en-US" sz="2200" spc="-1" strike="noStrike">
                <a:solidFill>
                  <a:srgbClr val="000000"/>
                </a:solidFill>
                <a:latin typeface="Saysettha OT"/>
                <a:ea typeface="MS PGothic"/>
              </a:rPr>
              <a:t>CA7-CA9</a:t>
            </a:r>
            <a:endParaRPr b="0" lang="en-US" sz="2200" spc="-1" strike="noStrike">
              <a:solidFill>
                <a:srgbClr val="000000"/>
              </a:solidFill>
              <a:latin typeface="Calibri"/>
            </a:endParaRPr>
          </a:p>
          <a:p>
            <a:pPr lvl="1" marL="743040" indent="-285840">
              <a:lnSpc>
                <a:spcPct val="90000"/>
              </a:lnSpc>
              <a:spcBef>
                <a:spcPts val="249"/>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249"/>
              </a:spcBef>
              <a:buClr>
                <a:srgbClr val="00206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249"/>
              </a:spcBef>
              <a:buClr>
                <a:srgbClr val="00206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249"/>
              </a:spcBef>
              <a:buClr>
                <a:srgbClr val="00206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249"/>
              </a:spcBef>
              <a:buClr>
                <a:srgbClr val="00206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spcBef>
                <a:spcPts val="550"/>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ysettha OT"/>
                <a:cs typeface="MS PGothic"/>
              </a:rPr>
              <a:t>ການຊອກ ປີ່ນປົວກໍ ລະນີສົງໃສ ອັກເສບ ປອດ </a:t>
            </a:r>
            <a:r>
              <a:rPr b="0" lang="en-US" sz="2200" spc="-1" strike="noStrike">
                <a:solidFill>
                  <a:srgbClr val="000000"/>
                </a:solidFill>
                <a:latin typeface="Saysettha OT"/>
                <a:ea typeface="MS PGothic"/>
              </a:rPr>
              <a:t>CA10-CA11</a:t>
            </a:r>
            <a:endParaRPr b="0" lang="en-US" sz="2200" spc="-1" strike="noStrike">
              <a:solidFill>
                <a:srgbClr val="000000"/>
              </a:solidFill>
              <a:latin typeface="Calibri"/>
            </a:endParaRPr>
          </a:p>
        </p:txBody>
      </p:sp>
      <p:sp>
        <p:nvSpPr>
          <p:cNvPr id="230" name="PlaceHolder 1"/>
          <p:cNvSpPr>
            <a:spLocks noGrp="1"/>
          </p:cNvSpPr>
          <p:nvPr>
            <p:ph type="title"/>
          </p:nvPr>
        </p:nvSpPr>
        <p:spPr>
          <a:xfrm>
            <a:off x="151920" y="-360"/>
            <a:ext cx="5410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aysettha OT"/>
                <a:cs typeface="Saysettha OT"/>
              </a:rPr>
              <a:t>ປອດອັກເສບ</a:t>
            </a:r>
            <a:r>
              <a:rPr b="1" lang="en-US" sz="3600" spc="-1" strike="noStrike">
                <a:solidFill>
                  <a:srgbClr val="ffff00"/>
                </a:solidFill>
                <a:latin typeface="Saysettha OT"/>
                <a:ea typeface="Saysettha OT"/>
              </a:rPr>
              <a:t>(</a:t>
            </a:r>
            <a:r>
              <a:rPr b="1" lang="en-US" sz="3600" spc="-1" strike="noStrike">
                <a:solidFill>
                  <a:srgbClr val="ffff00"/>
                </a:solidFill>
                <a:latin typeface="Saysettha OT"/>
                <a:cs typeface="Saysettha OT"/>
              </a:rPr>
              <a:t>ຕໍ່</a:t>
            </a:r>
            <a:r>
              <a:rPr b="1" lang="en-US" sz="3600" spc="-1" strike="noStrike">
                <a:solidFill>
                  <a:srgbClr val="ffff00"/>
                </a:solidFill>
                <a:latin typeface="Saysettha OT"/>
                <a:ea typeface="Saysettha OT"/>
              </a:rPr>
              <a:t>:)</a:t>
            </a:r>
            <a:endParaRPr b="0" lang="en-US" sz="3600" spc="-1" strike="noStrike">
              <a:solidFill>
                <a:srgbClr val="000000"/>
              </a:solidFill>
              <a:latin typeface="Calibri"/>
            </a:endParaRPr>
          </a:p>
        </p:txBody>
      </p:sp>
      <p:pic>
        <p:nvPicPr>
          <p:cNvPr id="231" name="Picture 105" descr=""/>
          <p:cNvPicPr/>
          <p:nvPr/>
        </p:nvPicPr>
        <p:blipFill>
          <a:blip r:embed="rId1"/>
          <a:stretch/>
        </p:blipFill>
        <p:spPr>
          <a:xfrm>
            <a:off x="2133720" y="609480"/>
            <a:ext cx="6705360" cy="6248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0" y="1066680"/>
            <a:ext cx="8229600" cy="39528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90000"/>
              </a:lnSpc>
              <a:spcBef>
                <a:spcPts val="550"/>
              </a:spcBef>
              <a:buClr>
                <a:srgbClr val="00206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Saysettha OT"/>
                <a:cs typeface="Arial"/>
              </a:rPr>
              <a:t>ການໃຊ້ຢາຕ້ານເຊື້ອສຳລັບປີ່ນປົວສົງໃສອັກເສບປອດ </a:t>
            </a:r>
            <a:r>
              <a:rPr b="0" lang="en-US" sz="2200" spc="-1" strike="noStrike">
                <a:solidFill>
                  <a:srgbClr val="002060"/>
                </a:solidFill>
                <a:latin typeface="Saysettha OT"/>
                <a:ea typeface="Arial"/>
              </a:rPr>
              <a:t>CA12-CA13</a:t>
            </a:r>
            <a:endParaRPr b="0" lang="en-US" sz="2200" spc="-1" strike="noStrike">
              <a:solidFill>
                <a:srgbClr val="000000"/>
              </a:solidFill>
              <a:latin typeface="Calibri"/>
            </a:endParaRPr>
          </a:p>
        </p:txBody>
      </p:sp>
      <p:sp>
        <p:nvSpPr>
          <p:cNvPr id="233" name="PlaceHolder 1"/>
          <p:cNvSpPr>
            <a:spLocks noGrp="1"/>
          </p:cNvSpPr>
          <p:nvPr>
            <p:ph type="title"/>
          </p:nvPr>
        </p:nvSpPr>
        <p:spPr>
          <a:xfrm>
            <a:off x="456840" y="-360"/>
            <a:ext cx="5334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aysettha OT"/>
                <a:cs typeface="Saysettha OT"/>
              </a:rPr>
              <a:t>ອັກເສປອດບ</a:t>
            </a:r>
            <a:r>
              <a:rPr b="1" lang="en-US" sz="3600" spc="-1" strike="noStrike">
                <a:solidFill>
                  <a:srgbClr val="ffff00"/>
                </a:solidFill>
                <a:latin typeface="Saysettha OT"/>
                <a:ea typeface="Saysettha OT"/>
              </a:rPr>
              <a:t>(</a:t>
            </a:r>
            <a:r>
              <a:rPr b="1" lang="en-US" sz="3600" spc="-1" strike="noStrike">
                <a:solidFill>
                  <a:srgbClr val="ffff00"/>
                </a:solidFill>
                <a:latin typeface="Saysettha OT"/>
                <a:cs typeface="Saysettha OT"/>
              </a:rPr>
              <a:t>ຕໍ່</a:t>
            </a:r>
            <a:r>
              <a:rPr b="1" lang="en-US" sz="3600" spc="-1" strike="noStrike">
                <a:solidFill>
                  <a:srgbClr val="ffff00"/>
                </a:solidFill>
                <a:latin typeface="Saysettha OT"/>
                <a:ea typeface="Saysettha OT"/>
              </a:rPr>
              <a:t>:)</a:t>
            </a:r>
            <a:r>
              <a:rPr b="1" lang="en-US" sz="4400" spc="-1" strike="noStrike">
                <a:solidFill>
                  <a:srgbClr val="ffff00"/>
                </a:solidFill>
                <a:latin typeface="Calibri"/>
              </a:rPr>
              <a:t> </a:t>
            </a:r>
            <a:endParaRPr b="0" lang="en-US" sz="4400" spc="-1" strike="noStrike">
              <a:solidFill>
                <a:srgbClr val="000000"/>
              </a:solidFill>
              <a:latin typeface="Calibri"/>
            </a:endParaRPr>
          </a:p>
        </p:txBody>
      </p:sp>
      <p:pic>
        <p:nvPicPr>
          <p:cNvPr id="234" name="Picture 6" descr=""/>
          <p:cNvPicPr/>
          <p:nvPr/>
        </p:nvPicPr>
        <p:blipFill>
          <a:blip r:embed="rId1"/>
          <a:stretch/>
        </p:blipFill>
        <p:spPr>
          <a:xfrm>
            <a:off x="304920" y="1442880"/>
            <a:ext cx="8458200" cy="535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aysettha OT"/>
                <a:cs typeface="Saysettha OT"/>
              </a:rPr>
              <a:t>ຖອກທ້ອງ</a:t>
            </a:r>
            <a:r>
              <a:rPr b="1" lang="en-US" sz="3600" spc="-1" strike="noStrike">
                <a:solidFill>
                  <a:srgbClr val="ffff00"/>
                </a:solidFill>
                <a:latin typeface="Saysettha OT"/>
                <a:ea typeface="Saysettha OT"/>
              </a:rPr>
              <a:t>(</a:t>
            </a:r>
            <a:r>
              <a:rPr b="1" lang="en-US" sz="3600" spc="-1" strike="noStrike">
                <a:solidFill>
                  <a:srgbClr val="ffff00"/>
                </a:solidFill>
                <a:latin typeface="Saysettha OT"/>
                <a:cs typeface="Saysettha OT"/>
              </a:rPr>
              <a:t>ນິຍາມ</a:t>
            </a:r>
            <a:r>
              <a:rPr b="1" lang="en-US" sz="3600" spc="-1" strike="noStrike">
                <a:solidFill>
                  <a:srgbClr val="ffff00"/>
                </a:solidFill>
                <a:latin typeface="Saysettha OT"/>
                <a:ea typeface="Saysettha OT"/>
              </a:rPr>
              <a:t>)</a:t>
            </a:r>
            <a:endParaRPr b="0" lang="en-US" sz="3600" spc="-1" strike="noStrike">
              <a:solidFill>
                <a:srgbClr val="000000"/>
              </a:solidFill>
              <a:latin typeface="Calibri"/>
            </a:endParaRPr>
          </a:p>
        </p:txBody>
      </p:sp>
      <p:sp>
        <p:nvSpPr>
          <p:cNvPr id="236" name="Rectangle 3"/>
          <p:cNvSpPr/>
          <p:nvPr/>
        </p:nvSpPr>
        <p:spPr>
          <a:xfrm>
            <a:off x="457200" y="1371600"/>
            <a:ext cx="83818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aysettha OT"/>
                <a:cs typeface="MS PGothic"/>
              </a:rPr>
              <a:t>ຖອກທ້ອງແມ່ນຖ່າຍເປັນນ້ຳຫຼາຍກວ່າ </a:t>
            </a:r>
            <a:r>
              <a:rPr b="0" lang="en-US" sz="2600" spc="-1" strike="noStrike">
                <a:solidFill>
                  <a:srgbClr val="000000"/>
                </a:solidFill>
                <a:latin typeface="Saysettha OT"/>
                <a:ea typeface="MS PGothic"/>
              </a:rPr>
              <a:t>3 </a:t>
            </a:r>
            <a:r>
              <a:rPr b="0" lang="en-US" sz="2600" spc="-1" strike="noStrike">
                <a:solidFill>
                  <a:srgbClr val="000000"/>
                </a:solidFill>
                <a:latin typeface="Saysettha OT"/>
                <a:cs typeface="MS PGothic"/>
              </a:rPr>
              <a:t>ຄັ້ງ ຕໍ່ </a:t>
            </a:r>
            <a:r>
              <a:rPr b="0" lang="en-US" sz="2600" spc="-1" strike="noStrike">
                <a:solidFill>
                  <a:srgbClr val="000000"/>
                </a:solidFill>
                <a:latin typeface="Saysettha OT"/>
                <a:ea typeface="MS PGothic"/>
              </a:rPr>
              <a:t>24 </a:t>
            </a:r>
            <a:r>
              <a:rPr b="0" lang="en-US" sz="2600" spc="-1" strike="noStrike">
                <a:solidFill>
                  <a:srgbClr val="000000"/>
                </a:solidFill>
                <a:latin typeface="Saysettha OT"/>
                <a:cs typeface="MS PGothic"/>
              </a:rPr>
              <a:t>ຊົ່ວໂມງ ຈະຂາດນ້ຳ ຫຼື ບໍ່ຂາດນ້ຳກໍຕາມ</a:t>
            </a:r>
            <a:endParaRPr b="0" lang="en-US" sz="2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aysettha OT"/>
                <a:cs typeface="Saysettha OT"/>
              </a:rPr>
              <a:t>ຖອກທ້ອງ</a:t>
            </a:r>
            <a:r>
              <a:rPr b="1" lang="en-US" sz="3600" spc="-1" strike="noStrike">
                <a:solidFill>
                  <a:srgbClr val="ffff00"/>
                </a:solidFill>
                <a:latin typeface="Saysettha OT"/>
                <a:ea typeface="Saysettha OT"/>
              </a:rPr>
              <a:t>(</a:t>
            </a:r>
            <a:r>
              <a:rPr b="1" lang="en-US" sz="3600" spc="-1" strike="noStrike">
                <a:solidFill>
                  <a:srgbClr val="ffff00"/>
                </a:solidFill>
                <a:latin typeface="Saysettha OT"/>
                <a:cs typeface="Saysettha OT"/>
              </a:rPr>
              <a:t>ເຕັກນິກການປີ່ນປົວ</a:t>
            </a:r>
            <a:r>
              <a:rPr b="1" lang="en-US" sz="3600" spc="-1" strike="noStrike">
                <a:solidFill>
                  <a:srgbClr val="ffff00"/>
                </a:solidFill>
                <a:latin typeface="Saysettha OT"/>
                <a:ea typeface="Saysettha OT"/>
              </a:rPr>
              <a:t>)</a:t>
            </a:r>
            <a:endParaRPr b="0" lang="en-US" sz="3600" spc="-1" strike="noStrike">
              <a:solidFill>
                <a:srgbClr val="000000"/>
              </a:solidFill>
              <a:latin typeface="Calibri"/>
            </a:endParaRPr>
          </a:p>
        </p:txBody>
      </p:sp>
      <p:sp>
        <p:nvSpPr>
          <p:cNvPr id="238" name="Rectangle 3"/>
          <p:cNvSpPr/>
          <p:nvPr/>
        </p:nvSpPr>
        <p:spPr>
          <a:xfrm>
            <a:off x="457200" y="1371600"/>
            <a:ext cx="83818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49"/>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aysettha OT"/>
                <a:cs typeface="MS PGothic"/>
              </a:rPr>
              <a:t>ການສະເໜີແນະເຕັກນິກໃນການປີ່ນປົວໄດ້ມີການປ່ຽນແປງຫຼາຍຄັ້ງຕະຫຼອດຫຼາຍທົດສະວັດທີ່ຜ່ານມາ</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10000"/>
              </a:lnSpc>
              <a:spcBef>
                <a:spcPts val="649"/>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aysettha OT"/>
                <a:cs typeface="MS PGothic"/>
              </a:rPr>
              <a:t>ການສະເໜີແນະເຕັກນິກປີ່ນປົວໃນປະຈຸບັນ ແມ່ນການທົດແທນ ນ້ຳ</a:t>
            </a:r>
            <a:r>
              <a:rPr b="0" lang="en-US" sz="2600" spc="-1" strike="noStrike">
                <a:solidFill>
                  <a:srgbClr val="000000"/>
                </a:solidFill>
                <a:latin typeface="Saysettha OT"/>
                <a:ea typeface="MS PGothic"/>
              </a:rPr>
              <a:t>(</a:t>
            </a:r>
            <a:r>
              <a:rPr b="0" lang="en-US" sz="2600" spc="-1" strike="noStrike">
                <a:solidFill>
                  <a:srgbClr val="000000"/>
                </a:solidFill>
                <a:latin typeface="Saysettha OT"/>
                <a:cs typeface="MS PGothic"/>
              </a:rPr>
              <a:t>ທັງມີການໃຫ້ດູດນົມແມ່</a:t>
            </a:r>
            <a:r>
              <a:rPr b="0" lang="en-US" sz="2600" spc="-1" strike="noStrike">
                <a:solidFill>
                  <a:srgbClr val="000000"/>
                </a:solidFill>
                <a:latin typeface="Saysettha OT"/>
                <a:ea typeface="MS PGothic"/>
              </a:rPr>
              <a:t>) </a:t>
            </a:r>
            <a:r>
              <a:rPr b="0" lang="en-US" sz="2600" spc="-1" strike="noStrike">
                <a:solidFill>
                  <a:srgbClr val="000000"/>
                </a:solidFill>
                <a:latin typeface="Saysettha OT"/>
                <a:cs typeface="MS PGothic"/>
              </a:rPr>
              <a:t>ພ້ອມທັງສືບຕໍ່ໃຫ້ອຫານ ແລະ ປີນປົວດ້ວຍທາດສັງກະສີ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10000"/>
              </a:lnSpc>
              <a:spcBef>
                <a:spcPts val="649"/>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aysettha OT"/>
                <a:cs typeface="MS PGothic"/>
              </a:rPr>
              <a:t>ໂອຣາລິດ ເປັນຊອງ </a:t>
            </a:r>
            <a:r>
              <a:rPr b="0" lang="en-US" sz="2600" spc="-1" strike="noStrike">
                <a:solidFill>
                  <a:srgbClr val="000000"/>
                </a:solidFill>
                <a:latin typeface="Saysettha OT"/>
                <a:ea typeface="MS PGothic"/>
              </a:rPr>
              <a:t>(</a:t>
            </a:r>
            <a:r>
              <a:rPr b="0" lang="en-US" sz="2600" spc="-1" strike="noStrike">
                <a:solidFill>
                  <a:srgbClr val="000000"/>
                </a:solidFill>
                <a:latin typeface="Saysettha OT"/>
                <a:cs typeface="MS PGothic"/>
              </a:rPr>
              <a:t>ຊຶ່ງເປັນ </a:t>
            </a:r>
            <a:r>
              <a:rPr b="0" lang="en-US" sz="2600" spc="-1" strike="noStrike">
                <a:solidFill>
                  <a:srgbClr val="000000"/>
                </a:solidFill>
                <a:latin typeface="Arial"/>
                <a:cs typeface="MS PGothic"/>
              </a:rPr>
              <a:t>ໂອຣາລິດ  ທີ່ມີການດູດສັບຕ່ຳ</a:t>
            </a:r>
            <a:r>
              <a:rPr b="0" lang="en-US" sz="2600" spc="-1" strike="noStrike">
                <a:solidFill>
                  <a:srgbClr val="000000"/>
                </a:solidFill>
                <a:latin typeface="Arial"/>
                <a:ea typeface="MS PGothic"/>
              </a:rPr>
              <a:t>) </a:t>
            </a:r>
            <a:r>
              <a:rPr b="0" lang="en-US" sz="2600" spc="-1" strike="noStrike">
                <a:solidFill>
                  <a:srgbClr val="000000"/>
                </a:solidFill>
                <a:latin typeface="Arial"/>
                <a:cs typeface="MS PGothic"/>
              </a:rPr>
              <a:t>ຊຶ່ງມີປະສິດທິພາບສຳລັບປ້ອງກັນ ແລະ ປີ່ນປົວຊີວິດທີ່ມີ ການ ຂົ່ມຄູ່ຈາກການຂາດນ້ຳຍ້ອນຖອກທ້ອງ</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6840" y="1600200"/>
            <a:ext cx="8381880" cy="4525920"/>
          </a:xfrm>
          <a:prstGeom prst="rect">
            <a:avLst/>
          </a:prstGeom>
          <a:noFill/>
          <a:ln w="0">
            <a:noFill/>
          </a:ln>
        </p:spPr>
        <p:txBody>
          <a:bodyPr anchor="t">
            <a:normAutofit/>
          </a:bodyPr>
          <a:p>
            <a:pPr marL="343080" indent="-343080">
              <a:lnSpc>
                <a:spcPct val="11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aysettha OT"/>
                <a:cs typeface="Saysettha OT"/>
              </a:rPr>
              <a:t>ຖ້າບໍ່ມີໂອຣາລິດເປັນຊອງ ແນະນຳປຸງນ້ຳຢູ່ເຮືອນເອົາເອງ ຫຼື ເພີ້ມນ້ຳຊະນິດໃດກໍໄດ້ ເພື່ອຊ່ວຍປ້ອງກັນການຂາດນ້ຳ</a:t>
            </a:r>
            <a:endParaRPr b="0" lang="en-US" sz="2600" spc="-1" strike="noStrike">
              <a:solidFill>
                <a:srgbClr val="000000"/>
              </a:solidFill>
              <a:latin typeface="Calibri"/>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1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aysettha OT"/>
                <a:cs typeface="Saysettha OT"/>
              </a:rPr>
              <a:t>ສືບຕໍ່ໃຫ້ອາຫານທີ່ສົ່ງເສີມໃຫ້ມີການດູດຊືມນ້ຳ ແລະ ປັບປຸງ ສະພາບໂພສະນາການໃຫ້ດີຂື້ນ</a:t>
            </a:r>
            <a:r>
              <a:rPr b="0" lang="en-US" sz="2600" spc="-1" strike="noStrike">
                <a:solidFill>
                  <a:srgbClr val="000000"/>
                </a:solidFill>
                <a:latin typeface="Saysettha OT"/>
                <a:ea typeface="Saysettha OT"/>
              </a:rPr>
              <a:t>.</a:t>
            </a:r>
            <a:endParaRPr b="0" lang="en-US" sz="2600" spc="-1" strike="noStrike">
              <a:solidFill>
                <a:srgbClr val="000000"/>
              </a:solidFill>
              <a:latin typeface="Calibri"/>
            </a:endParaRPr>
          </a:p>
          <a:p>
            <a:pPr marL="343080" indent="0">
              <a:lnSpc>
                <a:spcPct val="11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1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aysettha OT"/>
                <a:cs typeface="Saysettha OT"/>
              </a:rPr>
              <a:t>ໃຫ້ທາດສັງກະສີເພື່ອລຸດຜ່ອນບໍລີມາດຂອງອາຈົມ ທັງລຸດຜ່ອນ ອາການຖອກທ້ອງຮຸນແຮງແລະແກ່ຍາວ</a:t>
            </a:r>
            <a:endParaRPr b="0" lang="en-US" sz="2600" spc="-1" strike="noStrike">
              <a:solidFill>
                <a:srgbClr val="000000"/>
              </a:solidFill>
              <a:latin typeface="Calibri"/>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2"/>
          <p:cNvSpPr>
            <a:spLocks noGrp="1"/>
          </p:cNvSpPr>
          <p:nvPr>
            <p:ph type="title"/>
          </p:nvPr>
        </p:nvSpPr>
        <p:spPr>
          <a:xfrm>
            <a:off x="30492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Saysettha OT"/>
                <a:cs typeface="Saysettha OT"/>
              </a:rPr>
              <a:t>ຖອກທ້ອງ</a:t>
            </a:r>
            <a:r>
              <a:rPr b="1" lang="en-US" sz="4400" spc="-1" strike="noStrike">
                <a:solidFill>
                  <a:srgbClr val="ffff00"/>
                </a:solidFill>
                <a:latin typeface="Saysettha OT"/>
                <a:ea typeface="Saysettha OT"/>
              </a:rPr>
              <a:t>(</a:t>
            </a:r>
            <a:r>
              <a:rPr b="1" lang="en-US" sz="4400" spc="-1" strike="noStrike">
                <a:solidFill>
                  <a:srgbClr val="ffff00"/>
                </a:solidFill>
                <a:latin typeface="Saysettha OT"/>
                <a:cs typeface="Saysettha OT"/>
              </a:rPr>
              <a:t>ຕໍ່</a:t>
            </a:r>
            <a:r>
              <a:rPr b="1" lang="en-US" sz="4400" spc="-1" strike="noStrike">
                <a:solidFill>
                  <a:srgbClr val="ffff00"/>
                </a:solidFill>
                <a:latin typeface="Saysettha OT"/>
                <a:ea typeface="Saysettha OT"/>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0" y="1371600"/>
            <a:ext cx="2362320" cy="4525920"/>
          </a:xfrm>
          <a:prstGeom prst="rect">
            <a:avLst/>
          </a:prstGeom>
          <a:noFill/>
          <a:ln w="0">
            <a:noFill/>
          </a:ln>
        </p:spPr>
        <p:style>
          <a:lnRef idx="0"/>
          <a:fillRef idx="0"/>
          <a:effectRef idx="0"/>
          <a:fontRef idx="minor"/>
        </p:style>
        <p:txBody>
          <a:bodyPr lIns="90000" rIns="90000" tIns="46800" bIns="46800" anchor="t">
            <a:noAutofit/>
          </a:bodyPr>
          <a:p>
            <a:pPr lvl="1" marL="272880" indent="-266400">
              <a:lnSpc>
                <a:spcPct val="90000"/>
              </a:lnSpc>
              <a:spcBef>
                <a:spcPts val="550"/>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ysettha OT"/>
                <a:cs typeface="MS PGothic"/>
              </a:rPr>
              <a:t>ກໍລະນີຖອກທ້ອງ </a:t>
            </a:r>
            <a:r>
              <a:rPr b="0" lang="en-US" sz="2200" spc="-1" strike="noStrike">
                <a:solidFill>
                  <a:srgbClr val="000000"/>
                </a:solidFill>
                <a:latin typeface="Saysettha OT"/>
                <a:ea typeface="MS PGothic"/>
              </a:rPr>
              <a:t>CA1 </a:t>
            </a:r>
            <a:endParaRPr b="0" lang="en-US" sz="2200" spc="-1" strike="noStrike">
              <a:solidFill>
                <a:srgbClr val="000000"/>
              </a:solidFill>
              <a:latin typeface="Calibri"/>
            </a:endParaRPr>
          </a:p>
          <a:p>
            <a:pPr lvl="1" marL="272880" indent="-266400">
              <a:lnSpc>
                <a:spcPct val="90000"/>
              </a:lnSpc>
              <a:spcBef>
                <a:spcPts val="550"/>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72880" indent="-2664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72880" indent="-266400">
              <a:lnSpc>
                <a:spcPct val="90000"/>
              </a:lnSpc>
              <a:spcBef>
                <a:spcPts val="550"/>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ysettha OT"/>
                <a:cs typeface="MS PGothic"/>
              </a:rPr>
              <a:t>ນ້ຳແລະອາຫານ </a:t>
            </a:r>
            <a:r>
              <a:rPr b="0" lang="en-US" sz="2200" spc="-1" strike="noStrike">
                <a:solidFill>
                  <a:srgbClr val="000000"/>
                </a:solidFill>
                <a:latin typeface="Saysettha OT"/>
                <a:ea typeface="MS PGothic"/>
              </a:rPr>
              <a:t>CA2-CA3</a:t>
            </a:r>
            <a:endParaRPr b="0" lang="en-US" sz="2200" spc="-1" strike="noStrike">
              <a:solidFill>
                <a:srgbClr val="000000"/>
              </a:solidFill>
              <a:latin typeface="Calibri"/>
            </a:endParaRPr>
          </a:p>
        </p:txBody>
      </p:sp>
      <p:sp>
        <p:nvSpPr>
          <p:cNvPr id="242" name="PlaceHolder 1"/>
          <p:cNvSpPr>
            <a:spLocks noGrp="1"/>
          </p:cNvSpPr>
          <p:nvPr>
            <p:ph type="title"/>
          </p:nvPr>
        </p:nvSpPr>
        <p:spPr>
          <a:xfrm>
            <a:off x="277560" y="-360"/>
            <a:ext cx="6933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aysettha OT"/>
                <a:cs typeface="Saysettha OT"/>
              </a:rPr>
              <a:t>ຖອກທ້ອງ</a:t>
            </a:r>
            <a:r>
              <a:rPr b="1" lang="en-US" sz="3600" spc="-1" strike="noStrike">
                <a:solidFill>
                  <a:srgbClr val="ffff00"/>
                </a:solidFill>
                <a:latin typeface="Saysettha OT"/>
                <a:ea typeface="Saysettha OT"/>
              </a:rPr>
              <a:t>(</a:t>
            </a:r>
            <a:r>
              <a:rPr b="1" lang="en-US" sz="3600" spc="-1" strike="noStrike">
                <a:solidFill>
                  <a:srgbClr val="ffff00"/>
                </a:solidFill>
                <a:latin typeface="Saysettha OT"/>
                <a:cs typeface="Saysettha OT"/>
              </a:rPr>
              <a:t>ຕໍ່</a:t>
            </a:r>
            <a:r>
              <a:rPr b="1" lang="en-US" sz="3600" spc="-1" strike="noStrike">
                <a:solidFill>
                  <a:srgbClr val="ffff00"/>
                </a:solidFill>
                <a:latin typeface="Saysettha OT"/>
                <a:ea typeface="Saysettha OT"/>
              </a:rPr>
              <a:t>)</a:t>
            </a:r>
            <a:endParaRPr b="0" lang="en-US" sz="3600" spc="-1" strike="noStrike">
              <a:solidFill>
                <a:srgbClr val="000000"/>
              </a:solidFill>
              <a:latin typeface="Calibri"/>
            </a:endParaRPr>
          </a:p>
        </p:txBody>
      </p:sp>
      <p:pic>
        <p:nvPicPr>
          <p:cNvPr id="243" name="Picture 76" descr=""/>
          <p:cNvPicPr/>
          <p:nvPr/>
        </p:nvPicPr>
        <p:blipFill>
          <a:blip r:embed="rId1"/>
          <a:stretch/>
        </p:blipFill>
        <p:spPr>
          <a:xfrm>
            <a:off x="2362320" y="914400"/>
            <a:ext cx="6172200" cy="5943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152280" y="914400"/>
            <a:ext cx="2438640" cy="45259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15000"/>
              </a:lnSpc>
              <a:spcBef>
                <a:spcPts val="550"/>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ysettha OT"/>
                <a:cs typeface="MS PGothic"/>
              </a:rPr>
              <a:t>ໂອຣາລິດເປັນຊອງ ຫຼື ນ້ຳ ທີ່ແນະນນຳ ປຸງແຕ່ງຢູ່ ເຮືອນ </a:t>
            </a:r>
            <a:r>
              <a:rPr b="0" lang="en-US" sz="2200" spc="-1" strike="noStrike">
                <a:solidFill>
                  <a:srgbClr val="000000"/>
                </a:solidFill>
                <a:latin typeface="Saysettha OT"/>
                <a:ea typeface="MS PGothic"/>
              </a:rPr>
              <a:t>(CA4)</a:t>
            </a:r>
            <a:endParaRPr b="0" lang="en-US" sz="22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115000"/>
              </a:lnSpc>
              <a:spcBef>
                <a:spcPts val="550"/>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ysettha OT"/>
                <a:cs typeface="MS PGothic"/>
              </a:rPr>
              <a:t>ການປີ່ນ ປົວຖອກ ທ້ອງ </a:t>
            </a:r>
            <a:r>
              <a:rPr b="0" lang="en-US" sz="2200" spc="-1" strike="noStrike">
                <a:solidFill>
                  <a:srgbClr val="000000"/>
                </a:solidFill>
                <a:latin typeface="Saysettha OT"/>
                <a:ea typeface="MS PGothic"/>
              </a:rPr>
              <a:t>(CA5-CA6)</a:t>
            </a:r>
            <a:endParaRPr b="0" lang="en-US" sz="2200" spc="-1" strike="noStrike">
              <a:solidFill>
                <a:srgbClr val="000000"/>
              </a:solidFill>
              <a:latin typeface="Calibri"/>
            </a:endParaRPr>
          </a:p>
        </p:txBody>
      </p:sp>
      <p:sp>
        <p:nvSpPr>
          <p:cNvPr id="245" name="PlaceHolder 1"/>
          <p:cNvSpPr>
            <a:spLocks noGrp="1"/>
          </p:cNvSpPr>
          <p:nvPr>
            <p:ph type="title"/>
          </p:nvPr>
        </p:nvSpPr>
        <p:spPr>
          <a:xfrm>
            <a:off x="304560" y="-152640"/>
            <a:ext cx="6933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aysettha OT"/>
                <a:cs typeface="Saysettha OT"/>
              </a:rPr>
              <a:t>ຖອກທ້ອງ</a:t>
            </a:r>
            <a:r>
              <a:rPr b="1" lang="en-US" sz="3600" spc="-1" strike="noStrike">
                <a:solidFill>
                  <a:srgbClr val="ffff00"/>
                </a:solidFill>
                <a:latin typeface="Saysettha OT"/>
                <a:ea typeface="Saysettha OT"/>
              </a:rPr>
              <a:t>(</a:t>
            </a:r>
            <a:r>
              <a:rPr b="1" lang="en-US" sz="3600" spc="-1" strike="noStrike">
                <a:solidFill>
                  <a:srgbClr val="ffff00"/>
                </a:solidFill>
                <a:latin typeface="Saysettha OT"/>
                <a:cs typeface="Saysettha OT"/>
              </a:rPr>
              <a:t>ຕໍ່</a:t>
            </a:r>
            <a:r>
              <a:rPr b="1" lang="en-US" sz="3600" spc="-1" strike="noStrike">
                <a:solidFill>
                  <a:srgbClr val="ffff00"/>
                </a:solidFill>
                <a:latin typeface="Saysettha OT"/>
                <a:ea typeface="Saysettha OT"/>
              </a:rPr>
              <a:t>:)</a:t>
            </a:r>
            <a:endParaRPr b="0" lang="en-US" sz="3600" spc="-1" strike="noStrike">
              <a:solidFill>
                <a:srgbClr val="000000"/>
              </a:solidFill>
              <a:latin typeface="Calibri"/>
            </a:endParaRPr>
          </a:p>
        </p:txBody>
      </p:sp>
      <p:pic>
        <p:nvPicPr>
          <p:cNvPr id="246" name="Picture 8" descr=""/>
          <p:cNvPicPr/>
          <p:nvPr/>
        </p:nvPicPr>
        <p:blipFill>
          <a:blip r:embed="rId1"/>
          <a:stretch/>
        </p:blipFill>
        <p:spPr>
          <a:xfrm>
            <a:off x="2971800" y="0"/>
            <a:ext cx="5867280" cy="3581280"/>
          </a:xfrm>
          <a:prstGeom prst="rect">
            <a:avLst/>
          </a:prstGeom>
          <a:ln w="0">
            <a:noFill/>
          </a:ln>
        </p:spPr>
      </p:pic>
      <p:pic>
        <p:nvPicPr>
          <p:cNvPr id="247" name="Picture 9" descr=""/>
          <p:cNvPicPr/>
          <p:nvPr/>
        </p:nvPicPr>
        <p:blipFill>
          <a:blip r:embed="rId2"/>
          <a:stretch/>
        </p:blipFill>
        <p:spPr>
          <a:xfrm>
            <a:off x="2971800" y="3429000"/>
            <a:ext cx="5838840" cy="3429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Saysettha OT"/>
                <a:cs typeface="Saysettha OT"/>
              </a:rPr>
              <a:t>ອາຈົມຂອງເດັກ</a:t>
            </a:r>
            <a:endParaRPr b="0" lang="en-US" sz="4000" spc="-1" strike="noStrike">
              <a:solidFill>
                <a:srgbClr val="000000"/>
              </a:solidFill>
              <a:latin typeface="Calibri"/>
            </a:endParaRPr>
          </a:p>
        </p:txBody>
      </p:sp>
      <p:sp>
        <p:nvSpPr>
          <p:cNvPr id="249" name="PlaceHolder 2"/>
          <p:cNvSpPr>
            <a:spLocks noGrp="1"/>
          </p:cNvSpPr>
          <p:nvPr>
            <p:ph/>
          </p:nvPr>
        </p:nvSpPr>
        <p:spPr>
          <a:xfrm>
            <a:off x="457200" y="1371600"/>
            <a:ext cx="8229600" cy="4525920"/>
          </a:xfrm>
          <a:prstGeom prst="rect">
            <a:avLst/>
          </a:prstGeom>
          <a:noFill/>
          <a:ln w="0">
            <a:noFill/>
          </a:ln>
        </p:spPr>
        <p:txBody>
          <a:bodyPr anchor="t">
            <a:normAutofit/>
          </a:bodyPr>
          <a:p>
            <a:pPr lvl="2"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304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cs typeface="Saysettha OT"/>
              </a:rPr>
              <a:t>ອາຈົມເດັກນ້ອຍມີເຊື້ອພະຍາດຫຼາຍກວ່າອາຈົມຜູ້ໃຫຍ່</a:t>
            </a:r>
            <a:endParaRPr b="0" lang="en-US" sz="2400" spc="-1" strike="noStrike">
              <a:solidFill>
                <a:srgbClr val="000000"/>
              </a:solidFill>
              <a:latin typeface="Calibri"/>
            </a:endParaRPr>
          </a:p>
          <a:p>
            <a:pPr lvl="2"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304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cs typeface="Saysettha OT"/>
              </a:rPr>
              <a:t>ເດັກນ້ອຍສ່ວນໃຫຍ່ຖ່າຍໃນເຮືອນ ຫຼື ບໍລິເວນເຮືອນ ຊຶ່ງ</a:t>
            </a:r>
            <a:r>
              <a:rPr b="0" lang="en-US" sz="2400" spc="-1" strike="noStrike">
                <a:solidFill>
                  <a:srgbClr val="000000"/>
                </a:solidFill>
                <a:latin typeface="Saysettha OT"/>
                <a:ea typeface="Saysettha OT"/>
              </a:rPr>
              <a:t>. </a:t>
            </a:r>
            <a:r>
              <a:rPr b="0" lang="en-US" sz="2400" spc="-1" strike="noStrike">
                <a:solidFill>
                  <a:srgbClr val="000000"/>
                </a:solidFill>
                <a:latin typeface="Saysettha OT"/>
                <a:cs typeface="Saysettha OT"/>
              </a:rPr>
              <a:t>ເດັກກໍມັກຫຼີ້ນທີ່ບໍລິເວນລາວດັ່ງກ່າວເໜືອນກັນ</a:t>
            </a:r>
            <a:endParaRPr b="0" lang="en-US" sz="2400" spc="-1" strike="noStrike">
              <a:solidFill>
                <a:srgbClr val="000000"/>
              </a:solidFill>
              <a:latin typeface="Calibri"/>
            </a:endParaRPr>
          </a:p>
          <a:p>
            <a:pPr lvl="2"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304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cs typeface="Saysettha OT"/>
              </a:rPr>
              <a:t>ການເກັບມ້ຽນອາຈົມເດັກນ້ອຍເປັນຢ່າງດີ ແມ່ນຕ້ອງຖືເປັນສຳ ຄັນ ເພາະລຸດຜ່ອນຈຳນວນກໍລະນີຖອກທ້ອງ</a:t>
            </a:r>
            <a:r>
              <a:rPr b="0" lang="en-US" sz="2400" spc="-1" strike="noStrike">
                <a:solidFill>
                  <a:srgbClr val="000000"/>
                </a:solidFill>
                <a:latin typeface="Saysettha OT"/>
                <a:ea typeface="Saysettha OT"/>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aysettha OT"/>
                <a:cs typeface="Saysettha OT"/>
              </a:rPr>
              <a:t>ຄຳຖາມກ່ຽວກັບອາຈົມຂອງເດັກ </a:t>
            </a:r>
            <a:r>
              <a:rPr b="1" lang="en-US" sz="3600" spc="-1" strike="noStrike">
                <a:solidFill>
                  <a:srgbClr val="ffff00"/>
                </a:solidFill>
                <a:latin typeface="Saysettha OT"/>
                <a:ea typeface="Saysettha OT"/>
              </a:rPr>
              <a:t>(</a:t>
            </a:r>
            <a:r>
              <a:rPr b="1" lang="en-US" sz="3600" spc="-1" strike="noStrike">
                <a:solidFill>
                  <a:srgbClr val="ffff00"/>
                </a:solidFill>
                <a:latin typeface="Saysettha OT"/>
                <a:cs typeface="Saysettha OT"/>
              </a:rPr>
              <a:t>ຕໍ່</a:t>
            </a:r>
            <a:r>
              <a:rPr b="1" lang="en-US" sz="3600" spc="-1" strike="noStrike">
                <a:solidFill>
                  <a:srgbClr val="ffff00"/>
                </a:solidFill>
                <a:latin typeface="Saysettha OT"/>
                <a:ea typeface="Saysettha OT"/>
              </a:rPr>
              <a:t>:)</a:t>
            </a:r>
            <a:endParaRPr b="0" lang="en-US" sz="3600" spc="-1" strike="noStrike">
              <a:solidFill>
                <a:srgbClr val="000000"/>
              </a:solidFill>
              <a:latin typeface="Calibri"/>
            </a:endParaRPr>
          </a:p>
        </p:txBody>
      </p:sp>
      <p:pic>
        <p:nvPicPr>
          <p:cNvPr id="251" name="Picture 5" descr=""/>
          <p:cNvPicPr/>
          <p:nvPr/>
        </p:nvPicPr>
        <p:blipFill>
          <a:blip r:embed="rId1"/>
          <a:stretch/>
        </p:blipFill>
        <p:spPr>
          <a:xfrm>
            <a:off x="228600" y="1143000"/>
            <a:ext cx="8534520" cy="5526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Saysettha OT"/>
                <a:cs typeface="Saysettha OT"/>
              </a:rPr>
              <a:t>ການສຳຫຼວດດັດສະນີໝາຍສັງຄົມລາວ</a:t>
            </a:r>
            <a:br>
              <a:rPr sz="4000"/>
            </a:br>
            <a:r>
              <a:rPr b="1" lang="en-US" sz="4000" spc="-1" strike="noStrike">
                <a:solidFill>
                  <a:srgbClr val="c00000"/>
                </a:solidFill>
                <a:latin typeface="Saysettha OT"/>
                <a:cs typeface="Saysettha OT"/>
              </a:rPr>
              <a:t>ການອົບຮົມນັກເດີນສຳຫຼວດ</a:t>
            </a:r>
            <a:r>
              <a:rPr b="1" lang="en-US" sz="4000" spc="-1" strike="noStrike">
                <a:solidFill>
                  <a:srgbClr val="00b050"/>
                </a:solidFill>
                <a:latin typeface="Calibri"/>
              </a:rPr>
              <a:t> </a:t>
            </a:r>
            <a:endParaRPr b="0" lang="en-US" sz="4000" spc="-1" strike="noStrike">
              <a:solidFill>
                <a:srgbClr val="000000"/>
              </a:solidFill>
              <a:latin typeface="Calibri"/>
            </a:endParaRPr>
          </a:p>
        </p:txBody>
      </p:sp>
      <p:sp>
        <p:nvSpPr>
          <p:cNvPr id="253" name="PlaceHolder 2"/>
          <p:cNvSpPr>
            <a:spLocks noGrp="1"/>
          </p:cNvSpPr>
          <p:nvPr>
            <p:ph type="subTitle"/>
          </p:nvPr>
        </p:nvSpPr>
        <p:spPr>
          <a:xfrm>
            <a:off x="456840" y="3352320"/>
            <a:ext cx="7924680" cy="25909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Saysettha OT"/>
                <a:cs typeface="Saysettha OT"/>
              </a:rPr>
              <a:t>ແບບສອບຖາມສຳລັບເດັກອາຍຸຕ່ຳກວ່າ </a:t>
            </a:r>
            <a:r>
              <a:rPr b="0" lang="en-US" sz="3600" spc="-1" strike="noStrike">
                <a:solidFill>
                  <a:srgbClr val="002060"/>
                </a:solidFill>
                <a:latin typeface="Saysettha OT"/>
                <a:ea typeface="Saysettha OT"/>
              </a:rPr>
              <a:t>5 </a:t>
            </a:r>
            <a:r>
              <a:rPr b="0" lang="en-US" sz="3600" spc="-1" strike="noStrike">
                <a:solidFill>
                  <a:srgbClr val="002060"/>
                </a:solidFill>
                <a:latin typeface="Saysettha OT"/>
                <a:cs typeface="Saysettha OT"/>
              </a:rPr>
              <a:t>ປີ</a:t>
            </a:r>
            <a:r>
              <a:rPr b="0" lang="en-US" sz="3600" spc="-1" strike="noStrike">
                <a:solidFill>
                  <a:srgbClr val="002060"/>
                </a:solidFill>
                <a:latin typeface="Saysettha OT"/>
                <a:ea typeface="Saysettha OT"/>
              </a:rPr>
              <a:t>:</a:t>
            </a:r>
            <a:endParaRPr b="0" lang="en-US" sz="36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Saysettha OT"/>
                <a:cs typeface="Saysettha OT"/>
              </a:rPr>
              <a:t>ພະຍາດມາລາເລຍ</a:t>
            </a:r>
            <a:endParaRPr b="0" lang="en-US" sz="40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4" name="Rectangle 17"/>
          <p:cNvSpPr/>
          <p:nvPr/>
        </p:nvSpPr>
        <p:spPr>
          <a:xfrm>
            <a:off x="457200" y="2819520"/>
            <a:ext cx="8229600" cy="75960"/>
          </a:xfrm>
          <a:prstGeom prst="rect">
            <a:avLst/>
          </a:prstGeom>
          <a:solidFill>
            <a:srgbClr val="339966"/>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762120" y="73080"/>
            <a:ext cx="7959600" cy="6937200"/>
          </a:xfrm>
          <a:prstGeom prst="rect">
            <a:avLst/>
          </a:prstGeom>
          <a:ln w="0">
            <a:noFill/>
          </a:ln>
        </p:spPr>
      </p:pic>
      <p:grpSp>
        <p:nvGrpSpPr>
          <p:cNvPr id="111" name="Text Box 5"/>
          <p:cNvGrpSpPr/>
          <p:nvPr/>
        </p:nvGrpSpPr>
        <p:grpSpPr>
          <a:xfrm>
            <a:off x="444600" y="4346640"/>
            <a:ext cx="4108320" cy="2867760"/>
            <a:chOff x="444600" y="4346640"/>
            <a:chExt cx="4108320" cy="2867760"/>
          </a:xfrm>
        </p:grpSpPr>
        <p:pic>
          <p:nvPicPr>
            <p:cNvPr id="112" name="Text Box 5" descr=""/>
            <p:cNvPicPr/>
            <p:nvPr/>
          </p:nvPicPr>
          <p:blipFill>
            <a:blip r:embed="rId2"/>
            <a:stretch/>
          </p:blipFill>
          <p:spPr>
            <a:xfrm>
              <a:off x="444600" y="4346640"/>
              <a:ext cx="4108320" cy="2487600"/>
            </a:xfrm>
            <a:prstGeom prst="rect">
              <a:avLst/>
            </a:prstGeom>
            <a:ln w="0">
              <a:noFill/>
            </a:ln>
          </p:spPr>
        </p:pic>
        <p:sp>
          <p:nvSpPr>
            <p:cNvPr id="113" name=""/>
            <p:cNvSpPr/>
            <p:nvPr/>
          </p:nvSpPr>
          <p:spPr>
            <a:xfrm>
              <a:off x="609480" y="4508640"/>
              <a:ext cx="3886200" cy="27057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125"/>
                </a:spcBef>
                <a:buClr>
                  <a:srgbClr val="ffffff"/>
                </a:buClr>
                <a:buFont typeface="Saysettha La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aysettha Lao"/>
                </a:rPr>
                <a:t>¡¾­</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êñ¡ê¾¨´ó£¸¾´¥¿À¯ñ</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ê†¥½ªÉº¤  Ä©ÉÀ¸í¾£õ­¡ñ®Á´È¨ò¤ «É¾®Òêñ</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Ä©ÉºÈ¾</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 ŒÁ´È¨ò¤º¾©¥½ À¯ñ</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 °øÉªº®Á®®¦º® «¾´ £ö¸À»õº</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ÒÄ©É</a:t>
              </a:r>
              <a:endParaRPr b="0" lang="en-US" sz="1800" spc="-1" strike="noStrike">
                <a:solidFill>
                  <a:srgbClr val="000000"/>
                </a:solidFill>
                <a:latin typeface="Calibri"/>
              </a:endParaRPr>
            </a:p>
            <a:p>
              <a:pPr marL="177840" indent="-177840">
                <a:lnSpc>
                  <a:spcPct val="100000"/>
                </a:lnSpc>
                <a:spcBef>
                  <a:spcPts val="1125"/>
                </a:spcBef>
                <a:buClr>
                  <a:srgbClr val="ffffff"/>
                </a:buClr>
                <a:buFont typeface="Saysettha La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aysettha Lao"/>
                </a:rPr>
                <a:t>°ö­</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Ä©É»ñ®¥¾¡¡¾</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²¾©ê†¥½Á¥É¤ºó¤ª¾´Á´È Áì½°øÉ©øÁìÀ©ñ¡</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1" presetSubtype="4">
                                  <p:stCondLst>
                                    <p:cond delay="0"/>
                                  </p:stCondLst>
                                  <p:childTnLst>
                                    <p:set>
                                      <p:cBhvr>
                                        <p:cTn id="20" dur="1" fill="hold">
                                          <p:stCondLst>
                                            <p:cond delay="0"/>
                                          </p:stCondLst>
                                        </p:cTn>
                                        <p:tgtEl>
                                          <p:spTgt spid="111"/>
                                        </p:tgtEl>
                                        <p:attrNameLst>
                                          <p:attrName>style.visibility</p:attrName>
                                        </p:attrNameLst>
                                      </p:cBhvr>
                                      <p:to>
                                        <p:strVal val="visible"/>
                                      </p:to>
                                    </p:set>
                                    <p:animEffect filter="wheel(4)" transition="in">
                                      <p:cBhvr additive="repl">
                                        <p:cTn id="21"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Saysettha OT"/>
                <a:cs typeface="Saysettha OT"/>
              </a:rPr>
              <a:t>ຄວາມເປັນມາ</a:t>
            </a:r>
            <a:endParaRPr b="0" lang="en-US" sz="4000" spc="-1" strike="noStrike">
              <a:solidFill>
                <a:srgbClr val="000000"/>
              </a:solidFill>
              <a:latin typeface="Calibri"/>
            </a:endParaRPr>
          </a:p>
        </p:txBody>
      </p:sp>
      <p:sp>
        <p:nvSpPr>
          <p:cNvPr id="256"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Saysettha OT"/>
                <a:cs typeface="Saysettha OT"/>
              </a:rPr>
              <a:t>ຕາມການຄາດຄະເນຂອງອົງການອະນາໄມໂລກ ໄດ້ມີຄົນເປັນ ໄຂ້ມາລາເລຍ</a:t>
            </a:r>
            <a:r>
              <a:rPr b="0" lang="en-US" sz="2200" spc="-1" strike="noStrike">
                <a:solidFill>
                  <a:srgbClr val="002060"/>
                </a:solidFill>
                <a:latin typeface="Saysettha OT"/>
                <a:ea typeface="Saysettha OT"/>
              </a:rPr>
              <a:t>190-330 </a:t>
            </a:r>
            <a:r>
              <a:rPr b="0" lang="en-US" sz="2200" spc="-1" strike="noStrike">
                <a:solidFill>
                  <a:srgbClr val="002060"/>
                </a:solidFill>
                <a:latin typeface="Saysettha OT"/>
                <a:cs typeface="Saysettha OT"/>
              </a:rPr>
              <a:t>ລ້ານຄົນ ໃນ ປີ </a:t>
            </a:r>
            <a:r>
              <a:rPr b="0" lang="en-US" sz="2200" spc="-1" strike="noStrike">
                <a:solidFill>
                  <a:srgbClr val="002060"/>
                </a:solidFill>
                <a:latin typeface="Saysettha OT"/>
                <a:ea typeface="Saysettha OT"/>
              </a:rPr>
              <a:t>2006, </a:t>
            </a:r>
            <a:r>
              <a:rPr b="0" lang="en-US" sz="2200" spc="-1" strike="noStrike">
                <a:solidFill>
                  <a:srgbClr val="002060"/>
                </a:solidFill>
                <a:latin typeface="Saysettha OT"/>
                <a:cs typeface="Saysettha OT"/>
              </a:rPr>
              <a:t>ໃນນັ້ນໄດ້ ມີຜູ້ຕາຍ ເກືອບ </a:t>
            </a:r>
            <a:r>
              <a:rPr b="0" lang="en-US" sz="2200" spc="-1" strike="noStrike">
                <a:solidFill>
                  <a:srgbClr val="002060"/>
                </a:solidFill>
                <a:latin typeface="Saysettha OT"/>
                <a:ea typeface="Saysettha OT"/>
              </a:rPr>
              <a:t>1 </a:t>
            </a:r>
            <a:r>
              <a:rPr b="0" lang="en-US" sz="2200" spc="-1" strike="noStrike">
                <a:solidFill>
                  <a:srgbClr val="002060"/>
                </a:solidFill>
                <a:latin typeface="Saysettha OT"/>
                <a:cs typeface="Saysettha OT"/>
              </a:rPr>
              <a:t>ລ້ານຄົນ</a:t>
            </a:r>
            <a:endParaRPr b="0" lang="en-US" sz="2200" spc="-1" strike="noStrike">
              <a:solidFill>
                <a:srgbClr val="000000"/>
              </a:solidFill>
              <a:latin typeface="Calibri"/>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Saysettha OT"/>
                <a:cs typeface="Saysettha OT"/>
              </a:rPr>
              <a:t>ປະມານ </a:t>
            </a:r>
            <a:r>
              <a:rPr b="0" lang="en-US" sz="2200" spc="-1" strike="noStrike">
                <a:solidFill>
                  <a:srgbClr val="002060"/>
                </a:solidFill>
                <a:latin typeface="Saysettha OT"/>
                <a:ea typeface="Saysettha OT"/>
              </a:rPr>
              <a:t>90 </a:t>
            </a:r>
            <a:r>
              <a:rPr b="0" lang="en-US" sz="2200" spc="-1" strike="noStrike">
                <a:solidFill>
                  <a:srgbClr val="002060"/>
                </a:solidFill>
                <a:latin typeface="Saysettha OT"/>
                <a:cs typeface="Saysettha OT"/>
              </a:rPr>
              <a:t>ສ່ວນຮ້ອຍຂອງຄົນຕາຍຍ້ອນໄຂ້ມາລາເລຍ ແມ່ນທີ່ ເຂດ </a:t>
            </a:r>
            <a:r>
              <a:rPr b="0" lang="en-US" sz="2200" spc="-1" strike="noStrike">
                <a:solidFill>
                  <a:srgbClr val="002060"/>
                </a:solidFill>
                <a:latin typeface="Saysettha OT"/>
                <a:ea typeface="Saysettha OT"/>
              </a:rPr>
              <a:t>Saharan </a:t>
            </a:r>
            <a:r>
              <a:rPr b="0" lang="en-US" sz="2200" spc="-1" strike="noStrike">
                <a:solidFill>
                  <a:srgbClr val="002060"/>
                </a:solidFill>
                <a:latin typeface="Saysettha OT"/>
                <a:cs typeface="Saysettha OT"/>
              </a:rPr>
              <a:t>ຂອງປະເທດ ອາຟະລິກກາ</a:t>
            </a:r>
            <a:r>
              <a:rPr b="0" lang="en-US" sz="2200" spc="-1" strike="noStrike">
                <a:solidFill>
                  <a:srgbClr val="002060"/>
                </a:solidFill>
                <a:latin typeface="Saysettha OT"/>
                <a:ea typeface="Saysettha OT"/>
              </a:rPr>
              <a:t>, </a:t>
            </a:r>
            <a:r>
              <a:rPr b="0" lang="en-US" sz="2200" spc="-1" strike="noStrike">
                <a:solidFill>
                  <a:srgbClr val="002060"/>
                </a:solidFill>
                <a:latin typeface="Saysettha OT"/>
                <a:cs typeface="Saysettha OT"/>
              </a:rPr>
              <a:t>ສ່ວນຫຼາຍແມ່ນເດັກນ້ອຍ</a:t>
            </a:r>
            <a:endParaRPr b="0" lang="en-US" sz="2200" spc="-1" strike="noStrike">
              <a:solidFill>
                <a:srgbClr val="000000"/>
              </a:solidFill>
              <a:latin typeface="Calibri"/>
            </a:endParaRPr>
          </a:p>
          <a:p>
            <a:pPr marL="343080" indent="-3430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Saysettha OT"/>
                <a:cs typeface="Saysettha OT"/>
              </a:rPr>
              <a:t>ການລົງທຶນໃນການຄວບຄຸມພະຍາດມາລາເລຍແມ່ນມີປະສິດທິພາບສູງ ດ້ວຍການນຳໃຊ້ມຸ້ງຍ້ອມຢາ ໃນຊຸມປີຜ່ານມາ</a:t>
            </a:r>
            <a:r>
              <a:rPr b="0" lang="en-US" sz="2200" spc="-1" strike="noStrike">
                <a:solidFill>
                  <a:srgbClr val="002060"/>
                </a:solidFill>
                <a:latin typeface="Saysettha OT"/>
                <a:ea typeface="Saysettha OT"/>
              </a:rPr>
              <a:t>.</a:t>
            </a:r>
            <a:endParaRPr b="0" lang="en-US" sz="2200" spc="-1" strike="noStrike">
              <a:solidFill>
                <a:srgbClr val="000000"/>
              </a:solidFill>
              <a:latin typeface="Calibri"/>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Saysettha OT"/>
                <a:cs typeface="Saysettha OT"/>
              </a:rPr>
              <a:t>ການສຸມໃສ່ທີ່ເປັນຕົ້ນຕໍຂອງຄູ່ຮ່ວມພັດທະນາໃນການຕີຖອຍພະຍາດດັ່ງກ່າວ ເພື່ອສຳເລັດຄາດໝາຍອັດຕາປົກຄຸມ ຮອດ ທ້າຍປີ </a:t>
            </a:r>
            <a:r>
              <a:rPr b="0" lang="en-US" sz="2200" spc="-1" strike="noStrike">
                <a:solidFill>
                  <a:srgbClr val="002060"/>
                </a:solidFill>
                <a:latin typeface="Saysettha OT"/>
                <a:ea typeface="Saysettha OT"/>
              </a:rPr>
              <a:t>2010</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4560" y="-360"/>
            <a:ext cx="4724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aysettha OT"/>
                <a:cs typeface="Saysettha OT"/>
              </a:rPr>
              <a:t>ຄຳຖາມຂອງການສຳຫຼວດ</a:t>
            </a:r>
            <a:endParaRPr b="0" lang="en-US" sz="3600" spc="-1" strike="noStrike">
              <a:solidFill>
                <a:srgbClr val="000000"/>
              </a:solidFill>
              <a:latin typeface="Calibri"/>
            </a:endParaRPr>
          </a:p>
        </p:txBody>
      </p:sp>
      <p:sp>
        <p:nvSpPr>
          <p:cNvPr id="258"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lnSpc>
                <a:spcPct val="10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Saysettha OT"/>
                <a:cs typeface="Saysettha OT"/>
              </a:rPr>
              <a:t>ຄຳຖາມ </a:t>
            </a:r>
            <a:r>
              <a:rPr b="1" lang="en-US" sz="2600" spc="-1" strike="noStrike">
                <a:solidFill>
                  <a:srgbClr val="002060"/>
                </a:solidFill>
                <a:latin typeface="Saysettha OT"/>
                <a:ea typeface="Saysettha OT"/>
              </a:rPr>
              <a:t>ML.1 – ML.11 </a:t>
            </a:r>
            <a:r>
              <a:rPr b="1" lang="en-US" sz="2600" spc="-1" strike="noStrike">
                <a:solidFill>
                  <a:srgbClr val="002060"/>
                </a:solidFill>
                <a:latin typeface="Saysettha OT"/>
                <a:cs typeface="Saysettha OT"/>
              </a:rPr>
              <a:t>ໃນແບບສອບຖາມເດັກອາຍຸ ຕ່ຳກວາ </a:t>
            </a:r>
            <a:r>
              <a:rPr b="1" lang="en-US" sz="2600" spc="-1" strike="noStrike">
                <a:solidFill>
                  <a:srgbClr val="002060"/>
                </a:solidFill>
                <a:latin typeface="Saysettha OT"/>
                <a:ea typeface="Saysettha OT"/>
              </a:rPr>
              <a:t>5 </a:t>
            </a:r>
            <a:r>
              <a:rPr b="1" lang="en-US" sz="2600" spc="-1" strike="noStrike">
                <a:solidFill>
                  <a:srgbClr val="002060"/>
                </a:solidFill>
                <a:latin typeface="Saysettha OT"/>
                <a:cs typeface="Saysettha OT"/>
              </a:rPr>
              <a:t>ປີ</a:t>
            </a:r>
            <a:endParaRPr b="0" lang="en-US" sz="2600" spc="-1" strike="noStrike">
              <a:solidFill>
                <a:srgbClr val="000000"/>
              </a:solidFill>
              <a:latin typeface="Calibri"/>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Saysettha OT"/>
                <a:ea typeface="Saysettha OT"/>
              </a:rPr>
              <a:t>ML.1: </a:t>
            </a:r>
            <a:r>
              <a:rPr b="0" lang="en-US" sz="2200" spc="-1" strike="noStrike">
                <a:solidFill>
                  <a:srgbClr val="002060"/>
                </a:solidFill>
                <a:latin typeface="Saysettha OT"/>
                <a:cs typeface="Saysettha OT"/>
              </a:rPr>
              <a:t>ກໍລະນີເປັນໄຂ້</a:t>
            </a:r>
            <a:endParaRPr b="0" lang="en-US" sz="2200" spc="-1" strike="noStrike">
              <a:solidFill>
                <a:srgbClr val="000000"/>
              </a:solidFill>
              <a:latin typeface="Calibri"/>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Saysettha OT"/>
                <a:ea typeface="Saysettha OT"/>
              </a:rPr>
              <a:t>ML.2: </a:t>
            </a:r>
            <a:r>
              <a:rPr b="0" lang="en-US" sz="2200" spc="-1" strike="noStrike">
                <a:solidFill>
                  <a:srgbClr val="002060"/>
                </a:solidFill>
                <a:latin typeface="Saysettha OT"/>
                <a:cs typeface="Saysettha OT"/>
              </a:rPr>
              <a:t>ການນຳໃຊ້ເພື່ອບົ່ງມະຕິພະຍາດມາລາເລຍ</a:t>
            </a:r>
            <a:endParaRPr b="0" lang="en-US" sz="22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Saysettha OT"/>
                <a:cs typeface="Saysettha OT"/>
              </a:rPr>
              <a:t>ໃນໄລຍະ </a:t>
            </a:r>
            <a:r>
              <a:rPr b="0" lang="pt-BR" sz="1800" spc="-1" strike="noStrike">
                <a:solidFill>
                  <a:srgbClr val="000000"/>
                </a:solidFill>
                <a:latin typeface="Saysettha OT"/>
                <a:ea typeface="Saysettha OT"/>
              </a:rPr>
              <a:t>(</a:t>
            </a:r>
            <a:r>
              <a:rPr b="0" lang="pt-BR" sz="1800" spc="-1" strike="noStrike">
                <a:solidFill>
                  <a:srgbClr val="000000"/>
                </a:solidFill>
                <a:latin typeface="Saysettha OT"/>
                <a:cs typeface="Saysettha OT"/>
              </a:rPr>
              <a:t>ຊື່</a:t>
            </a:r>
            <a:r>
              <a:rPr b="0" lang="pt-BR" sz="1800" spc="-1" strike="noStrike">
                <a:solidFill>
                  <a:srgbClr val="000000"/>
                </a:solidFill>
                <a:latin typeface="Saysettha OT"/>
                <a:ea typeface="Saysettha OT"/>
              </a:rPr>
              <a:t>..) </a:t>
            </a:r>
            <a:r>
              <a:rPr b="0" lang="pt-BR" sz="1800" spc="-1" strike="noStrike">
                <a:solidFill>
                  <a:srgbClr val="000000"/>
                </a:solidFill>
                <a:latin typeface="Saysettha OT"/>
                <a:cs typeface="Saysettha OT"/>
              </a:rPr>
              <a:t>ເປັນໄຂ້</a:t>
            </a:r>
            <a:r>
              <a:rPr b="0" lang="pt-BR" sz="1800" spc="-1" strike="noStrike">
                <a:solidFill>
                  <a:srgbClr val="000000"/>
                </a:solidFill>
                <a:latin typeface="Saysettha OT"/>
                <a:ea typeface="Saysettha OT"/>
              </a:rPr>
              <a:t>, </a:t>
            </a:r>
            <a:r>
              <a:rPr b="0" lang="pt-BR" sz="1800" spc="-1" strike="noStrike">
                <a:solidFill>
                  <a:srgbClr val="000000"/>
                </a:solidFill>
                <a:latin typeface="Saysettha OT"/>
                <a:cs typeface="Saysettha OT"/>
              </a:rPr>
              <a:t>ລາວໄດ້ຖືກເຈາະເອົາເລືອດຢູ່ປາຍນີ້ວມື ຫຼື ສົ້ນຕີນ ເພື່ອໄປກວດບໍ່</a:t>
            </a:r>
            <a:r>
              <a:rPr b="0" lang="pt-BR" sz="1800" spc="-1" strike="noStrike">
                <a:solidFill>
                  <a:srgbClr val="000000"/>
                </a:solidFill>
                <a:latin typeface="Saysettha OT"/>
                <a:ea typeface="Saysettha OT"/>
              </a:rPr>
              <a:t>?</a:t>
            </a:r>
            <a:endParaRPr b="0" lang="en-US" sz="1800" spc="-1" strike="noStrike">
              <a:solidFill>
                <a:srgbClr val="000000"/>
              </a:solidFill>
              <a:latin typeface="Calibri"/>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Saysettha OT"/>
                <a:ea typeface="Saysettha OT"/>
              </a:rPr>
              <a:t>ML.3 – ML.11: </a:t>
            </a:r>
            <a:r>
              <a:rPr b="0" lang="en-US" sz="2200" spc="-1" strike="noStrike">
                <a:solidFill>
                  <a:srgbClr val="002060"/>
                </a:solidFill>
                <a:latin typeface="Saysettha OT"/>
                <a:cs typeface="Saysettha OT"/>
              </a:rPr>
              <a:t>ການປີ່ນປົວພະຍາດມາລາເລຍ </a:t>
            </a:r>
            <a:r>
              <a:rPr b="0" lang="en-US" sz="2200" spc="-1" strike="noStrike">
                <a:solidFill>
                  <a:srgbClr val="002060"/>
                </a:solidFill>
                <a:latin typeface="Saysettha OT"/>
                <a:ea typeface="Saysettha OT"/>
              </a:rPr>
              <a:t>(</a:t>
            </a:r>
            <a:r>
              <a:rPr b="0" lang="en-US" sz="2200" spc="-1" strike="noStrike">
                <a:solidFill>
                  <a:srgbClr val="002060"/>
                </a:solidFill>
                <a:latin typeface="Saysettha OT"/>
                <a:cs typeface="Saysettha OT"/>
              </a:rPr>
              <a:t>ຕາມ ເວລາ</a:t>
            </a:r>
            <a:r>
              <a:rPr b="0" lang="en-US" sz="2200" spc="-1" strike="noStrike">
                <a:solidFill>
                  <a:srgbClr val="002060"/>
                </a:solidFill>
                <a:latin typeface="Saysettha OT"/>
                <a:ea typeface="Saysettha OT"/>
              </a:rPr>
              <a:t>, </a:t>
            </a:r>
            <a:r>
              <a:rPr b="0" lang="en-US" sz="2200" spc="-1" strike="noStrike">
                <a:solidFill>
                  <a:srgbClr val="002060"/>
                </a:solidFill>
                <a:latin typeface="Saysettha OT"/>
                <a:cs typeface="Saysettha OT"/>
              </a:rPr>
              <a:t>ສະຖານທີ່ ແລະ ປະເພດຢາທີ່ປີ່ນປົວ</a:t>
            </a:r>
            <a:r>
              <a:rPr b="0" lang="en-US" sz="2200" spc="-1" strike="noStrike">
                <a:solidFill>
                  <a:srgbClr val="002060"/>
                </a:solidFill>
                <a:latin typeface="Saysettha OT"/>
                <a:ea typeface="Saysettha OT"/>
              </a:rPr>
              <a:t>)</a:t>
            </a:r>
            <a:endParaRPr b="0" lang="en-US" sz="2200" spc="-1" strike="noStrike">
              <a:solidFill>
                <a:srgbClr val="000000"/>
              </a:solidFill>
              <a:latin typeface="Calibri"/>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Saysettha OT"/>
                <a:cs typeface="Saysettha OT"/>
              </a:rPr>
              <a:t>ຮູບພາບຕົວຢ່າງຂອງຢາທີ່ໃຊ້ປີ່ນປົວມາລາເລຍ</a:t>
            </a:r>
            <a:endParaRPr b="0" lang="en-US" sz="3600" spc="-1" strike="noStrike">
              <a:solidFill>
                <a:srgbClr val="000000"/>
              </a:solidFill>
              <a:latin typeface="Calibri"/>
            </a:endParaRPr>
          </a:p>
        </p:txBody>
      </p:sp>
      <p:pic>
        <p:nvPicPr>
          <p:cNvPr id="260" name="Picture 2" descr="artesunate injection manufacturer"/>
          <p:cNvPicPr/>
          <p:nvPr/>
        </p:nvPicPr>
        <p:blipFill>
          <a:blip r:embed="rId1"/>
          <a:stretch/>
        </p:blipFill>
        <p:spPr>
          <a:xfrm>
            <a:off x="74520" y="1447920"/>
            <a:ext cx="4092840" cy="3047760"/>
          </a:xfrm>
          <a:prstGeom prst="rect">
            <a:avLst/>
          </a:prstGeom>
          <a:ln w="0">
            <a:noFill/>
          </a:ln>
        </p:spPr>
      </p:pic>
      <p:pic>
        <p:nvPicPr>
          <p:cNvPr id="261" name="Picture 3" descr="artesunate injection box indications"/>
          <p:cNvPicPr/>
          <p:nvPr/>
        </p:nvPicPr>
        <p:blipFill>
          <a:blip r:embed="rId2"/>
          <a:stretch/>
        </p:blipFill>
        <p:spPr>
          <a:xfrm>
            <a:off x="4686480" y="3038400"/>
            <a:ext cx="4305240" cy="3210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4" descr=""/>
          <p:cNvPicPr/>
          <p:nvPr/>
        </p:nvPicPr>
        <p:blipFill>
          <a:blip r:embed="rId1"/>
          <a:stretch/>
        </p:blipFill>
        <p:spPr>
          <a:xfrm>
            <a:off x="457200" y="1473120"/>
            <a:ext cx="4038480" cy="5384880"/>
          </a:xfrm>
          <a:prstGeom prst="rect">
            <a:avLst/>
          </a:prstGeom>
          <a:ln w="0">
            <a:noFill/>
          </a:ln>
        </p:spPr>
      </p:pic>
      <p:pic>
        <p:nvPicPr>
          <p:cNvPr id="263" name="Picture 5" descr=""/>
          <p:cNvPicPr/>
          <p:nvPr/>
        </p:nvPicPr>
        <p:blipFill>
          <a:blip r:embed="rId2"/>
          <a:stretch/>
        </p:blipFill>
        <p:spPr>
          <a:xfrm>
            <a:off x="4648320" y="1371600"/>
            <a:ext cx="4038480" cy="5384880"/>
          </a:xfrm>
          <a:prstGeom prst="rect">
            <a:avLst/>
          </a:prstGeom>
          <a:ln w="0">
            <a:noFill/>
          </a:ln>
        </p:spPr>
      </p:pic>
      <p:sp>
        <p:nvSpPr>
          <p:cNvPr id="264"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Saysettha OT"/>
              </a:rPr>
              <a:t>ຮູບພາບຕົວຢ່າງຂອງຢາທີ່ໃຊ້ປີ່ນປົວມາລາເລຍ</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66680" y="3352320"/>
            <a:ext cx="7467840" cy="2590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Saysettha Unicode"/>
                <a:cs typeface="Saysettha Unicode"/>
              </a:rPr>
              <a:t>ແບບສອບຖາມສຳລັບເດັກຕ່ຳກວ່າ </a:t>
            </a:r>
            <a:r>
              <a:rPr b="0" lang="en-US" sz="3600" spc="-1" strike="noStrike">
                <a:solidFill>
                  <a:srgbClr val="002060"/>
                </a:solidFill>
                <a:latin typeface="Saysettha Unicode"/>
                <a:ea typeface="Saysettha Unicode"/>
              </a:rPr>
              <a:t>5</a:t>
            </a:r>
            <a:r>
              <a:rPr b="0" lang="en-US" sz="3600" spc="-1" strike="noStrike">
                <a:solidFill>
                  <a:srgbClr val="002060"/>
                </a:solidFill>
                <a:latin typeface="Saysettha Unicode"/>
                <a:cs typeface="Saysettha Unicode"/>
              </a:rPr>
              <a:t>ປີ</a:t>
            </a:r>
            <a:r>
              <a:rPr b="0" lang="en-US" sz="3600" spc="-1" strike="noStrike">
                <a:solidFill>
                  <a:srgbClr val="002060"/>
                </a:solidFill>
                <a:latin typeface="Saysettha Unicode"/>
                <a:ea typeface="Saysettha Unicode"/>
              </a:rPr>
              <a:t>:</a:t>
            </a:r>
            <a:endParaRPr b="0" lang="en-US" sz="36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Saysettha Unicode"/>
                <a:cs typeface="Saysettha Unicode"/>
              </a:rPr>
              <a:t>ສັກຢາກັນພະຍາດ</a:t>
            </a:r>
            <a:endParaRPr b="0" lang="en-US" sz="40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6" name="Rectangle 17"/>
          <p:cNvSpPr/>
          <p:nvPr/>
        </p:nvSpPr>
        <p:spPr>
          <a:xfrm>
            <a:off x="457200" y="2819520"/>
            <a:ext cx="8229600" cy="75960"/>
          </a:xfrm>
          <a:prstGeom prst="rect">
            <a:avLst/>
          </a:prstGeom>
          <a:solidFill>
            <a:srgbClr val="339966"/>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PlaceHolder 2"/>
          <p:cNvSpPr>
            <a:spLocks noGrp="1"/>
          </p:cNvSpPr>
          <p:nvPr>
            <p:ph type="title"/>
          </p:nvPr>
        </p:nvSpPr>
        <p:spPr>
          <a:xfrm>
            <a:off x="304920" y="1142640"/>
            <a:ext cx="86868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Saysettha Unicode"/>
                <a:cs typeface="Saysettha Unicode"/>
              </a:rPr>
              <a:t>ການສຳຫລວດດັດສະນີໝາຍສັງຄົມລາວ </a:t>
            </a:r>
            <a:r>
              <a:rPr b="1" lang="en-US" sz="3600" spc="-1" strike="noStrike">
                <a:solidFill>
                  <a:srgbClr val="f79646"/>
                </a:solidFill>
                <a:latin typeface="Saysettha Unicode"/>
                <a:ea typeface="Saysettha Unicode"/>
              </a:rPr>
              <a:t>(LSIS)</a:t>
            </a:r>
            <a:br>
              <a:rPr sz="3600"/>
            </a:br>
            <a:r>
              <a:rPr b="1" lang="en-US" sz="3600" spc="-1" strike="noStrike">
                <a:solidFill>
                  <a:srgbClr val="f79646"/>
                </a:solidFill>
                <a:latin typeface="Saysettha Unicode"/>
                <a:cs typeface="Saysettha Unicode"/>
              </a:rPr>
              <a:t>ການອົບຮົມນັກເດີນສຳຫລວດ</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75960"/>
            <a:ext cx="2438640" cy="94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9646"/>
                </a:solidFill>
                <a:latin typeface="Saysettha Unicode"/>
                <a:cs typeface="Saysettha Unicode"/>
              </a:rPr>
              <a:t>ເນື້ອໃນ</a:t>
            </a:r>
            <a:endParaRPr b="0" lang="en-US" sz="4400" spc="-1" strike="noStrike">
              <a:solidFill>
                <a:srgbClr val="000000"/>
              </a:solidFill>
              <a:latin typeface="Calibri"/>
            </a:endParaRPr>
          </a:p>
        </p:txBody>
      </p:sp>
      <p:sp>
        <p:nvSpPr>
          <p:cNvPr id="269" name="PlaceHolder 2"/>
          <p:cNvSpPr>
            <a:spLocks noGrp="1"/>
          </p:cNvSpPr>
          <p:nvPr>
            <p:ph/>
          </p:nvPr>
        </p:nvSpPr>
        <p:spPr>
          <a:xfrm>
            <a:off x="409320" y="1447920"/>
            <a:ext cx="8505720" cy="4525920"/>
          </a:xfrm>
          <a:prstGeom prst="rect">
            <a:avLst/>
          </a:prstGeom>
          <a:noFill/>
          <a:ln w="0">
            <a:noFill/>
          </a:ln>
        </p:spPr>
        <p:txBody>
          <a:bodyPr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Saysettha Unicode"/>
                <a:ea typeface="Saysettha Unicode"/>
              </a:rPr>
              <a:t> </a:t>
            </a:r>
            <a:r>
              <a:rPr b="0" lang="en-US" sz="3600" spc="-1" strike="noStrike">
                <a:solidFill>
                  <a:srgbClr val="002060"/>
                </a:solidFill>
                <a:latin typeface="Saysettha Unicode"/>
                <a:ea typeface="Saysettha Unicode"/>
              </a:rPr>
              <a:t>  </a:t>
            </a:r>
            <a:r>
              <a:rPr b="0" lang="en-US" sz="3600" spc="-1" strike="noStrike">
                <a:solidFill>
                  <a:srgbClr val="002060"/>
                </a:solidFill>
                <a:latin typeface="Saysettha Unicode"/>
                <a:cs typeface="Saysettha Unicode"/>
              </a:rPr>
              <a:t>ຂໍ້ມູນສັກຢາກັນພະຍາດໄດ້ຈາກ</a:t>
            </a:r>
            <a:r>
              <a:rPr b="0" lang="en-US" sz="3600" spc="-1" strike="noStrike">
                <a:solidFill>
                  <a:srgbClr val="002060"/>
                </a:solidFill>
                <a:latin typeface="Saysettha Unicode"/>
                <a:ea typeface="Saysettha Unicode"/>
              </a:rPr>
              <a:t>:</a:t>
            </a:r>
            <a:endParaRPr b="0" lang="en-US" sz="36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Saysettha Unicode"/>
                <a:cs typeface="Saysettha Unicode"/>
              </a:rPr>
              <a:t>ບັດສັກຢາກັນພະຍາດ </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Saysettha Unicode"/>
                <a:ea typeface="Saysettha Unicode"/>
              </a:rPr>
              <a:t>	</a:t>
            </a:r>
            <a:r>
              <a:rPr b="0" lang="en-US" sz="3200" spc="-1" strike="noStrike">
                <a:solidFill>
                  <a:srgbClr val="ff0000"/>
                </a:solidFill>
                <a:latin typeface="Saysettha Unicode"/>
                <a:ea typeface="Saysettha Unicode"/>
              </a:rPr>
              <a:t>(</a:t>
            </a:r>
            <a:r>
              <a:rPr b="0" lang="en-US" sz="3200" spc="-1" strike="noStrike">
                <a:solidFill>
                  <a:srgbClr val="ff0000"/>
                </a:solidFill>
                <a:latin typeface="Saysettha Unicode"/>
                <a:cs typeface="Saysettha Unicode"/>
              </a:rPr>
              <a:t>ຫລື ປື້ມຕິດຕາມສຸຂະພາບແມ່ແລະເດັກ</a:t>
            </a:r>
            <a:r>
              <a:rPr b="0" lang="en-US" sz="3200" spc="-1" strike="noStrike">
                <a:solidFill>
                  <a:srgbClr val="ff0000"/>
                </a:solidFill>
                <a:latin typeface="Saysettha Unicode"/>
                <a:ea typeface="Saysettha Unicode"/>
              </a:rPr>
              <a:t>)</a:t>
            </a:r>
            <a:endParaRPr b="0" lang="en-US" sz="3200" spc="-1" strike="noStrike">
              <a:solidFill>
                <a:srgbClr val="000000"/>
              </a:solidFill>
              <a:latin typeface="Calibri"/>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Saysettha Unicode"/>
                <a:cs typeface="Saysettha Unicode"/>
              </a:rPr>
              <a:t>ການບອກເລົ່າຂອງແມ່</a:t>
            </a:r>
            <a:r>
              <a:rPr b="0" lang="en-US" sz="3200" spc="-1" strike="noStrike">
                <a:solidFill>
                  <a:srgbClr val="002060"/>
                </a:solidFill>
                <a:latin typeface="Saysettha Unicode"/>
                <a:ea typeface="Saysettha Unicode"/>
              </a:rPr>
              <a:t>(</a:t>
            </a:r>
            <a:r>
              <a:rPr b="0" lang="en-US" sz="3200" spc="-1" strike="noStrike">
                <a:solidFill>
                  <a:srgbClr val="002060"/>
                </a:solidFill>
                <a:latin typeface="Saysettha Unicode"/>
                <a:cs typeface="Saysettha Unicode"/>
              </a:rPr>
              <a:t>ກໍລະນີບໍ່ມີບັດ</a:t>
            </a:r>
            <a:r>
              <a:rPr b="0" lang="en-US" sz="3200" spc="-1" strike="noStrike">
                <a:solidFill>
                  <a:srgbClr val="002060"/>
                </a:solidFill>
                <a:latin typeface="Saysettha Unicode"/>
                <a:ea typeface="Saysettha Unicode"/>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7" descr="DSCN8550"/>
          <p:cNvPicPr/>
          <p:nvPr/>
        </p:nvPicPr>
        <p:blipFill>
          <a:blip r:embed="rId1"/>
          <a:stretch/>
        </p:blipFill>
        <p:spPr>
          <a:xfrm>
            <a:off x="255600" y="1295280"/>
            <a:ext cx="3935520" cy="5257800"/>
          </a:xfrm>
          <a:prstGeom prst="rect">
            <a:avLst/>
          </a:prstGeom>
          <a:ln w="0">
            <a:noFill/>
          </a:ln>
        </p:spPr>
      </p:pic>
      <p:pic>
        <p:nvPicPr>
          <p:cNvPr id="271" name="Picture 8" descr="DSCN8603"/>
          <p:cNvPicPr/>
          <p:nvPr/>
        </p:nvPicPr>
        <p:blipFill>
          <a:blip r:embed="rId2"/>
          <a:stretch/>
        </p:blipFill>
        <p:spPr>
          <a:xfrm>
            <a:off x="4913280" y="1289160"/>
            <a:ext cx="3886200" cy="5192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rot="10800000">
            <a:off x="189720" y="6125400"/>
            <a:ext cx="3009960" cy="7318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273" name="PlaceHolder 2"/>
          <p:cNvSpPr>
            <a:spLocks noGrp="1"/>
          </p:cNvSpPr>
          <p:nvPr>
            <p:ph type="title"/>
          </p:nvPr>
        </p:nvSpPr>
        <p:spPr>
          <a:xfrm>
            <a:off x="228240" y="151920"/>
            <a:ext cx="1523880" cy="61722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Saysettha Unicode"/>
                <a:cs typeface="Saysettha Unicode"/>
              </a:rPr>
              <a:t>ຮຽນ</a:t>
            </a:r>
            <a:br>
              <a:rPr sz="2400"/>
            </a:br>
            <a:r>
              <a:rPr b="0" lang="en-US" sz="2400" spc="-1" strike="noStrike">
                <a:solidFill>
                  <a:srgbClr val="002060"/>
                </a:solidFill>
                <a:latin typeface="Saysettha Unicode"/>
                <a:cs typeface="Saysettha Unicode"/>
              </a:rPr>
              <a:t>ກ່ຽວກັບຊະນິດ</a:t>
            </a:r>
            <a:br>
              <a:rPr sz="2400"/>
            </a:br>
            <a:r>
              <a:rPr b="0" lang="en-US" sz="2400" spc="-1" strike="noStrike">
                <a:solidFill>
                  <a:srgbClr val="002060"/>
                </a:solidFill>
                <a:latin typeface="Saysettha Unicode"/>
                <a:cs typeface="Saysettha Unicode"/>
              </a:rPr>
              <a:t>ຂອງ</a:t>
            </a:r>
            <a:br>
              <a:rPr sz="2400"/>
            </a:br>
            <a:r>
              <a:rPr b="0" lang="en-US" sz="2400" spc="-1" strike="noStrike">
                <a:solidFill>
                  <a:srgbClr val="002060"/>
                </a:solidFill>
                <a:latin typeface="Saysettha Unicode"/>
                <a:cs typeface="Saysettha Unicode"/>
              </a:rPr>
              <a:t>ຢາສັກ</a:t>
            </a:r>
            <a:br>
              <a:rPr sz="2400"/>
            </a:br>
            <a:r>
              <a:rPr b="0" lang="en-US" sz="2400" spc="-1" strike="noStrike">
                <a:solidFill>
                  <a:srgbClr val="002060"/>
                </a:solidFill>
                <a:latin typeface="Saysettha Unicode"/>
                <a:cs typeface="Saysettha Unicode"/>
              </a:rPr>
              <a:t>ກັນ</a:t>
            </a:r>
            <a:br>
              <a:rPr sz="2400"/>
            </a:br>
            <a:r>
              <a:rPr b="0" lang="en-US" sz="2400" spc="-1" strike="noStrike">
                <a:solidFill>
                  <a:srgbClr val="002060"/>
                </a:solidFill>
                <a:latin typeface="Saysettha Unicode"/>
                <a:cs typeface="Saysettha Unicode"/>
              </a:rPr>
              <a:t>ພະຍາດ ແລະ ຕາຕະຕາງ</a:t>
            </a:r>
            <a:endParaRPr b="0" lang="en-US" sz="2400" spc="-1" strike="noStrike">
              <a:solidFill>
                <a:srgbClr val="000000"/>
              </a:solidFill>
              <a:latin typeface="Calibri"/>
            </a:endParaRPr>
          </a:p>
        </p:txBody>
      </p:sp>
      <p:graphicFrame>
        <p:nvGraphicFramePr>
          <p:cNvPr id="274" name="Object 5"/>
          <p:cNvGraphicFramePr/>
          <p:nvPr/>
        </p:nvGraphicFramePr>
        <p:xfrm>
          <a:off x="2197080" y="0"/>
          <a:ext cx="4889520" cy="6829560"/>
        </p:xfrm>
        <a:graphic>
          <a:graphicData uri="http://schemas.openxmlformats.org/presentationml/2006/ole">
            <p:oleObj r:id="rId1" spid="">
              <p:embed/>
              <p:pic>
                <p:nvPicPr>
                  <p:cNvPr id="275" name="Object 5" descr=""/>
                  <p:cNvPicPr/>
                  <p:nvPr/>
                </p:nvPicPr>
                <p:blipFill>
                  <a:blip r:embed="rId2"/>
                  <a:stretch/>
                </p:blipFill>
                <p:spPr>
                  <a:xfrm>
                    <a:off x="2197080" y="0"/>
                    <a:ext cx="4889520" cy="682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190080" y="1143000"/>
            <a:ext cx="8572680" cy="4525920"/>
          </a:xfrm>
          <a:prstGeom prst="rect">
            <a:avLst/>
          </a:prstGeom>
          <a:noFill/>
          <a:ln w="0">
            <a:noFill/>
          </a:ln>
        </p:spPr>
        <p:txBody>
          <a:bodyPr anchor="t">
            <a:normAutofit/>
          </a:bodyPr>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Saysettha Unicode"/>
                <a:cs typeface="Saysettha Unicode"/>
              </a:rPr>
              <a:t>ພະຍາຍາມໃຫ້ຜູ້ຕອບຄຳຖາມຊອກຫາບັດສັກຢາກັນພະຍາດຂອງເດັກໃຫ້ໄດ້</a:t>
            </a:r>
            <a:r>
              <a:rPr b="0" lang="en-GB" sz="2800" spc="-1" strike="noStrike">
                <a:solidFill>
                  <a:srgbClr val="002060"/>
                </a:solidFill>
                <a:latin typeface="Saysettha Unicode"/>
                <a:ea typeface="Saysettha Unicode"/>
              </a:rPr>
              <a:t>. </a:t>
            </a:r>
            <a:r>
              <a:rPr b="0" lang="en-GB" sz="2800" spc="-1" strike="noStrike">
                <a:solidFill>
                  <a:srgbClr val="002060"/>
                </a:solidFill>
                <a:latin typeface="Saysettha Unicode"/>
                <a:cs typeface="Saysettha Unicode"/>
              </a:rPr>
              <a:t>ມັນເປັນສິ່ງສຳຄັນທີ່ຢັ້ງຢືນເຖິງປະຫວັດການສັກຢາຂອງເດັກ</a:t>
            </a:r>
            <a:r>
              <a:rPr b="0" lang="en-GB" sz="2800" spc="-1" strike="noStrike">
                <a:solidFill>
                  <a:srgbClr val="002060"/>
                </a:solidFill>
                <a:latin typeface="Saysettha Unicode"/>
                <a:ea typeface="Saysettha Unicode"/>
              </a:rPr>
              <a:t>.</a:t>
            </a:r>
            <a:endParaRPr b="0" lang="en-US" sz="2800" spc="-1" strike="noStrike">
              <a:solidFill>
                <a:srgbClr val="000000"/>
              </a:solidFill>
              <a:latin typeface="Calibri"/>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Saysettha Unicode"/>
                <a:cs typeface="Saysettha Unicode"/>
              </a:rPr>
              <a:t>ຖ້າຜູ້ຕອບຄຳຖາມບໍ່ມີບັດສັກຢາ</a:t>
            </a:r>
            <a:r>
              <a:rPr b="0" lang="en-GB" sz="2800" spc="-1" strike="noStrike">
                <a:solidFill>
                  <a:srgbClr val="002060"/>
                </a:solidFill>
                <a:latin typeface="Saysettha Unicode"/>
                <a:ea typeface="Saysettha Unicode"/>
              </a:rPr>
              <a:t>, </a:t>
            </a:r>
            <a:r>
              <a:rPr b="0" lang="en-GB" sz="2800" spc="-1" strike="noStrike">
                <a:solidFill>
                  <a:srgbClr val="002060"/>
                </a:solidFill>
                <a:latin typeface="Saysettha Unicode"/>
                <a:cs typeface="Saysettha Unicode"/>
              </a:rPr>
              <a:t>ແຕ່ການສັກຢາຖືກບັນທຶກໃສ່ເອກະສານອື່ນໆ </a:t>
            </a:r>
            <a:r>
              <a:rPr b="0" lang="en-GB" sz="2800" spc="-1" strike="noStrike">
                <a:solidFill>
                  <a:srgbClr val="002060"/>
                </a:solidFill>
                <a:latin typeface="Saysettha Unicode"/>
                <a:ea typeface="Saysettha Unicode"/>
              </a:rPr>
              <a:t>(</a:t>
            </a:r>
            <a:r>
              <a:rPr b="0" lang="en-GB" sz="2800" spc="-1" strike="noStrike">
                <a:solidFill>
                  <a:srgbClr val="002060"/>
                </a:solidFill>
                <a:latin typeface="Saysettha Unicode"/>
                <a:cs typeface="Saysettha Unicode"/>
              </a:rPr>
              <a:t>ຕົວຢ່າງ</a:t>
            </a:r>
            <a:r>
              <a:rPr b="0" lang="en-GB" sz="2800" spc="-1" strike="noStrike">
                <a:solidFill>
                  <a:srgbClr val="002060"/>
                </a:solidFill>
                <a:latin typeface="Saysettha Unicode"/>
                <a:ea typeface="Saysettha Unicode"/>
              </a:rPr>
              <a:t>: </a:t>
            </a:r>
            <a:r>
              <a:rPr b="0" lang="en-GB" sz="2800" spc="-1" strike="noStrike">
                <a:solidFill>
                  <a:srgbClr val="002060"/>
                </a:solidFill>
                <a:latin typeface="Saysettha Unicode"/>
                <a:cs typeface="Saysettha Unicode"/>
              </a:rPr>
              <a:t>ປຶ້ມຫລືບັດບັນທຶກການໄປພົບແພດ</a:t>
            </a:r>
            <a:r>
              <a:rPr b="0" lang="en-GB" sz="2800" spc="-1" strike="noStrike">
                <a:solidFill>
                  <a:srgbClr val="002060"/>
                </a:solidFill>
                <a:latin typeface="Saysettha Unicode"/>
                <a:ea typeface="Saysettha Unicode"/>
              </a:rPr>
              <a:t>), </a:t>
            </a:r>
            <a:r>
              <a:rPr b="0" lang="en-GB" sz="2800" spc="-1" strike="noStrike">
                <a:solidFill>
                  <a:srgbClr val="002060"/>
                </a:solidFill>
                <a:latin typeface="Saysettha Unicode"/>
                <a:cs typeface="Saysettha Unicode"/>
              </a:rPr>
              <a:t>ຂໍເບິ່ງ</a:t>
            </a:r>
            <a:r>
              <a:rPr b="0" lang="en-GB" sz="2800" spc="-1" strike="noStrike">
                <a:solidFill>
                  <a:srgbClr val="002060"/>
                </a:solidFill>
                <a:latin typeface="Saysettha Unicode"/>
                <a:ea typeface="Saysettha Unicode"/>
              </a:rPr>
              <a:t>.</a:t>
            </a:r>
            <a:endParaRPr b="0" lang="en-US" sz="2800" spc="-1" strike="noStrike">
              <a:solidFill>
                <a:srgbClr val="000000"/>
              </a:solidFill>
              <a:latin typeface="Calibri"/>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Saysettha Unicode"/>
                <a:cs typeface="Saysettha Unicode"/>
              </a:rPr>
              <a:t>ຖ້າມີບໍ່ມີບັດສັກຢາ ຫລື ບໍ່ມີເອກະສານອື່ນໆພຽງແຕ່ຖາມຂໍ້ </a:t>
            </a:r>
            <a:r>
              <a:rPr b="0" lang="en-GB" sz="2800" spc="-1" strike="noStrike">
                <a:solidFill>
                  <a:srgbClr val="002060"/>
                </a:solidFill>
                <a:latin typeface="Saysettha Unicode"/>
                <a:ea typeface="Saysettha Unicode"/>
              </a:rPr>
              <a:t>IM6-16 </a:t>
            </a:r>
            <a:r>
              <a:rPr b="0" lang="en-GB" sz="2800" spc="-1" strike="noStrike">
                <a:solidFill>
                  <a:srgbClr val="002060"/>
                </a:solidFill>
                <a:latin typeface="Saysettha Unicode"/>
                <a:cs typeface="Saysettha Unicode"/>
              </a:rPr>
              <a:t>ເພື່ອຢັ້ງຢືນເຖິງສະພາບການສັກຢາ</a:t>
            </a:r>
            <a:r>
              <a:rPr b="0" lang="en-GB" sz="2800" spc="-1" strike="noStrike">
                <a:solidFill>
                  <a:srgbClr val="002060"/>
                </a:solidFill>
                <a:latin typeface="Saysettha Unicode"/>
                <a:ea typeface="Saysettha Unicode"/>
              </a:rPr>
              <a:t>. </a:t>
            </a:r>
            <a:endParaRPr b="0" lang="en-US" sz="2800" spc="-1" strike="noStrike">
              <a:solidFill>
                <a:srgbClr val="000000"/>
              </a:solidFill>
              <a:latin typeface="Calibri"/>
            </a:endParaRPr>
          </a:p>
        </p:txBody>
      </p:sp>
      <p:sp>
        <p:nvSpPr>
          <p:cNvPr id="277" name="PlaceHolder 2"/>
          <p:cNvSpPr>
            <a:spLocks noGrp="1"/>
          </p:cNvSpPr>
          <p:nvPr>
            <p:ph type="title"/>
          </p:nvPr>
        </p:nvSpPr>
        <p:spPr>
          <a:xfrm>
            <a:off x="380520" y="152280"/>
            <a:ext cx="48769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9646"/>
                </a:solidFill>
                <a:latin typeface="Saysettha Unicode"/>
                <a:cs typeface="Saysettha Unicode"/>
              </a:rPr>
              <a:t>ຈຸດທີ່ຄວນເອົາໃຈໃສ່</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Box 5"/>
          <p:cNvSpPr/>
          <p:nvPr/>
        </p:nvSpPr>
        <p:spPr>
          <a:xfrm>
            <a:off x="1143000" y="1523880"/>
            <a:ext cx="6477120" cy="3750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aysettha Unicode"/>
                <a:cs typeface="Saysettha Unicode"/>
              </a:rPr>
              <a:t>ລາຍລະອຽດ </a:t>
            </a:r>
            <a:endParaRPr b="0" lang="en-US" sz="4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aysettha Unicode"/>
                <a:cs typeface="Saysettha Unicode"/>
              </a:rPr>
              <a:t>ແລະ </a:t>
            </a:r>
            <a:endParaRPr b="0" lang="en-US" sz="4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aysettha Unicode"/>
                <a:cs typeface="Saysettha Unicode"/>
              </a:rPr>
              <a:t>ການບັນທຶກໃສ່ແບບສອບຖາມ</a:t>
            </a:r>
            <a:endParaRPr b="0" lang="en-US" sz="4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360"/>
            <a:ext cx="5638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63d"/>
                </a:solidFill>
                <a:latin typeface="Saysettha Lao"/>
              </a:rPr>
              <a:t>¸ñ­</a:t>
            </a:r>
            <a:r>
              <a:rPr b="1" lang="lo-LA" sz="4400" spc="-1" strike="noStrike">
                <a:solidFill>
                  <a:srgbClr val="00863d"/>
                </a:solidFill>
                <a:latin typeface="Saysettha Lao"/>
                <a:cs typeface="DokChampa"/>
              </a:rPr>
              <a:t>ນ</a:t>
            </a:r>
            <a:r>
              <a:rPr b="1" lang="en-US" sz="4400" spc="-1" strike="noStrike">
                <a:solidFill>
                  <a:srgbClr val="00863d"/>
                </a:solidFill>
                <a:latin typeface="Saysettha Lao"/>
              </a:rPr>
              <a:t>À¡ó© Áì½º¾¨÷</a:t>
            </a:r>
            <a:endParaRPr b="0" lang="en-US" sz="4400" spc="-1" strike="noStrike">
              <a:solidFill>
                <a:srgbClr val="000000"/>
              </a:solidFill>
              <a:latin typeface="Calibri"/>
            </a:endParaRPr>
          </a:p>
        </p:txBody>
      </p:sp>
      <p:sp>
        <p:nvSpPr>
          <p:cNvPr id="115" name="PlaceHolder 2"/>
          <p:cNvSpPr>
            <a:spLocks noGrp="1"/>
          </p:cNvSpPr>
          <p:nvPr>
            <p:ph/>
          </p:nvPr>
        </p:nvSpPr>
        <p:spPr>
          <a:xfrm>
            <a:off x="395280" y="1125000"/>
            <a:ext cx="8229600" cy="4526280"/>
          </a:xfrm>
          <a:prstGeom prst="rect">
            <a:avLst/>
          </a:prstGeom>
          <a:noFill/>
          <a:ln w="0">
            <a:noFill/>
          </a:ln>
        </p:spPr>
        <p:txBody>
          <a:bodyPr anchor="t">
            <a:normAutofit/>
          </a:bodyPr>
          <a:p>
            <a:pPr marL="343080" indent="-34308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Saysettha Lao"/>
              </a:rPr>
              <a:t>Ã¹É´óêññ¤¸ñ­</a:t>
            </a:r>
            <a:r>
              <a:rPr b="0" lang="lo-LA" sz="2800" spc="-1" strike="noStrike">
                <a:solidFill>
                  <a:srgbClr val="c00000"/>
                </a:solidFill>
                <a:latin typeface="Saysettha Lao"/>
                <a:cs typeface="DokChampa"/>
              </a:rPr>
              <a:t>ນ</a:t>
            </a:r>
            <a:r>
              <a:rPr b="0" lang="en-US" sz="2800" spc="-1" strike="noStrike">
                <a:solidFill>
                  <a:srgbClr val="c00000"/>
                </a:solidFill>
                <a:latin typeface="Saysettha Lao"/>
              </a:rPr>
              <a:t>À¡ó© Áì½º¾¨÷</a:t>
            </a:r>
            <a:endParaRPr b="0" lang="en-US" sz="2800" spc="-1" strike="noStrike">
              <a:solidFill>
                <a:srgbClr val="000000"/>
              </a:solidFill>
              <a:latin typeface="Calibri"/>
            </a:endParaRPr>
          </a:p>
          <a:p>
            <a:pPr marL="343080" indent="-34308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Saysettha Lao"/>
              </a:rPr>
              <a:t>¸ñ</a:t>
            </a:r>
            <a:r>
              <a:rPr b="0" lang="lo-LA" sz="2800" spc="-1" strike="noStrike">
                <a:solidFill>
                  <a:srgbClr val="c00000"/>
                </a:solidFill>
                <a:latin typeface="Saysettha Lao"/>
                <a:cs typeface="DokChampa"/>
              </a:rPr>
              <a:t>ນ</a:t>
            </a:r>
            <a:r>
              <a:rPr b="0" lang="en-US" sz="2800" spc="-1" strike="noStrike">
                <a:solidFill>
                  <a:srgbClr val="c00000"/>
                </a:solidFill>
                <a:latin typeface="Saysettha Lao"/>
              </a:rPr>
              <a:t>­À¡ó© Áì½º¾¨ê†«õ¡ªÉº¤§ñ©À¥­</a:t>
            </a:r>
            <a:r>
              <a:rPr b="0" lang="lo-LA" sz="2800" spc="-1" strike="noStrike">
                <a:solidFill>
                  <a:srgbClr val="c00000"/>
                </a:solidFill>
                <a:latin typeface="Saysettha Lao"/>
                <a:cs typeface="DokChampa"/>
              </a:rPr>
              <a:t>ນ</a:t>
            </a:r>
            <a:r>
              <a:rPr b="0" lang="en-US" sz="2800" spc="-1" strike="noStrike">
                <a:solidFill>
                  <a:srgbClr val="c00000"/>
                </a:solidFill>
                <a:latin typeface="Saysettha Lao"/>
              </a:rPr>
              <a:t> </a:t>
            </a:r>
            <a:r>
              <a:rPr b="0" lang="en-US" sz="2800" spc="-1" strike="noStrike">
                <a:solidFill>
                  <a:srgbClr val="c00000"/>
                </a:solidFill>
                <a:latin typeface="Saysettha Lao"/>
              </a:rPr>
              <a:t>Á´È</a:t>
            </a:r>
            <a:r>
              <a:rPr b="0" lang="lo-LA" sz="2800" spc="-1" strike="noStrike">
                <a:solidFill>
                  <a:srgbClr val="c00000"/>
                </a:solidFill>
                <a:latin typeface="Saysettha Lao"/>
                <a:cs typeface="DokChampa"/>
              </a:rPr>
              <a:t>ນ</a:t>
            </a:r>
            <a:r>
              <a:rPr b="0" lang="en-US" sz="2800" spc="-1" strike="noStrike">
                <a:solidFill>
                  <a:srgbClr val="c00000"/>
                </a:solidFill>
                <a:latin typeface="Saysettha Lao"/>
              </a:rPr>
              <a:t>­´ó£¸¾´¥¿À¯ñ</a:t>
            </a:r>
            <a:r>
              <a:rPr b="0" lang="lo-LA" sz="2800" spc="-1" strike="noStrike">
                <a:solidFill>
                  <a:srgbClr val="c00000"/>
                </a:solidFill>
                <a:latin typeface="Saysettha Lao"/>
                <a:cs typeface="DokChampa"/>
              </a:rPr>
              <a:t>ນ</a:t>
            </a:r>
            <a:r>
              <a:rPr b="0" lang="en-US" sz="2800" spc="-1" strike="noStrike">
                <a:solidFill>
                  <a:srgbClr val="c00000"/>
                </a:solidFill>
                <a:latin typeface="Saysettha Lao"/>
              </a:rPr>
              <a:t>­</a:t>
            </a:r>
            <a:endParaRPr b="0" lang="en-US" sz="2800" spc="-1" strike="noStrike">
              <a:solidFill>
                <a:srgbClr val="000000"/>
              </a:solidFill>
              <a:latin typeface="Calibri"/>
            </a:endParaRPr>
          </a:p>
        </p:txBody>
      </p:sp>
      <p:grpSp>
        <p:nvGrpSpPr>
          <p:cNvPr id="116" name="Text Box 7"/>
          <p:cNvGrpSpPr/>
          <p:nvPr/>
        </p:nvGrpSpPr>
        <p:grpSpPr>
          <a:xfrm>
            <a:off x="6602400" y="3529080"/>
            <a:ext cx="2444760" cy="1152360"/>
            <a:chOff x="6602400" y="3529080"/>
            <a:chExt cx="2444760" cy="1152360"/>
          </a:xfrm>
        </p:grpSpPr>
        <p:pic>
          <p:nvPicPr>
            <p:cNvPr id="117" name="Text Box 7" descr=""/>
            <p:cNvPicPr/>
            <p:nvPr/>
          </p:nvPicPr>
          <p:blipFill>
            <a:blip r:embed="rId1"/>
            <a:stretch/>
          </p:blipFill>
          <p:spPr>
            <a:xfrm>
              <a:off x="6602400" y="3529080"/>
              <a:ext cx="2444760" cy="1152360"/>
            </a:xfrm>
            <a:prstGeom prst="rect">
              <a:avLst/>
            </a:prstGeom>
            <a:ln w="0">
              <a:noFill/>
            </a:ln>
          </p:spPr>
        </p:pic>
        <p:sp>
          <p:nvSpPr>
            <p:cNvPr id="118" name=""/>
            <p:cNvSpPr/>
            <p:nvPr/>
          </p:nvSpPr>
          <p:spPr>
            <a:xfrm>
              <a:off x="6705720" y="35812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aysettha Lao"/>
                </a:rPr>
                <a:t>£¿ªº® “®Ò»øÉ” Á´È­</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Òº½­÷¨¾©¦¿ìñ® À©õº</a:t>
              </a:r>
              <a:r>
                <a:rPr b="0" lang="lo-LA" sz="1800" spc="-1" strike="noStrike">
                  <a:solidFill>
                    <a:srgbClr val="ffffff"/>
                  </a:solidFill>
                  <a:latin typeface="Saysettha Lao"/>
                  <a:cs typeface="DokChampa"/>
                </a:rPr>
                <a:t>ນ</a:t>
              </a:r>
              <a:r>
                <a:rPr b="0" lang="en-US" sz="1800" spc="-1" strike="noStrike">
                  <a:solidFill>
                    <a:srgbClr val="ffffff"/>
                  </a:solidFill>
                  <a:latin typeface="Saysettha Lao"/>
                </a:rPr>
                <a:t>­ Áì½¯óÀ¡ó©</a:t>
              </a:r>
              <a:endParaRPr b="0" lang="en-US" sz="1800" spc="-1" strike="noStrike">
                <a:solidFill>
                  <a:srgbClr val="000000"/>
                </a:solidFill>
                <a:latin typeface="Calibri"/>
              </a:endParaRPr>
            </a:p>
          </p:txBody>
        </p:sp>
      </p:grpSp>
      <p:graphicFrame>
        <p:nvGraphicFramePr>
          <p:cNvPr id="119" name="Object 10"/>
          <p:cNvGraphicFramePr/>
          <p:nvPr/>
        </p:nvGraphicFramePr>
        <p:xfrm>
          <a:off x="684360" y="2492280"/>
          <a:ext cx="5562360" cy="5095800"/>
        </p:xfrm>
        <a:graphic>
          <a:graphicData uri="http://schemas.openxmlformats.org/presentationml/2006/ole">
            <p:oleObj r:id="rId2" spid="">
              <p:embed/>
              <p:pic>
                <p:nvPicPr>
                  <p:cNvPr id="120" name="Object 10" descr=""/>
                  <p:cNvPicPr/>
                  <p:nvPr/>
                </p:nvPicPr>
                <p:blipFill>
                  <a:blip r:embed="rId3"/>
                  <a:stretch/>
                </p:blipFill>
                <p:spPr>
                  <a:xfrm>
                    <a:off x="684360" y="2492280"/>
                    <a:ext cx="5562360" cy="5095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0">
                                  <p:stCondLst>
                                    <p:cond delay="0"/>
                                  </p:stCondLst>
                                  <p:childTnLst>
                                    <p:set>
                                      <p:cBhvr>
                                        <p:cTn id="27" dur="1" fill="hold">
                                          <p:stCondLst>
                                            <p:cond delay="0"/>
                                          </p:stCondLst>
                                        </p:cTn>
                                        <p:tgtEl>
                                          <p:spTgt spid="116"/>
                                        </p:tgtEl>
                                        <p:attrNameLst>
                                          <p:attrName>style.visibility</p:attrName>
                                        </p:attrNameLst>
                                      </p:cBhvr>
                                      <p:to>
                                        <p:strVal val="visible"/>
                                      </p:to>
                                    </p:set>
                                    <p:animEffect filter="wedge" transition="in">
                                      <p:cBhvr additive="repl">
                                        <p:cTn id="2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90720" y="609480"/>
            <a:ext cx="7772400" cy="2232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3600" spc="-1" strike="noStrike">
                <a:solidFill>
                  <a:srgbClr val="0070c0"/>
                </a:solidFill>
                <a:latin typeface="Saysettha OT"/>
                <a:cs typeface="Saysettha OT"/>
              </a:rPr>
              <a:t>ການສຳຫຼວດດັດສະນີໝາຍສັງຄົມລາວ</a:t>
            </a:r>
            <a:r>
              <a:rPr b="1" lang="en-US" sz="3600" spc="-1" strike="noStrike">
                <a:solidFill>
                  <a:srgbClr val="0070c0"/>
                </a:solidFill>
                <a:latin typeface="Saysettha OT"/>
                <a:ea typeface="Saysettha OT"/>
              </a:rPr>
              <a:t> </a:t>
            </a:r>
            <a:r>
              <a:rPr b="1" lang="en-US" sz="3600" spc="-1" strike="noStrike">
                <a:solidFill>
                  <a:srgbClr val="0070c0"/>
                </a:solidFill>
                <a:latin typeface="Saysettha OT"/>
                <a:ea typeface="Saysettha OT"/>
              </a:rPr>
              <a:t>(LSIS)</a:t>
            </a:r>
            <a:br>
              <a:rPr sz="3200"/>
            </a:br>
            <a:r>
              <a:rPr b="1" lang="lo-LA" sz="2900" spc="-1" strike="noStrike">
                <a:solidFill>
                  <a:srgbClr val="0070c0"/>
                </a:solidFill>
                <a:latin typeface="Saysettha OT"/>
                <a:cs typeface="Saysettha OT"/>
              </a:rPr>
              <a:t>ອົບຮົມນັກເດີນສຳຫຼວດ</a:t>
            </a:r>
            <a:endParaRPr b="0" lang="en-US" sz="2900" spc="-1" strike="noStrike">
              <a:solidFill>
                <a:srgbClr val="000000"/>
              </a:solidFill>
              <a:latin typeface="Calibri"/>
            </a:endParaRPr>
          </a:p>
        </p:txBody>
      </p:sp>
      <p:sp>
        <p:nvSpPr>
          <p:cNvPr id="280" name="PlaceHolder 2"/>
          <p:cNvSpPr>
            <a:spLocks noGrp="1"/>
          </p:cNvSpPr>
          <p:nvPr>
            <p:ph type="subTitle"/>
          </p:nvPr>
        </p:nvSpPr>
        <p:spPr>
          <a:xfrm>
            <a:off x="1142640" y="3809520"/>
            <a:ext cx="7620120" cy="21337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3600" spc="-1" strike="noStrike">
                <a:solidFill>
                  <a:srgbClr val="002060"/>
                </a:solidFill>
                <a:latin typeface="Saysettha OT"/>
                <a:cs typeface="Saysettha OT"/>
              </a:rPr>
              <a:t>ແບບສອບຖາມສຳລັບເດັກອາຍຸຕ່ຳກວ່າ</a:t>
            </a:r>
            <a:r>
              <a:rPr b="0" lang="lo-LA" sz="1000" spc="-1" strike="noStrike">
                <a:solidFill>
                  <a:srgbClr val="002060"/>
                </a:solidFill>
                <a:latin typeface="Saysettha OT"/>
                <a:ea typeface="Saysettha OT"/>
              </a:rPr>
              <a:t> </a:t>
            </a:r>
            <a:r>
              <a:rPr b="0" lang="lo-LA" sz="3600" spc="-1" strike="noStrike">
                <a:solidFill>
                  <a:srgbClr val="002060"/>
                </a:solidFill>
                <a:latin typeface="Saysettha OT"/>
                <a:ea typeface="Saysettha OT"/>
              </a:rPr>
              <a:t>5</a:t>
            </a:r>
            <a:r>
              <a:rPr b="0" lang="lo-LA" sz="900" spc="-1" strike="noStrike">
                <a:solidFill>
                  <a:srgbClr val="002060"/>
                </a:solidFill>
                <a:latin typeface="Saysettha OT"/>
                <a:ea typeface="Saysettha OT"/>
              </a:rPr>
              <a:t> </a:t>
            </a:r>
            <a:r>
              <a:rPr b="0" lang="lo-LA" sz="3600" spc="-1" strike="noStrike">
                <a:solidFill>
                  <a:srgbClr val="002060"/>
                </a:solidFill>
                <a:latin typeface="Saysettha OT"/>
                <a:cs typeface="Saysettha OT"/>
              </a:rPr>
              <a:t>ປີ</a:t>
            </a:r>
            <a:r>
              <a:rPr b="0" lang="en-US" sz="3600" spc="-1" strike="noStrike">
                <a:solidFill>
                  <a:srgbClr val="002060"/>
                </a:solidFill>
                <a:latin typeface="Saysettha OT"/>
                <a:ea typeface="Saysettha OT"/>
              </a:rPr>
              <a:t>:</a:t>
            </a:r>
            <a:endParaRPr b="0" lang="en-US" sz="3600" spc="-1" strike="noStrike">
              <a:solidFill>
                <a:srgbClr val="000000"/>
              </a:solidFill>
              <a:latin typeface="Calibri"/>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000" spc="-1" strike="noStrike">
                <a:solidFill>
                  <a:srgbClr val="002060"/>
                </a:solidFill>
                <a:latin typeface="Saysettha OT"/>
                <a:cs typeface="Saysettha OT"/>
              </a:rPr>
              <a:t>ການປຽບທຽບທາງດ້ານຮ່າງກາຍ</a:t>
            </a:r>
            <a:r>
              <a:rPr b="1" lang="en-US" sz="4000" spc="-1" strike="noStrike">
                <a:solidFill>
                  <a:srgbClr val="002060"/>
                </a:solidFill>
                <a:latin typeface="Saysettha OT"/>
                <a:ea typeface="Saysettha OT"/>
              </a:rPr>
              <a:t>(Anthropometry)</a:t>
            </a:r>
            <a:r>
              <a:rPr b="1" lang="en-US" sz="3600" spc="-1" strike="noStrike">
                <a:solidFill>
                  <a:srgbClr val="002060"/>
                </a:solidFill>
                <a:latin typeface="Saysettha OT"/>
                <a:ea typeface="Saysettha OT"/>
              </a:rPr>
              <a:t> </a:t>
            </a:r>
            <a:endParaRPr b="0" lang="en-US" sz="3600" spc="-1" strike="noStrike">
              <a:solidFill>
                <a:srgbClr val="000000"/>
              </a:solidFill>
              <a:latin typeface="Calibri"/>
            </a:endParaRPr>
          </a:p>
        </p:txBody>
      </p:sp>
      <p:sp>
        <p:nvSpPr>
          <p:cNvPr id="281" name="Rectangle 17"/>
          <p:cNvSpPr/>
          <p:nvPr/>
        </p:nvSpPr>
        <p:spPr>
          <a:xfrm>
            <a:off x="609480" y="3276720"/>
            <a:ext cx="8229600" cy="75960"/>
          </a:xfrm>
          <a:prstGeom prst="rect">
            <a:avLst/>
          </a:prstGeom>
          <a:solidFill>
            <a:srgbClr val="339966"/>
          </a:solidFill>
          <a:ln w="0">
            <a:noFill/>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90720" y="274320"/>
            <a:ext cx="7943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4400" spc="-1" strike="noStrike">
                <a:solidFill>
                  <a:srgbClr val="002060"/>
                </a:solidFill>
                <a:latin typeface="Saysettha OT"/>
                <a:cs typeface="Saysettha OT"/>
              </a:rPr>
              <a:t>ເນື້ອໃນທີ່ຈະສະເໜີ</a:t>
            </a:r>
            <a:endParaRPr b="0" lang="en-US" sz="4400" spc="-1" strike="noStrike">
              <a:solidFill>
                <a:srgbClr val="000000"/>
              </a:solidFill>
              <a:latin typeface="Calibri"/>
            </a:endParaRPr>
          </a:p>
        </p:txBody>
      </p:sp>
      <p:sp>
        <p:nvSpPr>
          <p:cNvPr id="283" name=""/>
          <p:cNvSpPr txBox="1"/>
          <p:nvPr/>
        </p:nvSpPr>
        <p:spPr>
          <a:xfrm>
            <a:off x="990720" y="1447560"/>
            <a:ext cx="7943760" cy="5105160"/>
          </a:xfrm>
          <a:prstGeom prst="rect">
            <a:avLst/>
          </a:prstGeom>
          <a:noFill/>
          <a:ln w="0">
            <a:noFill/>
          </a:ln>
        </p:spPr>
        <p:txBody>
          <a:bodyPr anchor="t">
            <a:normAutofit/>
          </a:bodyPr>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ການທົດສອບກ່ອນການອົບຮົບ</a:t>
            </a:r>
            <a:endParaRPr b="0" lang="en-US" sz="2800" spc="-1" strike="noStrike">
              <a:solidFill>
                <a:srgbClr val="000000"/>
              </a:solidFill>
              <a:latin typeface="Calibri"/>
            </a:endParaRPr>
          </a:p>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ຄວາມເປັນມາຂອງການປຽບທຽບທາງດ້ານຮ່າງກາຍ</a:t>
            </a:r>
            <a:endParaRPr b="0" lang="en-US" sz="2800" spc="-1" strike="noStrike">
              <a:solidFill>
                <a:srgbClr val="000000"/>
              </a:solidFill>
              <a:latin typeface="Calibri"/>
            </a:endParaRPr>
          </a:p>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ບັນດາຂໍ້ມູນ ແລະ ດັດສະນີ ທີ່ນຳໃຊ້</a:t>
            </a:r>
            <a:endParaRPr b="0" lang="en-US" sz="2800" spc="-1" strike="noStrike">
              <a:solidFill>
                <a:srgbClr val="000000"/>
              </a:solidFill>
              <a:latin typeface="Calibri"/>
            </a:endParaRPr>
          </a:p>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ວັດຖຸປະສົງ ແລະ ເປົ້າໝາຍ</a:t>
            </a:r>
            <a:endParaRPr b="0" lang="en-US" sz="2800" spc="-1" strike="noStrike">
              <a:solidFill>
                <a:srgbClr val="000000"/>
              </a:solidFill>
              <a:latin typeface="Calibri"/>
            </a:endParaRPr>
          </a:p>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ອຸປະກອນ</a:t>
            </a:r>
            <a:endParaRPr b="0" lang="en-US" sz="2800" spc="-1" strike="noStrike">
              <a:solidFill>
                <a:srgbClr val="000000"/>
              </a:solidFill>
              <a:latin typeface="Calibri"/>
            </a:endParaRPr>
          </a:p>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ຂັ້ນຕອນໃນການວັດແທກ</a:t>
            </a:r>
            <a:endParaRPr b="0" lang="en-US" sz="2800" spc="-1" strike="noStrike">
              <a:solidFill>
                <a:srgbClr val="000000"/>
              </a:solidFill>
              <a:latin typeface="Calibri"/>
            </a:endParaRPr>
          </a:p>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ຈຸດທີ່ຄວນເອົາໃຈໃສ່</a:t>
            </a:r>
            <a:endParaRPr b="0" lang="en-US" sz="2800" spc="-1" strike="noStrike">
              <a:solidFill>
                <a:srgbClr val="000000"/>
              </a:solidFill>
              <a:latin typeface="Calibri"/>
            </a:endParaRPr>
          </a:p>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ການກວດຫາການບວມ</a:t>
            </a:r>
            <a:endParaRPr b="0" lang="en-US" sz="2800" spc="-1" strike="noStrike">
              <a:solidFill>
                <a:srgbClr val="000000"/>
              </a:solidFill>
              <a:latin typeface="Calibri"/>
            </a:endParaRPr>
          </a:p>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ການທົດສອບມາດຖານໃນການວັດແທກ</a:t>
            </a:r>
            <a:endParaRPr b="0" lang="en-US" sz="2800" spc="-1" strike="noStrike">
              <a:solidFill>
                <a:srgbClr val="000000"/>
              </a:solidFill>
              <a:latin typeface="Calibri"/>
            </a:endParaRPr>
          </a:p>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ການທົດສອບຫຼັງການອົບຮົບ</a:t>
            </a:r>
            <a:endParaRPr b="0" lang="en-US" sz="2800" spc="-1" strike="noStrike">
              <a:solidFill>
                <a:srgbClr val="000000"/>
              </a:solidFill>
              <a:latin typeface="Calibri"/>
            </a:endParaRPr>
          </a:p>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Footer Placeholder 3"/>
          <p:cNvSpPr/>
          <p:nvPr/>
        </p:nvSpPr>
        <p:spPr>
          <a:xfrm>
            <a:off x="5543640" y="6305400"/>
            <a:ext cx="3066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Saysettha OT"/>
                <a:ea typeface="Saysettha OT"/>
              </a:rPr>
              <a:t>MICS4 Survey Design Workshop</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320" y="228240"/>
            <a:ext cx="786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400" spc="-1" strike="noStrike">
                <a:solidFill>
                  <a:srgbClr val="002060"/>
                </a:solidFill>
                <a:latin typeface="Saysettha OT"/>
                <a:cs typeface="Saysettha OT"/>
              </a:rPr>
              <a:t>ຄວາມເປັນມາ</a:t>
            </a:r>
            <a:endParaRPr b="0" lang="en-US" sz="4400" spc="-1" strike="noStrike">
              <a:solidFill>
                <a:srgbClr val="000000"/>
              </a:solidFill>
              <a:latin typeface="Calibri"/>
            </a:endParaRPr>
          </a:p>
        </p:txBody>
      </p:sp>
      <p:sp>
        <p:nvSpPr>
          <p:cNvPr id="286" name=""/>
          <p:cNvSpPr txBox="1"/>
          <p:nvPr/>
        </p:nvSpPr>
        <p:spPr>
          <a:xfrm>
            <a:off x="838080" y="1523880"/>
            <a:ext cx="8096400" cy="5105520"/>
          </a:xfrm>
          <a:prstGeom prst="rect">
            <a:avLst/>
          </a:prstGeom>
          <a:noFill/>
          <a:ln w="0">
            <a:noFill/>
          </a:ln>
        </p:spPr>
        <p:txBody>
          <a:bodyPr anchor="t">
            <a:normAutofit/>
          </a:bodyPr>
          <a:p>
            <a:pPr marL="343080" indent="-343080">
              <a:lnSpc>
                <a:spcPct val="100000"/>
              </a:lnSpc>
              <a:spcBef>
                <a:spcPts val="24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ການປຽນແປງຂະໜາດຂອງຮ່າງກາຍສ່ອງແສງເຖິງ ສຸຂະພາບ ແລະ ຄວາມຢູ່ດີມີສຸກຂອງບຸກຄົນ ແລະປະຊາຊົນ</a:t>
            </a:r>
            <a:endParaRPr b="0" lang="en-US" sz="2600" spc="-1" strike="noStrike">
              <a:solidFill>
                <a:srgbClr val="000000"/>
              </a:solidFill>
              <a:latin typeface="Calibri"/>
            </a:endParaRPr>
          </a:p>
          <a:p>
            <a:pPr marL="343080" indent="-343080">
              <a:lnSpc>
                <a:spcPct val="100000"/>
              </a:lnSpc>
              <a:spcBef>
                <a:spcPts val="24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ການປຽບທຽບທາງດ້ານຮ່າງກາຍ ແມ່ນຖືກນຳໃຊ້ເພື່ອປະເມີນການເຕີບໂຕຂອງຮ່າງກາຍ</a:t>
            </a:r>
            <a:r>
              <a:rPr b="0" lang="lo-LA" sz="2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ສະພາບສຸຂະພາບ</a:t>
            </a:r>
            <a:r>
              <a:rPr b="0" lang="lo-LA" sz="2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ແລະການກິນຢູ່ຂອງບຸກຄົນ</a:t>
            </a:r>
            <a:r>
              <a:rPr b="0" lang="lo-LA" sz="2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ແລະ ສ່ອງແສງເຖິງການເຕີບໂຕຂອງເສດຖະກິດ ແລະການເປັນຢູ່ທາງສັງຄົມ ຂອງປະຊາຊົນ</a:t>
            </a:r>
            <a:endParaRPr b="0" lang="en-US" sz="2600" spc="-1" strike="noStrike">
              <a:solidFill>
                <a:srgbClr val="000000"/>
              </a:solidFill>
              <a:latin typeface="Calibri"/>
            </a:endParaRPr>
          </a:p>
          <a:p>
            <a:pPr marL="343080" indent="-343080">
              <a:lnSpc>
                <a:spcPct val="100000"/>
              </a:lnSpc>
              <a:spcBef>
                <a:spcPts val="24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ການປຽບທຽບທາງດ້ານຮ່າງກາຍ ນຳໃຊ້ຢ່າງກວ້າງຂວາງ</a:t>
            </a:r>
            <a:r>
              <a:rPr b="0" lang="lo-LA" sz="2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ໂດຍທົ່ວໄປໃຊ້ປະເມີນ ສະພາບໂພຊະນາການຂອງບກຄົນ ຫລື ກຸ່ມປະຊາກອນ</a:t>
            </a:r>
            <a:r>
              <a:rPr b="0" lang="lo-LA" sz="2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ເປັນວິທີການ ທີ່ງ່າຍ ແລະບໍ່ແພງ </a:t>
            </a:r>
            <a:endParaRPr b="0" lang="en-US" sz="2600" spc="-1" strike="noStrike">
              <a:solidFill>
                <a:srgbClr val="000000"/>
              </a:solidFill>
              <a:latin typeface="Calibri"/>
            </a:endParaRPr>
          </a:p>
        </p:txBody>
      </p:sp>
      <p:sp>
        <p:nvSpPr>
          <p:cNvPr id="2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Saysettha OT"/>
                <a:ea typeface="Saysettha OT"/>
              </a:rPr>
              <a:t>MICS4 Survey Design Workshop</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29564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3600" spc="-1" strike="noStrike">
                <a:solidFill>
                  <a:srgbClr val="002060"/>
                </a:solidFill>
                <a:latin typeface="Saysettha OT"/>
                <a:cs typeface="Saysettha OT"/>
              </a:rPr>
              <a:t>ບັນດາຂໍ້ມູນ ທ່ີຈຳເປັນໃຊ້ໃນການປຽບທຽບທາງດ້ານຮ່າງກາຍ</a:t>
            </a:r>
            <a:endParaRPr b="0" lang="en-US" sz="3600" spc="-1" strike="noStrike">
              <a:solidFill>
                <a:srgbClr val="000000"/>
              </a:solidFill>
              <a:latin typeface="Calibri"/>
            </a:endParaRPr>
          </a:p>
        </p:txBody>
      </p:sp>
      <p:sp>
        <p:nvSpPr>
          <p:cNvPr id="289" name=""/>
          <p:cNvSpPr txBox="1"/>
          <p:nvPr/>
        </p:nvSpPr>
        <p:spPr>
          <a:xfrm>
            <a:off x="990720" y="1980720"/>
            <a:ext cx="7772400" cy="4496040"/>
          </a:xfrm>
          <a:prstGeom prst="rect">
            <a:avLst/>
          </a:prstGeom>
          <a:noFill/>
          <a:ln w="0">
            <a:noFill/>
          </a:ln>
        </p:spPr>
        <p:txBody>
          <a:bodyPr anchor="t">
            <a:normAutofit/>
          </a:bodyPr>
          <a:p>
            <a:pPr lvl="1" marL="717480" indent="-314280">
              <a:lnSpc>
                <a:spcPct val="140000"/>
              </a:lnSpc>
              <a:spcBef>
                <a:spcPts val="18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o-LA" sz="2600" spc="-1" strike="noStrike">
                <a:solidFill>
                  <a:srgbClr val="002060"/>
                </a:solidFill>
                <a:latin typeface="Saysettha OT"/>
                <a:cs typeface="Saysettha OT"/>
              </a:rPr>
              <a:t>ອາຍຸ </a:t>
            </a:r>
            <a:r>
              <a:rPr b="1" lang="lo-LA" sz="2600" spc="-1" strike="noStrike">
                <a:solidFill>
                  <a:srgbClr val="002060"/>
                </a:solidFill>
                <a:latin typeface="Saysettha OT"/>
                <a:ea typeface="Saysettha OT"/>
              </a:rPr>
              <a:t>(</a:t>
            </a:r>
            <a:r>
              <a:rPr b="1" lang="lo-LA" sz="2600" spc="-1" strike="noStrike">
                <a:solidFill>
                  <a:srgbClr val="002060"/>
                </a:solidFill>
                <a:latin typeface="Saysettha OT"/>
                <a:cs typeface="Saysettha OT"/>
              </a:rPr>
              <a:t>ເປັນເດືອນ</a:t>
            </a:r>
            <a:r>
              <a:rPr b="1" lang="lo-LA" sz="2600" spc="-1" strike="noStrike">
                <a:solidFill>
                  <a:srgbClr val="002060"/>
                </a:solidFill>
                <a:latin typeface="Saysettha OT"/>
                <a:ea typeface="Saysettha OT"/>
              </a:rPr>
              <a:t>)</a:t>
            </a:r>
            <a:endParaRPr b="0" lang="en-US" sz="2600" spc="-1" strike="noStrike">
              <a:solidFill>
                <a:srgbClr val="000000"/>
              </a:solidFill>
              <a:latin typeface="Calibri"/>
            </a:endParaRPr>
          </a:p>
          <a:p>
            <a:pPr lvl="1" marL="717480" indent="-314280">
              <a:lnSpc>
                <a:spcPct val="140000"/>
              </a:lnSpc>
              <a:spcBef>
                <a:spcPts val="18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o-LA" sz="2600" spc="-1" strike="noStrike">
                <a:solidFill>
                  <a:srgbClr val="002060"/>
                </a:solidFill>
                <a:latin typeface="Saysettha OT"/>
                <a:cs typeface="Saysettha OT"/>
              </a:rPr>
              <a:t>ເພດ</a:t>
            </a:r>
            <a:r>
              <a:rPr b="1" lang="en-US" sz="2600" spc="-1" strike="noStrike">
                <a:solidFill>
                  <a:srgbClr val="002060"/>
                </a:solidFill>
                <a:latin typeface="Saysettha OT"/>
                <a:ea typeface="Saysettha OT"/>
              </a:rPr>
              <a:t> </a:t>
            </a:r>
            <a:endParaRPr b="0" lang="en-US" sz="2600" spc="-1" strike="noStrike">
              <a:solidFill>
                <a:srgbClr val="000000"/>
              </a:solidFill>
              <a:latin typeface="Calibri"/>
            </a:endParaRPr>
          </a:p>
          <a:p>
            <a:pPr lvl="1" marL="717480" indent="-314280">
              <a:lnSpc>
                <a:spcPct val="140000"/>
              </a:lnSpc>
              <a:spcBef>
                <a:spcPts val="18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o-LA" sz="2600" spc="-1" strike="noStrike">
                <a:solidFill>
                  <a:srgbClr val="002060"/>
                </a:solidFill>
                <a:latin typeface="Saysettha OT"/>
                <a:cs typeface="Saysettha OT"/>
              </a:rPr>
              <a:t>ນ້ຳໜັກ</a:t>
            </a:r>
            <a:endParaRPr b="0" lang="en-US" sz="2600" spc="-1" strike="noStrike">
              <a:solidFill>
                <a:srgbClr val="000000"/>
              </a:solidFill>
              <a:latin typeface="Calibri"/>
            </a:endParaRPr>
          </a:p>
          <a:p>
            <a:pPr lvl="1" marL="717480" indent="-314280">
              <a:lnSpc>
                <a:spcPct val="140000"/>
              </a:lnSpc>
              <a:spcBef>
                <a:spcPts val="18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o-LA" sz="2600" spc="-1" strike="noStrike">
                <a:solidFill>
                  <a:srgbClr val="002060"/>
                </a:solidFill>
                <a:latin typeface="Saysettha OT"/>
                <a:cs typeface="Saysettha OT"/>
              </a:rPr>
              <a:t>ລວງຍາວ</a:t>
            </a:r>
            <a:r>
              <a:rPr b="1" lang="en-US" sz="2600" spc="-1" strike="noStrike">
                <a:solidFill>
                  <a:srgbClr val="002060"/>
                </a:solidFill>
                <a:latin typeface="Saysettha OT"/>
                <a:ea typeface="Saysettha OT"/>
              </a:rPr>
              <a:t>/</a:t>
            </a:r>
            <a:r>
              <a:rPr b="1" lang="lo-LA" sz="2600" spc="-1" strike="noStrike">
                <a:solidFill>
                  <a:srgbClr val="002060"/>
                </a:solidFill>
                <a:latin typeface="Saysettha OT"/>
                <a:cs typeface="Saysettha OT"/>
              </a:rPr>
              <a:t>ລວງສູງ </a:t>
            </a:r>
            <a:endParaRPr b="0" lang="en-US" sz="2600" spc="-1" strike="noStrike">
              <a:solidFill>
                <a:srgbClr val="000000"/>
              </a:solidFill>
              <a:latin typeface="Calibri"/>
            </a:endParaRPr>
          </a:p>
          <a:p>
            <a:pPr lvl="2" marL="961920" indent="-314280">
              <a:lnSpc>
                <a:spcPct val="140000"/>
              </a:lnSpc>
              <a:spcBef>
                <a:spcPts val="180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Saysettha OT"/>
                <a:cs typeface="Saysettha OT"/>
              </a:rPr>
              <a:t>ເດັກອາຍຸຕ່ຳກວ່າ </a:t>
            </a:r>
            <a:r>
              <a:rPr b="0" lang="en-US" sz="2200" spc="-1" strike="noStrike">
                <a:solidFill>
                  <a:srgbClr val="002060"/>
                </a:solidFill>
                <a:latin typeface="Saysettha OT"/>
                <a:ea typeface="Saysettha OT"/>
              </a:rPr>
              <a:t>2 </a:t>
            </a:r>
            <a:r>
              <a:rPr b="0" lang="en-US" sz="2200" spc="-1" strike="noStrike">
                <a:solidFill>
                  <a:srgbClr val="002060"/>
                </a:solidFill>
                <a:latin typeface="Saysettha OT"/>
                <a:cs typeface="Saysettha OT"/>
              </a:rPr>
              <a:t>ປີ</a:t>
            </a:r>
            <a:r>
              <a:rPr b="0" lang="en-US" sz="2200" spc="-1" strike="noStrike">
                <a:solidFill>
                  <a:srgbClr val="002060"/>
                </a:solidFill>
                <a:latin typeface="Saysettha OT"/>
                <a:ea typeface="Saysettha OT"/>
              </a:rPr>
              <a:t>, </a:t>
            </a:r>
            <a:r>
              <a:rPr b="0" lang="lo-LA" sz="2200" spc="-1" strike="noStrike">
                <a:solidFill>
                  <a:srgbClr val="002060"/>
                </a:solidFill>
                <a:latin typeface="Saysettha OT"/>
                <a:cs typeface="Saysettha OT"/>
              </a:rPr>
              <a:t>ເອີ້ນ</a:t>
            </a:r>
            <a:r>
              <a:rPr b="0" lang="en-US" sz="2200" spc="-1" strike="noStrike">
                <a:solidFill>
                  <a:srgbClr val="002060"/>
                </a:solidFill>
                <a:latin typeface="Saysettha OT"/>
                <a:cs typeface="Saysettha OT"/>
              </a:rPr>
              <a:t>ວ່າລວງຍາວ</a:t>
            </a:r>
            <a:endParaRPr b="0" lang="en-US" sz="2200" spc="-1" strike="noStrike">
              <a:solidFill>
                <a:srgbClr val="000000"/>
              </a:solidFill>
              <a:latin typeface="Calibri"/>
            </a:endParaRPr>
          </a:p>
          <a:p>
            <a:pPr lvl="2" marL="961920" indent="-314280">
              <a:lnSpc>
                <a:spcPct val="140000"/>
              </a:lnSpc>
              <a:spcBef>
                <a:spcPts val="180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Saysettha OT"/>
                <a:cs typeface="Saysettha OT"/>
              </a:rPr>
              <a:t>ເດັກອາຍຸຫລາຍກວ່າ </a:t>
            </a:r>
            <a:r>
              <a:rPr b="0" lang="en-US" sz="2200" spc="-1" strike="noStrike">
                <a:solidFill>
                  <a:srgbClr val="002060"/>
                </a:solidFill>
                <a:latin typeface="Saysettha OT"/>
                <a:ea typeface="Saysettha OT"/>
              </a:rPr>
              <a:t>2 </a:t>
            </a:r>
            <a:r>
              <a:rPr b="0" lang="en-US" sz="2200" spc="-1" strike="noStrike">
                <a:solidFill>
                  <a:srgbClr val="002060"/>
                </a:solidFill>
                <a:latin typeface="Saysettha OT"/>
                <a:cs typeface="Saysettha OT"/>
              </a:rPr>
              <a:t>ປີ</a:t>
            </a:r>
            <a:r>
              <a:rPr b="0" lang="en-US" sz="2200" spc="-1" strike="noStrike">
                <a:solidFill>
                  <a:srgbClr val="002060"/>
                </a:solidFill>
                <a:latin typeface="Saysettha OT"/>
                <a:ea typeface="Saysettha OT"/>
              </a:rPr>
              <a:t>, </a:t>
            </a:r>
            <a:r>
              <a:rPr b="0" lang="lo-LA" sz="2200" spc="-1" strike="noStrike">
                <a:solidFill>
                  <a:srgbClr val="002060"/>
                </a:solidFill>
                <a:latin typeface="Saysettha OT"/>
                <a:cs typeface="Saysettha OT"/>
              </a:rPr>
              <a:t>ເອີ້ນ</a:t>
            </a:r>
            <a:r>
              <a:rPr b="0" lang="en-US" sz="2200" spc="-1" strike="noStrike">
                <a:solidFill>
                  <a:srgbClr val="002060"/>
                </a:solidFill>
                <a:latin typeface="Saysettha OT"/>
                <a:cs typeface="Saysettha OT"/>
              </a:rPr>
              <a:t>ວ່າລວງສູງ</a:t>
            </a:r>
            <a:endParaRPr b="0" lang="en-US" sz="2200" spc="-1" strike="noStrike">
              <a:solidFill>
                <a:srgbClr val="000000"/>
              </a:solidFill>
              <a:latin typeface="Calibri"/>
            </a:endParaRPr>
          </a:p>
          <a:p>
            <a:pPr lvl="1" marL="717480" indent="-314280">
              <a:lnSpc>
                <a:spcPct val="140000"/>
              </a:lnSpc>
              <a:spcBef>
                <a:spcPts val="18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7480" indent="-314280">
              <a:lnSpc>
                <a:spcPct val="140000"/>
              </a:lnSpc>
              <a:spcBef>
                <a:spcPts val="18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7480" indent="-314280">
              <a:lnSpc>
                <a:spcPct val="140000"/>
              </a:lnSpc>
              <a:spcBef>
                <a:spcPts val="18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7480" indent="-314280">
              <a:lnSpc>
                <a:spcPct val="140000"/>
              </a:lnSpc>
              <a:spcBef>
                <a:spcPts val="18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680" y="304920"/>
            <a:ext cx="7772400" cy="129528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3600" spc="-1" strike="noStrike">
                <a:solidFill>
                  <a:srgbClr val="002060"/>
                </a:solidFill>
                <a:latin typeface="Saysettha OT"/>
                <a:cs typeface="Saysettha OT"/>
              </a:rPr>
              <a:t>ບັນດາດັດສະນີ ໃນການປຽບທຽບ</a:t>
            </a:r>
            <a:br>
              <a:rPr sz="3600"/>
            </a:br>
            <a:r>
              <a:rPr b="1" lang="lo-LA" sz="3600" spc="-1" strike="noStrike">
                <a:solidFill>
                  <a:srgbClr val="002060"/>
                </a:solidFill>
                <a:latin typeface="Saysettha OT"/>
                <a:cs typeface="Saysettha OT"/>
              </a:rPr>
              <a:t>ທາງດ້ານຮ່າງກາຍ</a:t>
            </a:r>
            <a:endParaRPr b="0" lang="en-US" sz="3600" spc="-1" strike="noStrike">
              <a:solidFill>
                <a:srgbClr val="000000"/>
              </a:solidFill>
              <a:latin typeface="Calibri"/>
            </a:endParaRPr>
          </a:p>
        </p:txBody>
      </p:sp>
      <p:sp>
        <p:nvSpPr>
          <p:cNvPr id="291" name="Rectangle 3"/>
          <p:cNvSpPr/>
          <p:nvPr/>
        </p:nvSpPr>
        <p:spPr>
          <a:xfrm>
            <a:off x="1143000" y="2057400"/>
            <a:ext cx="7924680" cy="4324320"/>
          </a:xfrm>
          <a:prstGeom prst="rect">
            <a:avLst/>
          </a:prstGeom>
          <a:noFill/>
          <a:ln w="0">
            <a:noFill/>
          </a:ln>
        </p:spPr>
        <p:style>
          <a:lnRef idx="0"/>
          <a:fillRef idx="0"/>
          <a:effectRef idx="0"/>
          <a:fontRef idx="minor"/>
        </p:style>
        <p:txBody>
          <a:bodyPr lIns="90000" rIns="90000" tIns="46800" bIns="46800" anchor="t">
            <a:noAutofit/>
          </a:bodyPr>
          <a:p>
            <a:pPr lvl="1" marL="806400" indent="-403200">
              <a:lnSpc>
                <a:spcPct val="150000"/>
              </a:lnSpc>
              <a:spcBef>
                <a:spcPts val="18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Saysettha OT"/>
                <a:cs typeface="Saysettha OT"/>
              </a:rPr>
              <a:t>ນ້ຳໜັກຕໍ່ອາຍຸ </a:t>
            </a:r>
            <a:r>
              <a:rPr b="1" lang="en-US" sz="3200" spc="-1" strike="noStrike">
                <a:solidFill>
                  <a:srgbClr val="002060"/>
                </a:solidFill>
                <a:latin typeface="Saysettha OT"/>
                <a:ea typeface="Saysettha OT"/>
              </a:rPr>
              <a:t>(Weight-for-age)</a:t>
            </a:r>
            <a:endParaRPr b="0" lang="en-US" sz="3200" spc="-1" strike="noStrike">
              <a:solidFill>
                <a:srgbClr val="000000"/>
              </a:solidFill>
              <a:latin typeface="Calibri"/>
            </a:endParaRPr>
          </a:p>
          <a:p>
            <a:pPr lvl="1" marL="806400" indent="-403200">
              <a:lnSpc>
                <a:spcPct val="150000"/>
              </a:lnSpc>
              <a:spcBef>
                <a:spcPts val="18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Saysettha OT"/>
                <a:cs typeface="Saysettha OT"/>
              </a:rPr>
              <a:t>ລວງຍາວຕໍ່ອາຍຸ ຫລື ລວງສູງຕໍ່ອາຍຸ  </a:t>
            </a:r>
            <a:r>
              <a:rPr b="1" lang="en-US" sz="3200" spc="-1" strike="noStrike">
                <a:solidFill>
                  <a:srgbClr val="002060"/>
                </a:solidFill>
                <a:latin typeface="Saysettha OT"/>
                <a:ea typeface="Saysettha OT"/>
              </a:rPr>
              <a:t>(Length-for-age or Height-for-age)</a:t>
            </a:r>
            <a:endParaRPr b="0" lang="en-US" sz="3200" spc="-1" strike="noStrike">
              <a:solidFill>
                <a:srgbClr val="000000"/>
              </a:solidFill>
              <a:latin typeface="Calibri"/>
            </a:endParaRPr>
          </a:p>
          <a:p>
            <a:pPr lvl="1" marL="806400" indent="-403200">
              <a:lnSpc>
                <a:spcPct val="150000"/>
              </a:lnSpc>
              <a:spcBef>
                <a:spcPts val="18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Saysettha OT"/>
                <a:cs typeface="Saysettha OT"/>
              </a:rPr>
              <a:t>ລວງຍາວຕໍ່ອາຍຸ  ຫລື ລວງສູງຕໍ່ອາຍຸ  </a:t>
            </a:r>
            <a:r>
              <a:rPr b="1" lang="en-US" sz="3200" spc="-1" strike="noStrike">
                <a:solidFill>
                  <a:srgbClr val="002060"/>
                </a:solidFill>
                <a:latin typeface="Saysettha OT"/>
                <a:ea typeface="Saysettha OT"/>
              </a:rPr>
              <a:t>(Length-for-age or Height-for-age)</a:t>
            </a:r>
            <a:endParaRPr b="0" lang="en-US" sz="3200" spc="-1" strike="noStrike">
              <a:solidFill>
                <a:srgbClr val="000000"/>
              </a:solidFill>
              <a:latin typeface="Calibri"/>
            </a:endParaRPr>
          </a:p>
          <a:p>
            <a:pPr lvl="1" marL="806400" indent="-403200">
              <a:lnSpc>
                <a:spcPct val="150000"/>
              </a:lnSpc>
              <a:spcBef>
                <a:spcPts val="18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806400" indent="-403200">
              <a:lnSpc>
                <a:spcPct val="150000"/>
              </a:lnSpc>
              <a:spcBef>
                <a:spcPts val="18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806400" indent="-403200">
              <a:lnSpc>
                <a:spcPct val="150000"/>
              </a:lnSpc>
              <a:spcBef>
                <a:spcPts val="18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806400" indent="-403200">
              <a:lnSpc>
                <a:spcPct val="150000"/>
              </a:lnSpc>
              <a:spcBef>
                <a:spcPts val="18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806400" indent="-403200">
              <a:lnSpc>
                <a:spcPct val="150000"/>
              </a:lnSpc>
              <a:spcBef>
                <a:spcPts val="18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1143000" y="457200"/>
            <a:ext cx="7620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Saysettha OT"/>
                <a:cs typeface="Saysettha OT"/>
              </a:rPr>
              <a:t>ດັດສະນີ</a:t>
            </a:r>
            <a:r>
              <a:rPr b="1" lang="lo-LA" sz="3600" spc="-1" strike="noStrike">
                <a:solidFill>
                  <a:srgbClr val="002060"/>
                </a:solidFill>
                <a:latin typeface="Saysettha OT"/>
                <a:ea typeface="Saysettha OT"/>
              </a:rPr>
              <a:t> </a:t>
            </a:r>
            <a:r>
              <a:rPr b="1" lang="en-US" sz="3600" spc="-1" strike="noStrike">
                <a:solidFill>
                  <a:srgbClr val="002060"/>
                </a:solidFill>
                <a:latin typeface="Saysettha OT"/>
                <a:cs typeface="Saysettha OT"/>
              </a:rPr>
              <a:t>ທີ່ສະທ້ອນເຖີງນ້ຳໜັກຕໍ່ອາຍຸ</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Saysettha OT"/>
                <a:ea typeface="Saysettha OT"/>
              </a:rPr>
              <a:t>(Weight-for-age)</a:t>
            </a:r>
            <a:endParaRPr b="0" lang="en-US" sz="3600" spc="-1" strike="noStrike">
              <a:solidFill>
                <a:srgbClr val="000000"/>
              </a:solidFill>
              <a:latin typeface="Calibri"/>
            </a:endParaRPr>
          </a:p>
        </p:txBody>
      </p:sp>
      <p:sp>
        <p:nvSpPr>
          <p:cNvPr id="293" name="PlaceHolder 1"/>
          <p:cNvSpPr>
            <a:spLocks noGrp="1"/>
          </p:cNvSpPr>
          <p:nvPr>
            <p:ph/>
          </p:nvPr>
        </p:nvSpPr>
        <p:spPr>
          <a:xfrm>
            <a:off x="762120" y="2209320"/>
            <a:ext cx="8229600" cy="4038840"/>
          </a:xfrm>
          <a:prstGeom prst="rect">
            <a:avLst/>
          </a:prstGeom>
          <a:noFill/>
          <a:ln w="0">
            <a:noFill/>
          </a:ln>
        </p:spPr>
        <p:txBody>
          <a:bodyPr anchor="t">
            <a:normAutofit/>
          </a:bodyPr>
          <a:p>
            <a:pPr marL="343080" indent="-343080">
              <a:lnSpc>
                <a:spcPct val="12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Saysettha OT"/>
                <a:cs typeface="Saysettha OT"/>
              </a:rPr>
              <a:t>ດັດສະນີ</a:t>
            </a:r>
            <a:r>
              <a:rPr b="0" lang="lo-LA" sz="2800" spc="-1" strike="noStrike">
                <a:solidFill>
                  <a:srgbClr val="002060"/>
                </a:solidFill>
                <a:latin typeface="Saysettha OT"/>
                <a:ea typeface="Saysettha OT"/>
              </a:rPr>
              <a:t> </a:t>
            </a:r>
            <a:r>
              <a:rPr b="0" lang="en-US" sz="2800" spc="-1" strike="noStrike">
                <a:solidFill>
                  <a:srgbClr val="002060"/>
                </a:solidFill>
                <a:latin typeface="Saysettha OT"/>
                <a:cs typeface="Saysettha OT"/>
              </a:rPr>
              <a:t>ນ້ຳໜັກຕໍ່ອາຍຸ ຕ່ຳ ຖືວ່າແມ່ນສະພາບຂອງນ້ຳໜັກຫລຸດ </a:t>
            </a:r>
            <a:r>
              <a:rPr b="0" lang="en-US" sz="2800" spc="-1" strike="noStrike">
                <a:solidFill>
                  <a:srgbClr val="002060"/>
                </a:solidFill>
                <a:latin typeface="Saysettha OT"/>
                <a:ea typeface="Saysettha OT"/>
              </a:rPr>
              <a:t>(Underweight), </a:t>
            </a:r>
            <a:r>
              <a:rPr b="0" lang="en-US" sz="2800" spc="-1" strike="noStrike">
                <a:solidFill>
                  <a:srgbClr val="002060"/>
                </a:solidFill>
                <a:latin typeface="Saysettha OT"/>
                <a:cs typeface="Saysettha OT"/>
              </a:rPr>
              <a:t>ສຳລັບອາຍຸສະເພາະໃດໜຶ່ງ</a:t>
            </a:r>
            <a:endParaRPr b="0" lang="en-US" sz="2800" spc="-1" strike="noStrike">
              <a:solidFill>
                <a:srgbClr val="000000"/>
              </a:solidFill>
              <a:latin typeface="Calibri"/>
            </a:endParaRPr>
          </a:p>
          <a:p>
            <a:pPr marL="343080" indent="-343080">
              <a:lnSpc>
                <a:spcPct val="12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Saysettha OT"/>
                <a:cs typeface="Saysettha OT"/>
              </a:rPr>
              <a:t>ປະໂຫຍດຂອງດັດສະນີນີ້ ແມ່ນມັນສະທ້ອນເຖິງ</a:t>
            </a:r>
            <a:r>
              <a:rPr b="0" lang="lo-LA" sz="2800" spc="-1" strike="noStrike">
                <a:solidFill>
                  <a:srgbClr val="002060"/>
                </a:solidFill>
                <a:latin typeface="Saysettha OT"/>
                <a:cs typeface="Saysettha OT"/>
              </a:rPr>
              <a:t>ການຂາດສານອາຫານ </a:t>
            </a:r>
            <a:r>
              <a:rPr b="0" lang="en-US" sz="2800" spc="-1" strike="noStrike">
                <a:solidFill>
                  <a:srgbClr val="002060"/>
                </a:solidFill>
                <a:latin typeface="Saysettha OT"/>
                <a:cs typeface="Saysettha OT"/>
              </a:rPr>
              <a:t>ທັງໃນໄລຍະ</a:t>
            </a:r>
            <a:r>
              <a:rPr b="0" lang="lo-LA" sz="2800" spc="-1" strike="noStrike">
                <a:solidFill>
                  <a:srgbClr val="002060"/>
                </a:solidFill>
                <a:latin typeface="Saysettha OT"/>
                <a:cs typeface="Saysettha OT"/>
              </a:rPr>
              <a:t>ຍາວ</a:t>
            </a:r>
            <a:r>
              <a:rPr b="0" lang="en-US" sz="2800" spc="-1" strike="noStrike">
                <a:solidFill>
                  <a:srgbClr val="002060"/>
                </a:solidFill>
                <a:latin typeface="Saysettha OT"/>
                <a:ea typeface="Saysettha OT"/>
              </a:rPr>
              <a:t> </a:t>
            </a:r>
            <a:r>
              <a:rPr b="0" lang="en-US" sz="2800" spc="-1" strike="noStrike">
                <a:solidFill>
                  <a:srgbClr val="002060"/>
                </a:solidFill>
                <a:latin typeface="Saysettha OT"/>
                <a:ea typeface="Saysettha OT"/>
              </a:rPr>
              <a:t>(</a:t>
            </a:r>
            <a:r>
              <a:rPr b="0" lang="en-US" sz="2800" spc="-1" strike="noStrike">
                <a:solidFill>
                  <a:srgbClr val="002060"/>
                </a:solidFill>
                <a:latin typeface="Saysettha OT"/>
                <a:cs typeface="Saysettha OT"/>
              </a:rPr>
              <a:t>ຊຳເຮື້ອ</a:t>
            </a:r>
            <a:r>
              <a:rPr b="0" lang="en-US" sz="2800" spc="-1" strike="noStrike">
                <a:solidFill>
                  <a:srgbClr val="002060"/>
                </a:solidFill>
                <a:latin typeface="Saysettha OT"/>
                <a:ea typeface="Saysettha OT"/>
              </a:rPr>
              <a:t>) </a:t>
            </a:r>
            <a:r>
              <a:rPr b="0" lang="en-US" sz="2800" spc="-1" strike="noStrike">
                <a:solidFill>
                  <a:srgbClr val="002060"/>
                </a:solidFill>
                <a:latin typeface="Saysettha OT"/>
                <a:cs typeface="Saysettha OT"/>
              </a:rPr>
              <a:t>ແລະ</a:t>
            </a:r>
            <a:r>
              <a:rPr b="0" lang="en-US" sz="2800" spc="-1" strike="noStrike">
                <a:solidFill>
                  <a:srgbClr val="002060"/>
                </a:solidFill>
                <a:latin typeface="Saysettha OT"/>
                <a:ea typeface="Saysettha OT"/>
              </a:rPr>
              <a:t>/</a:t>
            </a:r>
            <a:r>
              <a:rPr b="0" lang="en-US" sz="2800" spc="-1" strike="noStrike">
                <a:solidFill>
                  <a:srgbClr val="002060"/>
                </a:solidFill>
                <a:latin typeface="Saysettha OT"/>
                <a:cs typeface="Saysettha OT"/>
              </a:rPr>
              <a:t>ຫລື </a:t>
            </a:r>
            <a:r>
              <a:rPr b="0" lang="lo-LA" sz="2800" spc="-1" strike="noStrike">
                <a:solidFill>
                  <a:srgbClr val="002060"/>
                </a:solidFill>
                <a:latin typeface="Saysettha OT"/>
                <a:cs typeface="Saysettha OT"/>
              </a:rPr>
              <a:t>ໄລຍະສັ້ນ </a:t>
            </a:r>
            <a:r>
              <a:rPr b="0" lang="en-US" sz="2800" spc="-1" strike="noStrike">
                <a:solidFill>
                  <a:srgbClr val="002060"/>
                </a:solidFill>
                <a:latin typeface="Saysettha OT"/>
                <a:ea typeface="Saysettha OT"/>
              </a:rPr>
              <a:t>(</a:t>
            </a:r>
            <a:r>
              <a:rPr b="0" lang="en-US" sz="2800" spc="-1" strike="noStrike">
                <a:solidFill>
                  <a:srgbClr val="002060"/>
                </a:solidFill>
                <a:latin typeface="Saysettha OT"/>
                <a:cs typeface="Saysettha OT"/>
              </a:rPr>
              <a:t>ຮຸນແຮງ</a:t>
            </a:r>
            <a:r>
              <a:rPr b="0" lang="en-US" sz="2800" spc="-1" strike="noStrike">
                <a:solidFill>
                  <a:srgbClr val="002060"/>
                </a:solidFill>
                <a:latin typeface="Saysettha OT"/>
                <a:ea typeface="Saysettha OT"/>
              </a:rPr>
              <a:t>), </a:t>
            </a:r>
            <a:r>
              <a:rPr b="0" lang="lo-LA" sz="2800" spc="-1" strike="noStrike">
                <a:solidFill>
                  <a:srgbClr val="002060"/>
                </a:solidFill>
                <a:latin typeface="Saysettha OT"/>
                <a:cs typeface="Saysettha OT"/>
              </a:rPr>
              <a:t>ເຖິງຢ່າງໃດກໍ່ຕາມ</a:t>
            </a:r>
            <a:r>
              <a:rPr b="0" lang="en-US" sz="2800" spc="-1" strike="noStrike">
                <a:solidFill>
                  <a:srgbClr val="002060"/>
                </a:solidFill>
                <a:latin typeface="Saysettha OT"/>
                <a:cs typeface="Saysettha OT"/>
              </a:rPr>
              <a:t>ມັນບໍ່ສາມາດຈະຈຳແນກ</a:t>
            </a:r>
            <a:r>
              <a:rPr b="0" lang="lo-LA" sz="2800" spc="-1" strike="noStrike">
                <a:solidFill>
                  <a:srgbClr val="002060"/>
                </a:solidFill>
                <a:latin typeface="Saysettha OT"/>
                <a:cs typeface="Saysettha OT"/>
              </a:rPr>
              <a:t>ໄດ້</a:t>
            </a:r>
            <a:r>
              <a:rPr b="0" lang="en-US" sz="2800" spc="-1" strike="noStrike">
                <a:solidFill>
                  <a:srgbClr val="002060"/>
                </a:solidFill>
                <a:latin typeface="Saysettha OT"/>
                <a:cs typeface="Saysettha OT"/>
              </a:rPr>
              <a:t>ລະຫວ່າງທັງສອງ</a:t>
            </a:r>
            <a:r>
              <a:rPr b="0" lang="lo-LA" sz="2800" spc="-1" strike="noStrike">
                <a:solidFill>
                  <a:srgbClr val="002060"/>
                </a:solidFill>
                <a:latin typeface="Saysettha OT"/>
                <a:cs typeface="Saysettha OT"/>
              </a:rPr>
              <a:t>ດັ່ງກ່າວ</a:t>
            </a:r>
            <a:r>
              <a:rPr b="0" lang="en-US" sz="2800" spc="-1" strike="noStrike">
                <a:solidFill>
                  <a:srgbClr val="002060"/>
                </a:solidFill>
                <a:latin typeface="Saysettha OT"/>
                <a:ea typeface="Saysettha OT"/>
              </a:rPr>
              <a:t>. </a:t>
            </a:r>
            <a:endParaRPr b="0" lang="en-US" sz="2800" spc="-1" strike="noStrike">
              <a:solidFill>
                <a:srgbClr val="0000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914400" y="380880"/>
            <a:ext cx="8229600" cy="16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060"/>
                </a:solidFill>
                <a:latin typeface="Saysettha OT"/>
                <a:cs typeface="Saysettha OT"/>
              </a:rPr>
              <a:t>ດັດສະນີ</a:t>
            </a:r>
            <a:r>
              <a:rPr b="1" lang="lo-LA" sz="3400" spc="-1" strike="noStrike">
                <a:solidFill>
                  <a:srgbClr val="002060"/>
                </a:solidFill>
                <a:latin typeface="Saysettha OT"/>
                <a:ea typeface="Saysettha OT"/>
              </a:rPr>
              <a:t> </a:t>
            </a:r>
            <a:r>
              <a:rPr b="1" lang="en-US" sz="3400" spc="-1" strike="noStrike">
                <a:solidFill>
                  <a:srgbClr val="002060"/>
                </a:solidFill>
                <a:latin typeface="Saysettha OT"/>
                <a:cs typeface="Saysettha OT"/>
              </a:rPr>
              <a:t>ທີ່ສະທ້ອນເຖີງລວງຍາວ</a:t>
            </a:r>
            <a:r>
              <a:rPr b="1" lang="en-US" sz="3400" spc="-1" strike="noStrike">
                <a:solidFill>
                  <a:srgbClr val="002060"/>
                </a:solidFill>
                <a:latin typeface="Saysettha OT"/>
                <a:ea typeface="Saysettha OT"/>
              </a:rPr>
              <a:t>/</a:t>
            </a:r>
            <a:r>
              <a:rPr b="1" lang="en-US" sz="3400" spc="-1" strike="noStrike">
                <a:solidFill>
                  <a:srgbClr val="002060"/>
                </a:solidFill>
                <a:latin typeface="Saysettha OT"/>
                <a:cs typeface="Saysettha OT"/>
              </a:rPr>
              <a:t>ລວງສູງຕໍ່ອາຍຸ </a:t>
            </a:r>
            <a:r>
              <a:rPr b="1" lang="en-US" sz="3400" spc="-1" strike="noStrike">
                <a:solidFill>
                  <a:srgbClr val="002060"/>
                </a:solidFill>
                <a:latin typeface="Saysettha OT"/>
                <a:ea typeface="Saysettha OT"/>
              </a:rPr>
              <a:t>(Height-for-age / Length-for-age)</a:t>
            </a:r>
            <a:endParaRPr b="0" lang="en-US" sz="3400" spc="-1" strike="noStrike">
              <a:solidFill>
                <a:srgbClr val="000000"/>
              </a:solidFill>
              <a:latin typeface="Calibri"/>
            </a:endParaRPr>
          </a:p>
        </p:txBody>
      </p:sp>
      <p:sp>
        <p:nvSpPr>
          <p:cNvPr id="295" name="PlaceHolder 1"/>
          <p:cNvSpPr>
            <a:spLocks noGrp="1"/>
          </p:cNvSpPr>
          <p:nvPr>
            <p:ph/>
          </p:nvPr>
        </p:nvSpPr>
        <p:spPr>
          <a:xfrm>
            <a:off x="761760" y="1905120"/>
            <a:ext cx="8381880" cy="5029200"/>
          </a:xfrm>
          <a:prstGeom prst="rect">
            <a:avLst/>
          </a:prstGeom>
          <a:noFill/>
          <a:ln w="0">
            <a:noFill/>
          </a:ln>
        </p:spPr>
        <p:txBody>
          <a:bodyPr anchor="t">
            <a:normAutofit/>
          </a:bodyPr>
          <a:p>
            <a:pPr marL="343080" indent="-343080">
              <a:lnSpc>
                <a:spcPct val="12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Saysettha OT"/>
                <a:cs typeface="Saysettha OT"/>
              </a:rPr>
              <a:t>ດັດສະນີລວງສູງຕໍ່ອາຍຸຕ່ຳ ຖືວ່າແມ່ນສະພາບການຂາດສານອາຫານໃນໄລຍະ</a:t>
            </a:r>
            <a:r>
              <a:rPr b="0" lang="lo-LA" sz="2800" spc="-1" strike="noStrike">
                <a:solidFill>
                  <a:srgbClr val="002060"/>
                </a:solidFill>
                <a:latin typeface="Saysettha OT"/>
                <a:cs typeface="Saysettha OT"/>
              </a:rPr>
              <a:t>ຍາວ</a:t>
            </a:r>
            <a:r>
              <a:rPr b="0" lang="en-US" sz="2800" spc="-1" strike="noStrike">
                <a:solidFill>
                  <a:srgbClr val="002060"/>
                </a:solidFill>
                <a:latin typeface="Saysettha OT"/>
                <a:ea typeface="Saysettha OT"/>
              </a:rPr>
              <a:t> ຫລື ຊຳເຮື້ອ</a:t>
            </a:r>
            <a:endParaRPr b="0" lang="en-US" sz="2800" spc="-1" strike="noStrike">
              <a:solidFill>
                <a:srgbClr val="000000"/>
              </a:solidFill>
              <a:latin typeface="Calibri"/>
            </a:endParaRPr>
          </a:p>
          <a:p>
            <a:pPr marL="343080" indent="-343080">
              <a:lnSpc>
                <a:spcPct val="12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Saysettha OT"/>
                <a:cs typeface="Saysettha OT"/>
              </a:rPr>
              <a:t>ການຂາດສານອາຫານແບບເຕ້ຍ </a:t>
            </a:r>
            <a:r>
              <a:rPr b="0" lang="en-US" sz="2800" spc="-1" strike="noStrike">
                <a:solidFill>
                  <a:srgbClr val="002060"/>
                </a:solidFill>
                <a:latin typeface="Saysettha OT"/>
                <a:ea typeface="Saysettha OT"/>
              </a:rPr>
              <a:t>(Stunting)</a:t>
            </a:r>
            <a:endParaRPr b="0" lang="en-US" sz="2800" spc="-1" strike="noStrike">
              <a:solidFill>
                <a:srgbClr val="000000"/>
              </a:solidFill>
              <a:latin typeface="Calibri"/>
            </a:endParaRPr>
          </a:p>
          <a:p>
            <a:pPr marL="343080" indent="-343080">
              <a:lnSpc>
                <a:spcPct val="12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Saysettha OT"/>
                <a:cs typeface="Saysettha OT"/>
              </a:rPr>
              <a:t>ບໍ່ສາມາດວັດ</a:t>
            </a:r>
            <a:r>
              <a:rPr b="0" lang="lo-LA" sz="2800" spc="-1" strike="noStrike">
                <a:solidFill>
                  <a:srgbClr val="002060"/>
                </a:solidFill>
                <a:latin typeface="Saysettha OT"/>
                <a:cs typeface="Saysettha OT"/>
              </a:rPr>
              <a:t>ແທກ</a:t>
            </a:r>
            <a:r>
              <a:rPr b="0" lang="en-US" sz="2800" spc="-1" strike="noStrike">
                <a:solidFill>
                  <a:srgbClr val="002060"/>
                </a:solidFill>
                <a:latin typeface="Saysettha OT"/>
                <a:cs typeface="Saysettha OT"/>
              </a:rPr>
              <a:t>ການຂາດສານອາຫານໃນໄລຍະສັ້ນ</a:t>
            </a:r>
            <a:endParaRPr b="0" lang="en-US" sz="2800" spc="-1" strike="noStrike">
              <a:solidFill>
                <a:srgbClr val="000000"/>
              </a:solidFill>
              <a:latin typeface="Calibri"/>
            </a:endParaRPr>
          </a:p>
          <a:p>
            <a:pPr marL="343080" indent="-343080">
              <a:lnSpc>
                <a:spcPct val="12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Saysettha OT"/>
                <a:cs typeface="Saysettha OT"/>
              </a:rPr>
              <a:t>ຕົວ</a:t>
            </a:r>
            <a:r>
              <a:rPr b="0" lang="lo-LA" sz="2800" spc="-1" strike="noStrike">
                <a:solidFill>
                  <a:srgbClr val="002060"/>
                </a:solidFill>
                <a:latin typeface="Saysettha OT"/>
                <a:cs typeface="Saysettha OT"/>
              </a:rPr>
              <a:t>ຊີ້ວັດທີ່</a:t>
            </a:r>
            <a:r>
              <a:rPr b="0" lang="en-US" sz="2800" spc="-1" strike="noStrike">
                <a:solidFill>
                  <a:srgbClr val="002060"/>
                </a:solidFill>
                <a:latin typeface="Saysettha OT"/>
                <a:cs typeface="Saysettha OT"/>
              </a:rPr>
              <a:t>ສຳຄັນສຸດ</a:t>
            </a:r>
            <a:r>
              <a:rPr b="0" lang="lo-LA" sz="2800" spc="-1" strike="noStrike">
                <a:solidFill>
                  <a:srgbClr val="002060"/>
                </a:solidFill>
                <a:latin typeface="Saysettha OT"/>
                <a:cs typeface="Saysettha OT"/>
              </a:rPr>
              <a:t>ສຳລັບ </a:t>
            </a:r>
            <a:r>
              <a:rPr b="0" lang="en-US" sz="2800" spc="-1" strike="noStrike">
                <a:solidFill>
                  <a:srgbClr val="002060"/>
                </a:solidFill>
                <a:latin typeface="Saysettha OT"/>
                <a:cs typeface="Saysettha OT"/>
              </a:rPr>
              <a:t>ໂຄງການ </a:t>
            </a:r>
            <a:r>
              <a:rPr b="0" lang="en-US" sz="2800" spc="-1" strike="noStrike">
                <a:solidFill>
                  <a:srgbClr val="002060"/>
                </a:solidFill>
                <a:latin typeface="Saysettha OT"/>
                <a:ea typeface="Saysettha OT"/>
              </a:rPr>
              <a:t>Maternal Young Child Nutrition Security Initiative Assessment (MYCNSIA) </a:t>
            </a:r>
            <a:endParaRPr b="0" lang="en-US" sz="28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990720" y="380880"/>
            <a:ext cx="822960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Saysettha OT"/>
                <a:cs typeface="Saysettha OT"/>
              </a:rPr>
              <a:t>ດັດສະນີ</a:t>
            </a:r>
            <a:r>
              <a:rPr b="1" lang="lo-LA" sz="1800" spc="-1" strike="noStrike">
                <a:solidFill>
                  <a:srgbClr val="002060"/>
                </a:solidFill>
                <a:latin typeface="Saysettha OT"/>
                <a:ea typeface="Saysettha OT"/>
              </a:rPr>
              <a:t> </a:t>
            </a:r>
            <a:r>
              <a:rPr b="1" lang="en-US" sz="3200" spc="-1" strike="noStrike">
                <a:solidFill>
                  <a:srgbClr val="002060"/>
                </a:solidFill>
                <a:latin typeface="Saysettha OT"/>
                <a:cs typeface="Saysettha OT"/>
              </a:rPr>
              <a:t>ທີ່ສະທ້ອນເຖີງ</a:t>
            </a:r>
            <a:r>
              <a:rPr b="1" lang="en-US" sz="2000" spc="-1" strike="noStrike">
                <a:solidFill>
                  <a:srgbClr val="002060"/>
                </a:solidFill>
                <a:latin typeface="Saysettha OT"/>
                <a:ea typeface="Saysettha OT"/>
              </a:rPr>
              <a:t> </a:t>
            </a:r>
            <a:r>
              <a:rPr b="1" lang="lo-LA" sz="3200" spc="-1" strike="noStrike">
                <a:solidFill>
                  <a:srgbClr val="002060"/>
                </a:solidFill>
                <a:latin typeface="Saysettha OT"/>
                <a:cs typeface="Saysettha OT"/>
              </a:rPr>
              <a:t>ນ້ຳໜັກ</a:t>
            </a:r>
            <a:r>
              <a:rPr b="1" lang="en-US" sz="3200" spc="-1" strike="noStrike">
                <a:solidFill>
                  <a:srgbClr val="002060"/>
                </a:solidFill>
                <a:latin typeface="Saysettha OT"/>
                <a:cs typeface="Saysettha OT"/>
              </a:rPr>
              <a:t>ຕໍ່ລວງຍາວ</a:t>
            </a:r>
            <a:r>
              <a:rPr b="1" lang="en-US" sz="3200" spc="-1" strike="noStrike">
                <a:solidFill>
                  <a:srgbClr val="002060"/>
                </a:solidFill>
                <a:latin typeface="Saysettha OT"/>
                <a:ea typeface="Saysettha OT"/>
              </a:rPr>
              <a:t>/</a:t>
            </a:r>
            <a:r>
              <a:rPr b="1" lang="en-US" sz="3200" spc="-1" strike="noStrike">
                <a:solidFill>
                  <a:srgbClr val="002060"/>
                </a:solidFill>
                <a:latin typeface="Saysettha OT"/>
                <a:cs typeface="Saysettha OT"/>
              </a:rPr>
              <a:t>ລວງສູງ</a:t>
            </a:r>
            <a:r>
              <a:rPr b="1" lang="lo-LA" sz="3200" spc="-1" strike="noStrike">
                <a:solidFill>
                  <a:srgbClr val="002060"/>
                </a:solidFill>
                <a:latin typeface="Saysettha OT"/>
                <a:ea typeface="Saysettha OT"/>
              </a:rPr>
              <a:t> </a:t>
            </a:r>
            <a:r>
              <a:rPr b="1" lang="en-US" sz="3200" spc="-1" strike="noStrike">
                <a:solidFill>
                  <a:srgbClr val="002060"/>
                </a:solidFill>
                <a:latin typeface="Saysettha OT"/>
                <a:ea typeface="Saysettha OT"/>
              </a:rPr>
              <a:t>(Weight-for-Height / Weight-for-Length)</a:t>
            </a:r>
            <a:endParaRPr b="0" lang="en-US" sz="3200" spc="-1" strike="noStrike">
              <a:solidFill>
                <a:srgbClr val="000000"/>
              </a:solidFill>
              <a:latin typeface="Calibri"/>
            </a:endParaRPr>
          </a:p>
        </p:txBody>
      </p:sp>
      <p:sp>
        <p:nvSpPr>
          <p:cNvPr id="297" name="PlaceHolder 1"/>
          <p:cNvSpPr>
            <a:spLocks noGrp="1"/>
          </p:cNvSpPr>
          <p:nvPr>
            <p:ph/>
          </p:nvPr>
        </p:nvSpPr>
        <p:spPr>
          <a:xfrm>
            <a:off x="761760" y="1981080"/>
            <a:ext cx="8381880" cy="4724640"/>
          </a:xfrm>
          <a:prstGeom prst="rect">
            <a:avLst/>
          </a:prstGeom>
          <a:noFill/>
          <a:ln w="0">
            <a:noFill/>
          </a:ln>
        </p:spPr>
        <p:txBody>
          <a:bodyPr anchor="t">
            <a:normAutofit/>
          </a:bodyPr>
          <a:p>
            <a:pPr marL="343080" indent="-343080">
              <a:lnSpc>
                <a:spcPct val="12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Saysettha OT"/>
                <a:cs typeface="Saysettha OT"/>
              </a:rPr>
              <a:t>ດັດສະນີ </a:t>
            </a:r>
            <a:r>
              <a:rPr b="0" lang="lo-LA" sz="2600" spc="-1" strike="noStrike">
                <a:solidFill>
                  <a:srgbClr val="002060"/>
                </a:solidFill>
                <a:latin typeface="Saysettha OT"/>
                <a:cs typeface="Saysettha OT"/>
              </a:rPr>
              <a:t>ນ້ຳໜັກຕໍ່</a:t>
            </a:r>
            <a:r>
              <a:rPr b="0" lang="en-US" sz="2600" spc="-1" strike="noStrike">
                <a:solidFill>
                  <a:srgbClr val="002060"/>
                </a:solidFill>
                <a:latin typeface="Saysettha OT"/>
                <a:cs typeface="Saysettha OT"/>
              </a:rPr>
              <a:t>ລວງ</a:t>
            </a:r>
            <a:r>
              <a:rPr b="0" lang="lo-LA" sz="2600" spc="-1" strike="noStrike">
                <a:solidFill>
                  <a:srgbClr val="002060"/>
                </a:solidFill>
                <a:latin typeface="Saysettha OT"/>
                <a:cs typeface="Saysettha OT"/>
              </a:rPr>
              <a:t>ຍາວ</a:t>
            </a:r>
            <a:r>
              <a:rPr b="0" lang="en-US" sz="2600" spc="-1" strike="noStrike">
                <a:solidFill>
                  <a:srgbClr val="002060"/>
                </a:solidFill>
                <a:latin typeface="Saysettha OT"/>
                <a:ea typeface="Saysettha OT"/>
              </a:rPr>
              <a:t>/</a:t>
            </a:r>
            <a:r>
              <a:rPr b="0" lang="lo-LA" sz="2600" spc="-1" strike="noStrike">
                <a:solidFill>
                  <a:srgbClr val="002060"/>
                </a:solidFill>
                <a:latin typeface="Saysettha OT"/>
                <a:cs typeface="Saysettha OT"/>
              </a:rPr>
              <a:t>ລວງ</a:t>
            </a:r>
            <a:r>
              <a:rPr b="0" lang="en-US" sz="2600" spc="-1" strike="noStrike">
                <a:solidFill>
                  <a:srgbClr val="002060"/>
                </a:solidFill>
                <a:latin typeface="Saysettha OT"/>
                <a:cs typeface="Saysettha OT"/>
              </a:rPr>
              <a:t>ສູງ</a:t>
            </a:r>
            <a:r>
              <a:rPr b="0" lang="lo-LA" sz="2600" spc="-1" strike="noStrike">
                <a:solidFill>
                  <a:srgbClr val="002060"/>
                </a:solidFill>
                <a:latin typeface="Saysettha OT"/>
                <a:ea typeface="Saysettha OT"/>
              </a:rPr>
              <a:t> </a:t>
            </a:r>
            <a:r>
              <a:rPr b="0" lang="en-US" sz="2600" spc="-1" strike="noStrike">
                <a:solidFill>
                  <a:srgbClr val="002060"/>
                </a:solidFill>
                <a:latin typeface="Saysettha OT"/>
                <a:cs typeface="Saysettha OT"/>
              </a:rPr>
              <a:t>ຕ່ຳ </a:t>
            </a:r>
            <a:r>
              <a:rPr b="0" lang="lo-LA" sz="2600" spc="-1" strike="noStrike">
                <a:solidFill>
                  <a:srgbClr val="002060"/>
                </a:solidFill>
                <a:latin typeface="Saysettha OT"/>
                <a:cs typeface="Saysettha OT"/>
              </a:rPr>
              <a:t>ຊີ້ບອກເຖິງ</a:t>
            </a:r>
            <a:r>
              <a:rPr b="0" lang="en-US" sz="2600" spc="-1" strike="noStrike">
                <a:solidFill>
                  <a:srgbClr val="002060"/>
                </a:solidFill>
                <a:latin typeface="Saysettha OT"/>
                <a:cs typeface="Saysettha OT"/>
              </a:rPr>
              <a:t>ສະພາບການຂາດສານອາຫານໃນໄລຍະ</a:t>
            </a:r>
            <a:r>
              <a:rPr b="0" lang="lo-LA" sz="2600" spc="-1" strike="noStrike">
                <a:solidFill>
                  <a:srgbClr val="002060"/>
                </a:solidFill>
                <a:latin typeface="Saysettha OT"/>
                <a:cs typeface="Saysettha OT"/>
              </a:rPr>
              <a:t>ສັ້ນ</a:t>
            </a:r>
            <a:r>
              <a:rPr b="0" lang="en-US" sz="2600" spc="-1" strike="noStrike">
                <a:solidFill>
                  <a:srgbClr val="002060"/>
                </a:solidFill>
                <a:latin typeface="Saysettha OT"/>
                <a:ea typeface="Saysettha OT"/>
              </a:rPr>
              <a:t> ຫລື</a:t>
            </a:r>
            <a:r>
              <a:rPr b="0" lang="lo-LA" sz="2600" spc="-1" strike="noStrike">
                <a:solidFill>
                  <a:srgbClr val="002060"/>
                </a:solidFill>
                <a:latin typeface="Saysettha OT"/>
                <a:ea typeface="Saysettha OT"/>
              </a:rPr>
              <a:t> ຮຸນແຮງ </a:t>
            </a:r>
            <a:endParaRPr b="0" lang="en-US" sz="2600" spc="-1" strike="noStrike">
              <a:solidFill>
                <a:srgbClr val="000000"/>
              </a:solidFill>
              <a:latin typeface="Calibri"/>
            </a:endParaRPr>
          </a:p>
          <a:p>
            <a:pPr marL="343080" indent="-343080">
              <a:lnSpc>
                <a:spcPct val="12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Saysettha OT"/>
                <a:cs typeface="Saysettha OT"/>
              </a:rPr>
              <a:t>ການຂາດສານອາຫານ</a:t>
            </a:r>
            <a:r>
              <a:rPr b="0" lang="lo-LA" sz="2600" spc="-1" strike="noStrike">
                <a:solidFill>
                  <a:srgbClr val="002060"/>
                </a:solidFill>
                <a:latin typeface="Saysettha OT"/>
                <a:cs typeface="Saysettha OT"/>
              </a:rPr>
              <a:t>ແບບຈ່ອຍ </a:t>
            </a:r>
            <a:r>
              <a:rPr b="0" lang="en-US" sz="2600" spc="-1" strike="noStrike">
                <a:solidFill>
                  <a:srgbClr val="002060"/>
                </a:solidFill>
                <a:latin typeface="Saysettha OT"/>
                <a:ea typeface="Saysettha OT"/>
              </a:rPr>
              <a:t>(Wasting)</a:t>
            </a:r>
            <a:endParaRPr b="0" lang="en-US" sz="2600" spc="-1" strike="noStrike">
              <a:solidFill>
                <a:srgbClr val="000000"/>
              </a:solidFill>
              <a:latin typeface="Calibri"/>
            </a:endParaRPr>
          </a:p>
          <a:p>
            <a:pPr marL="343080" indent="-343080">
              <a:lnSpc>
                <a:spcPct val="12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ເປັນປະໂຫຍດ ໃນເວລາເຮົາກຳນົດອາຍຸເດັກນ້ອຍບໍ່ໄດ້ຊັດເຈນ</a:t>
            </a:r>
            <a:endParaRPr b="0" lang="en-US" sz="2600" spc="-1" strike="noStrike">
              <a:solidFill>
                <a:srgbClr val="000000"/>
              </a:solidFill>
              <a:latin typeface="Calibri"/>
            </a:endParaRPr>
          </a:p>
          <a:p>
            <a:pPr marL="343080" indent="-343080">
              <a:lnSpc>
                <a:spcPct val="12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Saysettha OT"/>
                <a:cs typeface="Saysettha OT"/>
              </a:rPr>
              <a:t>ດັດສະນີ</a:t>
            </a:r>
            <a:r>
              <a:rPr b="0" lang="lo-LA" sz="2600" spc="-1" strike="noStrike">
                <a:solidFill>
                  <a:srgbClr val="002060"/>
                </a:solidFill>
                <a:latin typeface="Saysettha OT"/>
                <a:cs typeface="Saysettha OT"/>
              </a:rPr>
              <a:t>ນີ້ ເໝາະສົມກວດສອບເບິ່ງຜົນກະທົບໄລຍະສັ້ນ ເຊັ່ນ</a:t>
            </a:r>
            <a:r>
              <a:rPr b="0" lang="lo-LA" sz="2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ການປ່ຽນແປງການສະໜອງອາຫານຕາມລະດູການ</a:t>
            </a:r>
            <a:r>
              <a:rPr b="0" lang="lo-LA" sz="2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ຫລື ການຂາດສານອາຫານໃນໄລຍະສັ້ນເນື່ອງຈາກການເຈັບປ່ວຍ</a:t>
            </a:r>
            <a:endParaRPr b="0" lang="en-US" sz="26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320" y="75960"/>
            <a:ext cx="7696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400" spc="-1" strike="noStrike">
                <a:solidFill>
                  <a:srgbClr val="002060"/>
                </a:solidFill>
                <a:latin typeface="Saysettha OT"/>
                <a:cs typeface="Saysettha OT"/>
              </a:rPr>
              <a:t>ຂໍ້ມູນການຂາດສານອາຫານ </a:t>
            </a:r>
            <a:endParaRPr b="0" lang="en-US" sz="4400" spc="-1" strike="noStrike">
              <a:solidFill>
                <a:srgbClr val="000000"/>
              </a:solidFill>
              <a:latin typeface="Calibri"/>
            </a:endParaRPr>
          </a:p>
        </p:txBody>
      </p:sp>
      <p:sp>
        <p:nvSpPr>
          <p:cNvPr id="299" name="Rectangle 5"/>
          <p:cNvSpPr/>
          <p:nvPr/>
        </p:nvSpPr>
        <p:spPr>
          <a:xfrm>
            <a:off x="1073160" y="1295280"/>
            <a:ext cx="7461360" cy="104436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20000"/>
              </a:lnSpc>
              <a:spcBef>
                <a:spcPts val="1800"/>
              </a:spcBef>
              <a:buClr>
                <a:srgbClr val="00206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0000"/>
                </a:solidFill>
                <a:latin typeface="Saysettha OT"/>
                <a:cs typeface="Saysettha OT"/>
              </a:rPr>
              <a:t>ໜຶ່ງໃນສາມ ຂອງເດັກນ້ອຍຕາຍໃນທົ່ວໂລກ ແມ່ນຍ້ອນການຂາດສານອາຫານ</a:t>
            </a:r>
            <a:endParaRPr b="0" lang="en-US" sz="2600" spc="-1" strike="noStrike">
              <a:solidFill>
                <a:srgbClr val="000000"/>
              </a:solidFill>
              <a:latin typeface="Calibri"/>
            </a:endParaRPr>
          </a:p>
        </p:txBody>
      </p:sp>
      <p:graphicFrame>
        <p:nvGraphicFramePr>
          <p:cNvPr id="300" name=""/>
          <p:cNvGraphicFramePr/>
          <p:nvPr/>
        </p:nvGraphicFramePr>
        <p:xfrm>
          <a:off x="990720" y="3139920"/>
          <a:ext cx="8001000" cy="2590920"/>
        </p:xfrm>
        <a:graphic>
          <a:graphicData uri="http://schemas.openxmlformats.org/drawingml/2006/table">
            <a:tbl>
              <a:tblPr/>
              <a:tblGrid>
                <a:gridCol w="2690640"/>
                <a:gridCol w="1728720"/>
                <a:gridCol w="1764000"/>
                <a:gridCol w="1817640"/>
              </a:tblGrid>
              <a:tr h="764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2200" spc="-1" strike="noStrike">
                          <a:solidFill>
                            <a:srgbClr val="002060"/>
                          </a:solidFill>
                          <a:latin typeface="Saysettha OT"/>
                          <a:cs typeface="Saysettha OT"/>
                        </a:rPr>
                        <a:t>ເຂດ</a:t>
                      </a:r>
                      <a:endParaRPr b="0" lang="en-US" sz="2200" spc="-1" strike="noStrike">
                        <a:solidFill>
                          <a:srgbClr val="000000"/>
                        </a:solidFill>
                        <a:latin typeface="Calibri"/>
                      </a:endParaRPr>
                    </a:p>
                  </a:txBody>
                  <a:tcPr anchor="ctr" marL="90000" marR="90000">
                    <a:lnL w="4320">
                      <a:solidFill>
                        <a:srgbClr val="be4b48"/>
                      </a:solidFill>
                    </a:lnL>
                    <a:lnR>
                      <a:noFill/>
                    </a:lnR>
                    <a:lnT w="4320">
                      <a:solidFill>
                        <a:srgbClr val="be4b48"/>
                      </a:solidFill>
                    </a:lnT>
                    <a:lnB w="4320">
                      <a:solidFill>
                        <a:srgbClr val="be4b48"/>
                      </a:solidFill>
                    </a:lnB>
                    <a:solidFill>
                      <a:srgbClr val="fac09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Calibri"/>
                        </a:rPr>
                        <a:t>Weight for age</a:t>
                      </a:r>
                      <a:endParaRPr b="0" lang="en-US" sz="2200" spc="-1" strike="noStrike">
                        <a:solidFill>
                          <a:srgbClr val="000000"/>
                        </a:solidFill>
                        <a:latin typeface="Calibri"/>
                      </a:endParaRPr>
                    </a:p>
                  </a:txBody>
                  <a:tcPr anchor="t" marL="90000" marR="90000">
                    <a:lnL>
                      <a:noFill/>
                    </a:lnL>
                    <a:lnR>
                      <a:noFill/>
                    </a:lnR>
                    <a:lnT w="4320">
                      <a:solidFill>
                        <a:srgbClr val="be4b48"/>
                      </a:solidFill>
                    </a:lnT>
                    <a:lnB w="4320">
                      <a:solidFill>
                        <a:srgbClr val="be4b48"/>
                      </a:solidFill>
                    </a:lnB>
                    <a:solidFill>
                      <a:srgbClr val="fac09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Calibri"/>
                        </a:rPr>
                        <a:t>Height for age</a:t>
                      </a:r>
                      <a:endParaRPr b="0" lang="en-US" sz="2200" spc="-1" strike="noStrike">
                        <a:solidFill>
                          <a:srgbClr val="000000"/>
                        </a:solidFill>
                        <a:latin typeface="Calibri"/>
                      </a:endParaRPr>
                    </a:p>
                  </a:txBody>
                  <a:tcPr anchor="t" marL="90000" marR="90000">
                    <a:lnL>
                      <a:noFill/>
                    </a:lnL>
                    <a:lnR>
                      <a:noFill/>
                    </a:lnR>
                    <a:lnT w="4320">
                      <a:solidFill>
                        <a:srgbClr val="be4b48"/>
                      </a:solidFill>
                    </a:lnT>
                    <a:lnB w="4320">
                      <a:solidFill>
                        <a:srgbClr val="be4b48"/>
                      </a:solidFill>
                    </a:lnB>
                    <a:solidFill>
                      <a:srgbClr val="fac09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Calibri"/>
                        </a:rPr>
                        <a:t>Weight for height</a:t>
                      </a:r>
                      <a:endParaRPr b="0" lang="en-US" sz="2200" spc="-1" strike="noStrike">
                        <a:solidFill>
                          <a:srgbClr val="000000"/>
                        </a:solidFill>
                        <a:latin typeface="Calibri"/>
                      </a:endParaRPr>
                    </a:p>
                  </a:txBody>
                  <a:tcPr anchor="t" marL="90000" marR="90000">
                    <a:lnL>
                      <a:noFill/>
                    </a:lnL>
                    <a:lnR w="4320">
                      <a:solidFill>
                        <a:srgbClr val="be4b48"/>
                      </a:solidFill>
                    </a:lnR>
                    <a:lnT w="4320">
                      <a:solidFill>
                        <a:srgbClr val="be4b48"/>
                      </a:solidFill>
                    </a:lnT>
                    <a:lnB w="4320">
                      <a:solidFill>
                        <a:srgbClr val="be4b48"/>
                      </a:solidFill>
                    </a:lnB>
                    <a:solidFill>
                      <a:srgbClr val="fac090"/>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1800" spc="-1" strike="noStrike">
                          <a:solidFill>
                            <a:srgbClr val="002060"/>
                          </a:solidFill>
                          <a:latin typeface="Saysettha OT"/>
                          <a:cs typeface="Saysettha OT"/>
                        </a:rPr>
                        <a:t>ຕົວເມືອງ</a:t>
                      </a:r>
                      <a:endParaRPr b="0" lang="en-US" sz="1800" spc="-1" strike="noStrike">
                        <a:solidFill>
                          <a:srgbClr val="000000"/>
                        </a:solidFill>
                        <a:latin typeface="Calibri"/>
                      </a:endParaRPr>
                    </a:p>
                  </a:txBody>
                  <a:tcPr anchor="ctr" marL="90000" marR="90000">
                    <a:lnL w="4320">
                      <a:solidFill>
                        <a:srgbClr val="be4b48"/>
                      </a:solidFill>
                    </a:lnL>
                    <a:lnR>
                      <a:noFill/>
                    </a:lnR>
                    <a:lnT w="4320">
                      <a:solidFill>
                        <a:srgbClr val="be4b48"/>
                      </a:solidFill>
                    </a:lnT>
                    <a:lnB w="4320">
                      <a:solidFill>
                        <a:srgbClr val="be4b4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ea typeface="Saysettha OT"/>
                        </a:rPr>
                        <a:t>25.7</a:t>
                      </a:r>
                      <a:endParaRPr b="0" lang="en-US" sz="2400" spc="-1" strike="noStrike">
                        <a:solidFill>
                          <a:srgbClr val="000000"/>
                        </a:solidFill>
                        <a:latin typeface="Calibri"/>
                      </a:endParaRPr>
                    </a:p>
                  </a:txBody>
                  <a:tcPr anchor="t" marL="90000" marR="90000">
                    <a:lnL>
                      <a:noFill/>
                    </a:lnL>
                    <a:lnR>
                      <a:noFill/>
                    </a:lnR>
                    <a:lnT w="4320">
                      <a:solidFill>
                        <a:srgbClr val="be4b48"/>
                      </a:solidFill>
                    </a:lnT>
                    <a:lnB w="4320">
                      <a:solidFill>
                        <a:srgbClr val="be4b4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ea typeface="Saysettha OT"/>
                        </a:rPr>
                        <a:t>25.7</a:t>
                      </a:r>
                      <a:endParaRPr b="0" lang="en-US" sz="2400" spc="-1" strike="noStrike">
                        <a:solidFill>
                          <a:srgbClr val="000000"/>
                        </a:solidFill>
                        <a:latin typeface="Calibri"/>
                      </a:endParaRPr>
                    </a:p>
                  </a:txBody>
                  <a:tcPr anchor="t" marL="90000" marR="90000">
                    <a:lnL>
                      <a:noFill/>
                    </a:lnL>
                    <a:lnR>
                      <a:noFill/>
                    </a:lnR>
                    <a:lnT w="4320">
                      <a:solidFill>
                        <a:srgbClr val="be4b48"/>
                      </a:solidFill>
                    </a:lnT>
                    <a:lnB w="4320">
                      <a:solidFill>
                        <a:srgbClr val="be4b4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ea typeface="Saysettha OT"/>
                        </a:rPr>
                        <a:t>6.0</a:t>
                      </a:r>
                      <a:endParaRPr b="0" lang="en-US" sz="2400" spc="-1" strike="noStrike">
                        <a:solidFill>
                          <a:srgbClr val="000000"/>
                        </a:solidFill>
                        <a:latin typeface="Calibri"/>
                      </a:endParaRPr>
                    </a:p>
                  </a:txBody>
                  <a:tcPr anchor="t" marL="90000" marR="90000">
                    <a:lnL>
                      <a:noFill/>
                    </a:lnL>
                    <a:lnR w="4320">
                      <a:solidFill>
                        <a:srgbClr val="be4b48"/>
                      </a:solidFill>
                    </a:lnR>
                    <a:lnT w="4320">
                      <a:solidFill>
                        <a:srgbClr val="be4b48"/>
                      </a:solidFill>
                    </a:lnT>
                    <a:lnB w="4320">
                      <a:solidFill>
                        <a:srgbClr val="be4b48"/>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1800" spc="-1" strike="noStrike">
                          <a:solidFill>
                            <a:srgbClr val="002060"/>
                          </a:solidFill>
                          <a:latin typeface="Saysettha OT"/>
                          <a:cs typeface="Saysettha OT"/>
                        </a:rPr>
                        <a:t>ຊົນນະບົດມີທາງເຂົ້າເຖິງ</a:t>
                      </a:r>
                      <a:endParaRPr b="0" lang="en-US" sz="1800" spc="-1" strike="noStrike">
                        <a:solidFill>
                          <a:srgbClr val="000000"/>
                        </a:solidFill>
                        <a:latin typeface="Calibri"/>
                      </a:endParaRPr>
                    </a:p>
                  </a:txBody>
                  <a:tcPr anchor="ctr" marL="90000" marR="90000">
                    <a:lnL w="4320">
                      <a:solidFill>
                        <a:srgbClr val="be4b48"/>
                      </a:solidFill>
                    </a:lnL>
                    <a:lnR>
                      <a:noFill/>
                    </a:lnR>
                    <a:lnT w="4320">
                      <a:solidFill>
                        <a:srgbClr val="be4b48"/>
                      </a:solidFill>
                    </a:lnT>
                    <a:lnB w="4320">
                      <a:solidFill>
                        <a:srgbClr val="be4b4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ea typeface="Saysettha OT"/>
                        </a:rPr>
                        <a:t>37.8</a:t>
                      </a:r>
                      <a:endParaRPr b="0" lang="en-US" sz="2400" spc="-1" strike="noStrike">
                        <a:solidFill>
                          <a:srgbClr val="000000"/>
                        </a:solidFill>
                        <a:latin typeface="Calibri"/>
                      </a:endParaRPr>
                    </a:p>
                  </a:txBody>
                  <a:tcPr anchor="t" marL="90000" marR="90000">
                    <a:lnL>
                      <a:noFill/>
                    </a:lnL>
                    <a:lnR>
                      <a:noFill/>
                    </a:lnR>
                    <a:lnT w="4320">
                      <a:solidFill>
                        <a:srgbClr val="be4b48"/>
                      </a:solidFill>
                    </a:lnT>
                    <a:lnB w="4320">
                      <a:solidFill>
                        <a:srgbClr val="be4b4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ea typeface="Saysettha OT"/>
                        </a:rPr>
                        <a:t>42.0</a:t>
                      </a:r>
                      <a:endParaRPr b="0" lang="en-US" sz="2400" spc="-1" strike="noStrike">
                        <a:solidFill>
                          <a:srgbClr val="000000"/>
                        </a:solidFill>
                        <a:latin typeface="Calibri"/>
                      </a:endParaRPr>
                    </a:p>
                  </a:txBody>
                  <a:tcPr anchor="t" marL="90000" marR="90000">
                    <a:lnL>
                      <a:noFill/>
                    </a:lnL>
                    <a:lnR>
                      <a:noFill/>
                    </a:lnR>
                    <a:lnT w="4320">
                      <a:solidFill>
                        <a:srgbClr val="be4b48"/>
                      </a:solidFill>
                    </a:lnT>
                    <a:lnB w="4320">
                      <a:solidFill>
                        <a:srgbClr val="be4b4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ea typeface="Saysettha OT"/>
                        </a:rPr>
                        <a:t>6.3</a:t>
                      </a:r>
                      <a:endParaRPr b="0" lang="en-US" sz="2400" spc="-1" strike="noStrike">
                        <a:solidFill>
                          <a:srgbClr val="000000"/>
                        </a:solidFill>
                        <a:latin typeface="Calibri"/>
                      </a:endParaRPr>
                    </a:p>
                  </a:txBody>
                  <a:tcPr anchor="t" marL="90000" marR="90000">
                    <a:lnL>
                      <a:noFill/>
                    </a:lnL>
                    <a:lnR w="4320">
                      <a:solidFill>
                        <a:srgbClr val="be4b48"/>
                      </a:solidFill>
                    </a:lnR>
                    <a:lnT w="4320">
                      <a:solidFill>
                        <a:srgbClr val="be4b48"/>
                      </a:solidFill>
                    </a:lnT>
                    <a:lnB w="4320">
                      <a:solidFill>
                        <a:srgbClr val="be4b48"/>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1800" spc="-1" strike="noStrike">
                          <a:solidFill>
                            <a:srgbClr val="002060"/>
                          </a:solidFill>
                          <a:latin typeface="Saysettha OT"/>
                          <a:cs typeface="Saysettha OT"/>
                        </a:rPr>
                        <a:t>ຊົນນະບົດບໍ່ມີທາງເຂົ້າເຖິງ</a:t>
                      </a:r>
                      <a:endParaRPr b="0" lang="en-US" sz="1800" spc="-1" strike="noStrike">
                        <a:solidFill>
                          <a:srgbClr val="000000"/>
                        </a:solidFill>
                        <a:latin typeface="Calibri"/>
                      </a:endParaRPr>
                    </a:p>
                  </a:txBody>
                  <a:tcPr anchor="ctr" marL="90000" marR="90000">
                    <a:lnL w="4320">
                      <a:solidFill>
                        <a:srgbClr val="be4b48"/>
                      </a:solidFill>
                    </a:lnL>
                    <a:lnR>
                      <a:noFill/>
                    </a:lnR>
                    <a:lnT w="4320">
                      <a:solidFill>
                        <a:srgbClr val="be4b48"/>
                      </a:solidFill>
                    </a:lnT>
                    <a:lnB w="4320">
                      <a:solidFill>
                        <a:srgbClr val="be4b4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ea typeface="Saysettha OT"/>
                        </a:rPr>
                        <a:t>42.0</a:t>
                      </a:r>
                      <a:endParaRPr b="0" lang="en-US" sz="2400" spc="-1" strike="noStrike">
                        <a:solidFill>
                          <a:srgbClr val="000000"/>
                        </a:solidFill>
                        <a:latin typeface="Calibri"/>
                      </a:endParaRPr>
                    </a:p>
                  </a:txBody>
                  <a:tcPr anchor="t" marL="90000" marR="90000">
                    <a:lnL>
                      <a:noFill/>
                    </a:lnL>
                    <a:lnR>
                      <a:noFill/>
                    </a:lnR>
                    <a:lnT w="4320">
                      <a:solidFill>
                        <a:srgbClr val="be4b48"/>
                      </a:solidFill>
                    </a:lnT>
                    <a:lnB w="4320">
                      <a:solidFill>
                        <a:srgbClr val="be4b4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ea typeface="Saysettha OT"/>
                        </a:rPr>
                        <a:t>45.7</a:t>
                      </a:r>
                      <a:endParaRPr b="0" lang="en-US" sz="2400" spc="-1" strike="noStrike">
                        <a:solidFill>
                          <a:srgbClr val="000000"/>
                        </a:solidFill>
                        <a:latin typeface="Calibri"/>
                      </a:endParaRPr>
                    </a:p>
                  </a:txBody>
                  <a:tcPr anchor="t" marL="90000" marR="90000">
                    <a:lnL>
                      <a:noFill/>
                    </a:lnL>
                    <a:lnR>
                      <a:noFill/>
                    </a:lnR>
                    <a:lnT w="4320">
                      <a:solidFill>
                        <a:srgbClr val="be4b48"/>
                      </a:solidFill>
                    </a:lnT>
                    <a:lnB w="4320">
                      <a:solidFill>
                        <a:srgbClr val="be4b4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ea typeface="Saysettha OT"/>
                        </a:rPr>
                        <a:t>7.0</a:t>
                      </a:r>
                      <a:endParaRPr b="0" lang="en-US" sz="2400" spc="-1" strike="noStrike">
                        <a:solidFill>
                          <a:srgbClr val="000000"/>
                        </a:solidFill>
                        <a:latin typeface="Calibri"/>
                      </a:endParaRPr>
                    </a:p>
                  </a:txBody>
                  <a:tcPr anchor="t" marL="90000" marR="90000">
                    <a:lnL>
                      <a:noFill/>
                    </a:lnL>
                    <a:lnR w="4320">
                      <a:solidFill>
                        <a:srgbClr val="be4b48"/>
                      </a:solidFill>
                    </a:lnR>
                    <a:lnT w="4320">
                      <a:solidFill>
                        <a:srgbClr val="be4b48"/>
                      </a:solidFill>
                    </a:lnT>
                    <a:lnB w="4320">
                      <a:solidFill>
                        <a:srgbClr val="be4b48"/>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1800" spc="-1" strike="noStrike">
                          <a:solidFill>
                            <a:srgbClr val="c00000"/>
                          </a:solidFill>
                          <a:latin typeface="Saysettha OT"/>
                          <a:cs typeface="Saysettha OT"/>
                        </a:rPr>
                        <a:t>ທັງໝົດ</a:t>
                      </a:r>
                      <a:endParaRPr b="0" lang="en-US" sz="1800" spc="-1" strike="noStrike">
                        <a:solidFill>
                          <a:srgbClr val="000000"/>
                        </a:solidFill>
                        <a:latin typeface="Calibri"/>
                      </a:endParaRPr>
                    </a:p>
                  </a:txBody>
                  <a:tcPr anchor="ctr" marL="90000" marR="90000">
                    <a:lnL w="4320">
                      <a:solidFill>
                        <a:srgbClr val="be4b48"/>
                      </a:solidFill>
                    </a:lnL>
                    <a:lnR>
                      <a:noFill/>
                    </a:lnR>
                    <a:lnT w="4320">
                      <a:solidFill>
                        <a:srgbClr val="be4b48"/>
                      </a:solidFill>
                    </a:lnT>
                    <a:lnB w="4320">
                      <a:solidFill>
                        <a:srgbClr val="be4b4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Saysettha OT"/>
                          <a:ea typeface="Saysettha OT"/>
                        </a:rPr>
                        <a:t>37.1</a:t>
                      </a:r>
                      <a:endParaRPr b="0" lang="en-US" sz="2400" spc="-1" strike="noStrike">
                        <a:solidFill>
                          <a:srgbClr val="000000"/>
                        </a:solidFill>
                        <a:latin typeface="Calibri"/>
                      </a:endParaRPr>
                    </a:p>
                  </a:txBody>
                  <a:tcPr anchor="t" marL="90000" marR="90000">
                    <a:lnL>
                      <a:noFill/>
                    </a:lnL>
                    <a:lnR>
                      <a:noFill/>
                    </a:lnR>
                    <a:lnT w="4320">
                      <a:solidFill>
                        <a:srgbClr val="be4b48"/>
                      </a:solidFill>
                    </a:lnT>
                    <a:lnB w="4320">
                      <a:solidFill>
                        <a:srgbClr val="be4b4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Saysettha OT"/>
                          <a:ea typeface="Saysettha OT"/>
                        </a:rPr>
                        <a:t>40.4</a:t>
                      </a:r>
                      <a:endParaRPr b="0" lang="en-US" sz="2400" spc="-1" strike="noStrike">
                        <a:solidFill>
                          <a:srgbClr val="000000"/>
                        </a:solidFill>
                        <a:latin typeface="Calibri"/>
                      </a:endParaRPr>
                    </a:p>
                  </a:txBody>
                  <a:tcPr anchor="t" marL="90000" marR="90000">
                    <a:lnL>
                      <a:noFill/>
                    </a:lnL>
                    <a:lnR>
                      <a:noFill/>
                    </a:lnR>
                    <a:lnT w="4320">
                      <a:solidFill>
                        <a:srgbClr val="be4b48"/>
                      </a:solidFill>
                    </a:lnT>
                    <a:lnB w="4320">
                      <a:solidFill>
                        <a:srgbClr val="be4b4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Saysettha OT"/>
                          <a:ea typeface="Saysettha OT"/>
                        </a:rPr>
                        <a:t>6.5</a:t>
                      </a:r>
                      <a:endParaRPr b="0" lang="en-US" sz="2400" spc="-1" strike="noStrike">
                        <a:solidFill>
                          <a:srgbClr val="000000"/>
                        </a:solidFill>
                        <a:latin typeface="Calibri"/>
                      </a:endParaRPr>
                    </a:p>
                  </a:txBody>
                  <a:tcPr anchor="t" marL="90000" marR="90000">
                    <a:lnL>
                      <a:noFill/>
                    </a:lnL>
                    <a:lnR w="4320">
                      <a:solidFill>
                        <a:srgbClr val="be4b48"/>
                      </a:solidFill>
                    </a:lnR>
                    <a:lnT w="4320">
                      <a:solidFill>
                        <a:srgbClr val="be4b48"/>
                      </a:solidFill>
                    </a:lnT>
                    <a:lnB w="4320">
                      <a:solidFill>
                        <a:srgbClr val="be4b48"/>
                      </a:solidFill>
                    </a:lnB>
                    <a:noFill/>
                  </a:tcPr>
                </a:tc>
              </a:tr>
            </a:tbl>
          </a:graphicData>
        </a:graphic>
      </p:graphicFrame>
      <p:sp>
        <p:nvSpPr>
          <p:cNvPr id="301" name="Rectangle 5"/>
          <p:cNvSpPr/>
          <p:nvPr/>
        </p:nvSpPr>
        <p:spPr>
          <a:xfrm>
            <a:off x="990720" y="266688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2400" spc="-1" strike="noStrike">
                <a:solidFill>
                  <a:srgbClr val="002060"/>
                </a:solidFill>
                <a:latin typeface="Saysettha OT"/>
                <a:cs typeface="Saysettha OT"/>
              </a:rPr>
              <a:t>ສະພາບຂອງເດັກຂາດສານອາຫານ ໃນ ສປປ ລາວ </a:t>
            </a:r>
            <a:r>
              <a:rPr b="0" lang="en-US" sz="2400" spc="-1" strike="noStrike">
                <a:solidFill>
                  <a:srgbClr val="002060"/>
                </a:solidFill>
                <a:latin typeface="Saysettha OT"/>
                <a:ea typeface="Saysettha OT"/>
              </a:rPr>
              <a:t>– </a:t>
            </a:r>
            <a:r>
              <a:rPr b="0" lang="en-US" sz="2400" spc="-1" strike="noStrike">
                <a:solidFill>
                  <a:srgbClr val="002060"/>
                </a:solidFill>
                <a:latin typeface="Saysettha OT"/>
                <a:ea typeface="Saysettha OT"/>
              </a:rPr>
              <a:t>2006*</a:t>
            </a:r>
            <a:endParaRPr b="0" lang="en-US" sz="2400" spc="-1" strike="noStrike">
              <a:solidFill>
                <a:srgbClr val="000000"/>
              </a:solidFill>
              <a:latin typeface="Calibri"/>
            </a:endParaRPr>
          </a:p>
        </p:txBody>
      </p:sp>
      <p:sp>
        <p:nvSpPr>
          <p:cNvPr id="302" name="TextBox 8"/>
          <p:cNvSpPr/>
          <p:nvPr/>
        </p:nvSpPr>
        <p:spPr>
          <a:xfrm>
            <a:off x="838080" y="62118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Saysettha OT"/>
                <a:ea typeface="Saysettha OT"/>
              </a:rPr>
              <a:t>* </a:t>
            </a:r>
            <a:r>
              <a:rPr b="1" i="1" lang="lo-LA" sz="1800" spc="-1" strike="noStrike">
                <a:solidFill>
                  <a:srgbClr val="002060"/>
                </a:solidFill>
                <a:latin typeface="Saysettha OT"/>
                <a:cs typeface="Saysettha OT"/>
              </a:rPr>
              <a:t>ເປີເຊັນການຂາດສານອາຫານປານກາງ         ແຫຼ່ງ</a:t>
            </a:r>
            <a:r>
              <a:rPr b="1" i="1" lang="en-US" sz="1800" spc="-1" strike="noStrike">
                <a:solidFill>
                  <a:srgbClr val="002060"/>
                </a:solidFill>
                <a:latin typeface="Saysettha OT"/>
                <a:ea typeface="Saysettha OT"/>
              </a:rPr>
              <a:t>: MICS </a:t>
            </a:r>
            <a:r>
              <a:rPr b="1" i="1" lang="lo-LA" sz="1800" spc="-1" strike="noStrike">
                <a:solidFill>
                  <a:srgbClr val="002060"/>
                </a:solidFill>
                <a:latin typeface="Saysettha OT"/>
                <a:cs typeface="Saysettha OT"/>
              </a:rPr>
              <a:t>ໃນ ສປປ ລາວ </a:t>
            </a:r>
            <a:r>
              <a:rPr b="1" i="1" lang="en-US" sz="1800" spc="-1" strike="noStrike">
                <a:solidFill>
                  <a:srgbClr val="002060"/>
                </a:solidFill>
                <a:latin typeface="Saysettha OT"/>
                <a:ea typeface="Saysettha OT"/>
              </a:rPr>
              <a:t>2006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320" y="304560"/>
            <a:ext cx="786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000" spc="-1" strike="noStrike">
                <a:solidFill>
                  <a:srgbClr val="002060"/>
                </a:solidFill>
                <a:latin typeface="Saysettha OT"/>
                <a:cs typeface="Saysettha OT"/>
              </a:rPr>
              <a:t>ການປຽບທຽບທາງດ້ານຮ່າງກາຍ  </a:t>
            </a:r>
            <a:endParaRPr b="0" lang="en-US" sz="4000" spc="-1" strike="noStrike">
              <a:solidFill>
                <a:srgbClr val="000000"/>
              </a:solidFill>
              <a:latin typeface="Calibri"/>
            </a:endParaRPr>
          </a:p>
        </p:txBody>
      </p:sp>
      <p:sp>
        <p:nvSpPr>
          <p:cNvPr id="304" name="Rectangle 3"/>
          <p:cNvSpPr/>
          <p:nvPr/>
        </p:nvSpPr>
        <p:spPr>
          <a:xfrm>
            <a:off x="1066680" y="1600200"/>
            <a:ext cx="77724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2800" spc="-1" strike="noStrike">
                <a:solidFill>
                  <a:srgbClr val="002060"/>
                </a:solidFill>
                <a:latin typeface="Saysettha OT"/>
                <a:cs typeface="Saysettha OT"/>
              </a:rPr>
              <a:t>ວັດຖຸປະສົ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ປະເມີນຄວາມຊຸກສຸມຂອງການຂາດສານອາຫານ </a:t>
            </a:r>
            <a:r>
              <a:rPr b="0" lang="en-US" sz="2800" spc="-1" strike="noStrike">
                <a:solidFill>
                  <a:srgbClr val="002060"/>
                </a:solidFill>
                <a:latin typeface="Saysettha OT"/>
                <a:ea typeface="Saysettha OT"/>
              </a:rPr>
              <a:t>  </a:t>
            </a:r>
            <a:r>
              <a:rPr b="0" lang="lo-LA" sz="2800" spc="-1" strike="noStrike">
                <a:solidFill>
                  <a:srgbClr val="002060"/>
                </a:solidFill>
                <a:latin typeface="Saysettha OT"/>
                <a:cs typeface="Saysettha OT"/>
              </a:rPr>
              <a:t>ໃນເດັກອາຍຸຕ່ຳກວ່າ </a:t>
            </a:r>
            <a:r>
              <a:rPr b="0" lang="lo-LA" sz="2800" spc="-1" strike="noStrike">
                <a:solidFill>
                  <a:srgbClr val="002060"/>
                </a:solidFill>
                <a:latin typeface="Saysettha OT"/>
                <a:ea typeface="Saysettha OT"/>
              </a:rPr>
              <a:t>5 </a:t>
            </a:r>
            <a:r>
              <a:rPr b="0" lang="lo-LA" sz="2800" spc="-1" strike="noStrike">
                <a:solidFill>
                  <a:srgbClr val="002060"/>
                </a:solidFill>
                <a:latin typeface="Saysettha OT"/>
                <a:cs typeface="Saysettha OT"/>
              </a:rPr>
              <a:t>ປີ</a:t>
            </a:r>
            <a:endParaRPr b="0" lang="en-US" sz="2800" spc="-1" strike="noStrike">
              <a:solidFill>
                <a:srgbClr val="000000"/>
              </a:solidFill>
              <a:latin typeface="Calibri"/>
            </a:endParaRPr>
          </a:p>
          <a:p>
            <a:pPr marL="343080" indent="-343080">
              <a:lnSpc>
                <a:spcPct val="100000"/>
              </a:lnSpc>
              <a:spcBef>
                <a:spcPts val="499"/>
              </a:spcBef>
              <a:buClr>
                <a:srgbClr val="ffffff"/>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2800" spc="-1" strike="noStrike">
                <a:solidFill>
                  <a:srgbClr val="002060"/>
                </a:solidFill>
                <a:latin typeface="Saysettha OT"/>
                <a:cs typeface="Saysettha OT"/>
              </a:rPr>
              <a:t>ເປົ້າໝາຍວັດແທ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ເດັກອາຍຸຕ່ຳກວ່າ </a:t>
            </a:r>
            <a:r>
              <a:rPr b="0" lang="lo-LA" sz="2800" spc="-1" strike="noStrike">
                <a:solidFill>
                  <a:srgbClr val="002060"/>
                </a:solidFill>
                <a:latin typeface="Saysettha OT"/>
                <a:ea typeface="Saysettha OT"/>
              </a:rPr>
              <a:t>5 </a:t>
            </a:r>
            <a:r>
              <a:rPr b="0" lang="lo-LA" sz="2800" spc="-1" strike="noStrike">
                <a:solidFill>
                  <a:srgbClr val="002060"/>
                </a:solidFill>
                <a:latin typeface="Saysettha OT"/>
                <a:cs typeface="Saysettha OT"/>
              </a:rPr>
              <a:t>ປີ ທັງໝົດ</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2800" spc="-1" strike="noStrike">
                <a:solidFill>
                  <a:srgbClr val="002060"/>
                </a:solidFill>
                <a:latin typeface="Saysettha OT"/>
                <a:cs typeface="Saysettha OT"/>
              </a:rPr>
              <a:t>ການເກັບລວບລວມຂໍ້ມູນ</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ແຕ່ຈະຕ້ອງມີ </a:t>
            </a:r>
            <a:r>
              <a:rPr b="0" lang="lo-LA" sz="2800" spc="-1" strike="noStrike">
                <a:solidFill>
                  <a:srgbClr val="002060"/>
                </a:solidFill>
                <a:latin typeface="Saysettha OT"/>
                <a:ea typeface="Saysettha OT"/>
              </a:rPr>
              <a:t>2 </a:t>
            </a:r>
            <a:r>
              <a:rPr b="0" lang="lo-LA" sz="2800" spc="-1" strike="noStrike">
                <a:solidFill>
                  <a:srgbClr val="002060"/>
                </a:solidFill>
                <a:latin typeface="Saysettha OT"/>
                <a:cs typeface="Saysettha OT"/>
              </a:rPr>
              <a:t>ຄົນ ທີ່ໄດ້ຜ່ານການອົບຮົມ ຮັບຜິດໃນການວັດແທກ </a:t>
            </a:r>
            <a:r>
              <a:rPr b="0" lang="lo-LA" sz="2800" spc="-1" strike="noStrike">
                <a:solidFill>
                  <a:srgbClr val="002060"/>
                </a:solidFill>
                <a:latin typeface="Saysettha OT"/>
                <a:ea typeface="Saysettha OT"/>
              </a:rPr>
              <a:t>(</a:t>
            </a:r>
            <a:r>
              <a:rPr b="0" lang="lo-LA" sz="2800" spc="-1" strike="noStrike">
                <a:solidFill>
                  <a:srgbClr val="002060"/>
                </a:solidFill>
                <a:latin typeface="Saysettha OT"/>
                <a:cs typeface="Saysettha OT"/>
              </a:rPr>
              <a:t>ຜູ້ວັດແທກ ແລະ ຜູ້ຊ່ວຍວັດແທກ</a:t>
            </a:r>
            <a:r>
              <a:rPr b="0" lang="lo-LA" sz="2800" spc="-1" strike="noStrike">
                <a:solidFill>
                  <a:srgbClr val="002060"/>
                </a:solidFill>
                <a:latin typeface="Saysettha OT"/>
                <a:ea typeface="Saysettha OT"/>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759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63d"/>
                </a:solidFill>
                <a:latin typeface="Saysettha Lao"/>
              </a:rPr>
              <a:t>¸ñ</a:t>
            </a:r>
            <a:r>
              <a:rPr b="1" lang="lo-LA" sz="4400" spc="-1" strike="noStrike">
                <a:solidFill>
                  <a:srgbClr val="00863d"/>
                </a:solidFill>
                <a:latin typeface="Saysettha Lao"/>
                <a:cs typeface="DokChampa"/>
              </a:rPr>
              <a:t>ນ</a:t>
            </a:r>
            <a:r>
              <a:rPr b="1" lang="en-US" sz="4400" spc="-1" strike="noStrike">
                <a:solidFill>
                  <a:srgbClr val="00863d"/>
                </a:solidFill>
                <a:latin typeface="Saysettha Lao"/>
              </a:rPr>
              <a:t>­À¡ó© Áì½º¾¨÷(ªÒ</a:t>
            </a:r>
            <a:r>
              <a:rPr b="1" lang="en-US" sz="4400" spc="-1" strike="noStrike">
                <a:solidFill>
                  <a:srgbClr val="00863d"/>
                </a:solidFill>
                <a:latin typeface="Calibri"/>
              </a:rPr>
              <a:t>:)</a:t>
            </a: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Saysettha Lao"/>
              </a:rPr>
              <a:t>°øÉ¦¿²¾©£¸­</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Ä¡ÈÀ¡È¨êñ¤¦º¤¢Ó´ø­</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º¾¨÷ê†Ä©É¥¾¡¡¾</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À¡ó©£¸­</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Àê‰¾¡ñ®º¾¨÷À´ˆº¸ñ</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À¡ó©£˜¤¦÷©êÉ¾¨)</a:t>
            </a:r>
            <a:endParaRPr b="0" lang="en-US" sz="3200" spc="-1" strike="noStrike">
              <a:solidFill>
                <a:srgbClr val="000000"/>
              </a:solidFill>
              <a:latin typeface="Calibri"/>
            </a:endParaRPr>
          </a:p>
          <a:p>
            <a:pPr marL="343080" indent="-34308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Saysettha Lao"/>
              </a:rPr>
              <a:t>Àªñ¡­</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ò¡Ã</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¾­</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¾´À¥¾½¥š´, Àº¡½¦¾­</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Ã©Î‡¤ ¦¾´¾©Ã§ÉÀ²ˆº®ñ­</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êô¡¸ñ­</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À¡ó© Áì½º¾¨÷ê†«õ¡ªÉº¤</a:t>
            </a:r>
            <a:endParaRPr b="0" lang="en-US" sz="3200" spc="-1" strike="noStrike">
              <a:solidFill>
                <a:srgbClr val="000000"/>
              </a:solidFill>
              <a:latin typeface="Calibri"/>
            </a:endParaRPr>
          </a:p>
          <a:p>
            <a:pPr marL="343080" indent="-34308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Saysettha Lao"/>
              </a:rPr>
              <a:t>«É¾®ÒÀ»ñ©Á</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š ¥½­</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Ä¯¦øÈ®ñ</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¹¾ Îñ¡ÎÈ¸¤Ã</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½²¾®¢º¤¢º¤¢Ó´ø</a:t>
            </a:r>
            <a:r>
              <a:rPr b="0" lang="lo-LA" sz="3200" spc="-1" strike="noStrike">
                <a:solidFill>
                  <a:srgbClr val="c00000"/>
                </a:solidFill>
                <a:latin typeface="Saysettha Lao"/>
                <a:cs typeface="DokChampa"/>
              </a:rPr>
              <a:t>ນ</a:t>
            </a:r>
            <a:r>
              <a:rPr b="0" lang="en-US" sz="3200" spc="-1" strike="noStrike">
                <a:solidFill>
                  <a:srgbClr val="c00000"/>
                </a:solidFill>
                <a:latin typeface="Saysettha Lao"/>
              </a:rPr>
              <a:t>­</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320" y="228240"/>
            <a:ext cx="7791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000" spc="-1" strike="noStrike">
                <a:solidFill>
                  <a:srgbClr val="002060"/>
                </a:solidFill>
                <a:latin typeface="Saysettha OT"/>
                <a:cs typeface="Saysettha OT"/>
              </a:rPr>
              <a:t>ອຸປະກອນ</a:t>
            </a:r>
            <a:endParaRPr b="0" lang="en-US" sz="4000" spc="-1" strike="noStrike">
              <a:solidFill>
                <a:srgbClr val="000000"/>
              </a:solidFill>
              <a:latin typeface="Calibri"/>
            </a:endParaRPr>
          </a:p>
        </p:txBody>
      </p:sp>
      <p:sp>
        <p:nvSpPr>
          <p:cNvPr id="306" name="Rectangle 4"/>
          <p:cNvSpPr/>
          <p:nvPr/>
        </p:nvSpPr>
        <p:spPr>
          <a:xfrm>
            <a:off x="1143000" y="1523880"/>
            <a:ext cx="77724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2400" spc="-1" strike="noStrike">
                <a:solidFill>
                  <a:srgbClr val="002060"/>
                </a:solidFill>
                <a:latin typeface="Saysettha OT"/>
                <a:cs typeface="Saysettha OT"/>
              </a:rPr>
              <a:t>ຊິງຊັ່ງນ້ຳໜັກ</a:t>
            </a:r>
            <a:r>
              <a:rPr b="1" lang="en-US" sz="2400" spc="-1" strike="noStrike">
                <a:solidFill>
                  <a:srgbClr val="002060"/>
                </a:solidFill>
                <a:latin typeface="Saysettha OT"/>
                <a:ea typeface="Saysettha OT"/>
              </a:rPr>
              <a:t>: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2400" spc="-1" strike="noStrike">
                <a:solidFill>
                  <a:srgbClr val="002060"/>
                </a:solidFill>
                <a:latin typeface="Saysettha OT"/>
                <a:cs typeface="Saysettha OT"/>
              </a:rPr>
              <a:t>ຊິງ ອິເລັກໂທນິກ</a:t>
            </a:r>
            <a:r>
              <a:rPr b="0" lang="en-US" sz="2400" spc="-1" strike="noStrike">
                <a:solidFill>
                  <a:srgbClr val="002060"/>
                </a:solidFill>
                <a:latin typeface="Saysettha OT"/>
                <a:ea typeface="Saysettha OT"/>
              </a:rPr>
              <a:t>, </a:t>
            </a:r>
            <a:r>
              <a:rPr b="0" lang="lo-LA" sz="2400" spc="-1" strike="noStrike">
                <a:solidFill>
                  <a:srgbClr val="002060"/>
                </a:solidFill>
                <a:latin typeface="Saysettha OT"/>
                <a:cs typeface="Saysettha OT"/>
              </a:rPr>
              <a:t>ສາມາດຊັ່ງນ້ຳນັກໄດ້ເຖິງ </a:t>
            </a:r>
            <a:r>
              <a:rPr b="0" lang="en-GB" sz="2400" spc="-1" strike="noStrike">
                <a:solidFill>
                  <a:srgbClr val="002060"/>
                </a:solidFill>
                <a:latin typeface="Saysettha OT"/>
                <a:ea typeface="Saysettha OT"/>
              </a:rPr>
              <a:t>150 </a:t>
            </a:r>
            <a:r>
              <a:rPr b="0" lang="lo-LA" sz="2400" spc="-1" strike="noStrike">
                <a:solidFill>
                  <a:srgbClr val="002060"/>
                </a:solidFill>
                <a:latin typeface="Saysettha OT"/>
                <a:cs typeface="Saysettha OT"/>
              </a:rPr>
              <a:t>ກິໂລ</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2400" spc="-1" strike="noStrike">
                <a:solidFill>
                  <a:srgbClr val="002060"/>
                </a:solidFill>
                <a:latin typeface="Saysettha OT"/>
                <a:ea typeface="Saysettha OT"/>
              </a:rPr>
              <a:t>(1 </a:t>
            </a:r>
            <a:r>
              <a:rPr b="0" lang="lo-LA" sz="2400" spc="-1" strike="noStrike">
                <a:solidFill>
                  <a:srgbClr val="002060"/>
                </a:solidFill>
                <a:latin typeface="Saysettha OT"/>
                <a:cs typeface="Saysettha OT"/>
              </a:rPr>
              <a:t>ໜ່ວຍ</a:t>
            </a:r>
            <a:r>
              <a:rPr b="0" lang="en-US" sz="2400" spc="-1" strike="noStrike">
                <a:solidFill>
                  <a:srgbClr val="002060"/>
                </a:solidFill>
                <a:latin typeface="Saysettha OT"/>
                <a:ea typeface="Saysettha OT"/>
              </a:rPr>
              <a:t>/</a:t>
            </a:r>
            <a:r>
              <a:rPr b="0" lang="lo-LA" sz="2400" spc="-1" strike="noStrike">
                <a:solidFill>
                  <a:srgbClr val="002060"/>
                </a:solidFill>
                <a:latin typeface="Saysettha OT"/>
                <a:cs typeface="Saysettha OT"/>
              </a:rPr>
              <a:t>ທີມ</a:t>
            </a:r>
            <a:r>
              <a:rPr b="0" lang="lo-LA" sz="2400" spc="-1" strike="noStrike">
                <a:solidFill>
                  <a:srgbClr val="002060"/>
                </a:solidFill>
                <a:latin typeface="Saysettha OT"/>
                <a:ea typeface="Saysettha OT"/>
              </a:rPr>
              <a:t>)</a:t>
            </a:r>
            <a:endParaRPr b="0" lang="en-US" sz="24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2400" spc="-1" strike="noStrike">
                <a:solidFill>
                  <a:srgbClr val="002060"/>
                </a:solidFill>
                <a:latin typeface="Saysettha OT"/>
                <a:cs typeface="Saysettha OT"/>
              </a:rPr>
              <a:t>ກະດານວັດແທກລວງຍາວ</a:t>
            </a:r>
            <a:r>
              <a:rPr b="1" lang="en-US" sz="2400" spc="-1" strike="noStrike">
                <a:solidFill>
                  <a:srgbClr val="002060"/>
                </a:solidFill>
                <a:latin typeface="Saysettha OT"/>
                <a:ea typeface="Saysettha OT"/>
              </a:rPr>
              <a:t>/</a:t>
            </a:r>
            <a:r>
              <a:rPr b="1" lang="lo-LA" sz="2400" spc="-1" strike="noStrike">
                <a:solidFill>
                  <a:srgbClr val="002060"/>
                </a:solidFill>
                <a:latin typeface="Saysettha OT"/>
                <a:cs typeface="Saysettha OT"/>
              </a:rPr>
              <a:t>ລວງສູງ</a:t>
            </a:r>
            <a:r>
              <a:rPr b="1" lang="en-US" sz="2400" spc="-1" strike="noStrike">
                <a:solidFill>
                  <a:srgbClr val="002060"/>
                </a:solidFill>
                <a:latin typeface="Saysettha OT"/>
                <a:ea typeface="Saysettha OT"/>
              </a:rPr>
              <a:t>:</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2400" spc="-1" strike="noStrike">
                <a:solidFill>
                  <a:srgbClr val="002060"/>
                </a:solidFill>
                <a:latin typeface="Saysettha OT"/>
                <a:cs typeface="Saysettha OT"/>
              </a:rPr>
              <a:t>ກະດານໄມ້ວັດແທກ</a:t>
            </a:r>
            <a:r>
              <a:rPr b="0" lang="en-US" sz="2400" spc="-1" strike="noStrike">
                <a:solidFill>
                  <a:srgbClr val="002060"/>
                </a:solidFill>
                <a:latin typeface="Saysettha OT"/>
                <a:ea typeface="Saysettha OT"/>
              </a:rPr>
              <a:t>, </a:t>
            </a:r>
            <a:r>
              <a:rPr b="0" lang="lo-LA" sz="2400" spc="-1" strike="noStrike">
                <a:solidFill>
                  <a:srgbClr val="002060"/>
                </a:solidFill>
                <a:latin typeface="Saysettha OT"/>
                <a:cs typeface="Saysettha OT"/>
              </a:rPr>
              <a:t>ຄວາມຍາວ </a:t>
            </a:r>
            <a:r>
              <a:rPr b="0" lang="en-US" sz="2400" spc="-1" strike="noStrike">
                <a:solidFill>
                  <a:srgbClr val="002060"/>
                </a:solidFill>
                <a:latin typeface="Saysettha OT"/>
                <a:ea typeface="Saysettha OT"/>
              </a:rPr>
              <a:t>130 </a:t>
            </a:r>
            <a:r>
              <a:rPr b="0" lang="lo-LA" sz="2400" spc="-1" strike="noStrike">
                <a:solidFill>
                  <a:srgbClr val="002060"/>
                </a:solidFill>
                <a:latin typeface="Saysettha OT"/>
                <a:cs typeface="Saysettha OT"/>
              </a:rPr>
              <a:t>ຊັງຕີແມດ</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2400" spc="-1" strike="noStrike">
                <a:solidFill>
                  <a:srgbClr val="002060"/>
                </a:solidFill>
                <a:latin typeface="Saysettha OT"/>
                <a:ea typeface="Saysettha OT"/>
              </a:rPr>
              <a:t>(1 </a:t>
            </a:r>
            <a:r>
              <a:rPr b="0" lang="lo-LA" sz="2400" spc="-1" strike="noStrike">
                <a:solidFill>
                  <a:srgbClr val="002060"/>
                </a:solidFill>
                <a:latin typeface="Saysettha OT"/>
                <a:cs typeface="Saysettha OT"/>
              </a:rPr>
              <a:t>ໜ່ວຍ</a:t>
            </a:r>
            <a:r>
              <a:rPr b="0" lang="en-US" sz="2400" spc="-1" strike="noStrike">
                <a:solidFill>
                  <a:srgbClr val="002060"/>
                </a:solidFill>
                <a:latin typeface="Saysettha OT"/>
                <a:ea typeface="Saysettha OT"/>
              </a:rPr>
              <a:t>/</a:t>
            </a:r>
            <a:r>
              <a:rPr b="0" lang="lo-LA" sz="2400" spc="-1" strike="noStrike">
                <a:solidFill>
                  <a:srgbClr val="002060"/>
                </a:solidFill>
                <a:latin typeface="Saysettha OT"/>
                <a:cs typeface="Saysettha OT"/>
              </a:rPr>
              <a:t>ທີມ</a:t>
            </a:r>
            <a:r>
              <a:rPr b="0" lang="lo-LA" sz="2400" spc="-1" strike="noStrike">
                <a:solidFill>
                  <a:srgbClr val="002060"/>
                </a:solidFill>
                <a:latin typeface="Saysettha OT"/>
                <a:ea typeface="Saysettha OT"/>
              </a:rPr>
              <a:t>)</a:t>
            </a:r>
            <a:endParaRPr b="0" lang="en-US" sz="24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2400" spc="-1" strike="noStrike">
                <a:solidFill>
                  <a:srgbClr val="002060"/>
                </a:solidFill>
                <a:latin typeface="Saysettha OT"/>
                <a:cs typeface="Saysettha OT"/>
              </a:rPr>
              <a:t>ອຸປະກອນໃນການບັນທຶກ</a:t>
            </a:r>
            <a:r>
              <a:rPr b="1" lang="en-US" sz="2400" spc="-1" strike="noStrike">
                <a:solidFill>
                  <a:srgbClr val="002060"/>
                </a:solidFill>
                <a:latin typeface="Saysettha OT"/>
                <a:ea typeface="Saysettha OT"/>
              </a:rPr>
              <a:t>:  </a:t>
            </a:r>
            <a:endParaRPr b="0" lang="en-US" sz="2400" spc="-1" strike="noStrike">
              <a:solidFill>
                <a:srgbClr val="000000"/>
              </a:solidFill>
              <a:latin typeface="Calibri"/>
            </a:endParaRPr>
          </a:p>
          <a:p>
            <a:pPr lvl="2" marL="824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2400" spc="-1" strike="noStrike">
                <a:solidFill>
                  <a:srgbClr val="002060"/>
                </a:solidFill>
                <a:latin typeface="Saysettha OT"/>
                <a:cs typeface="Saysettha OT"/>
              </a:rPr>
              <a:t>ບິກ</a:t>
            </a:r>
            <a:endParaRPr b="0" lang="en-US" sz="2400" spc="-1" strike="noStrike">
              <a:solidFill>
                <a:srgbClr val="000000"/>
              </a:solidFill>
              <a:latin typeface="Calibri"/>
            </a:endParaRPr>
          </a:p>
          <a:p>
            <a:pPr lvl="2" marL="824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2400" spc="-1" strike="noStrike">
                <a:solidFill>
                  <a:srgbClr val="002060"/>
                </a:solidFill>
                <a:latin typeface="Saysettha OT"/>
                <a:cs typeface="Saysettha OT"/>
              </a:rPr>
              <a:t>ແບບຟອມບັນທຶກ</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218960" y="15192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000" spc="-1" strike="noStrike">
                <a:solidFill>
                  <a:srgbClr val="002060"/>
                </a:solidFill>
                <a:latin typeface="Saysettha OT"/>
                <a:cs typeface="Saysettha OT"/>
              </a:rPr>
              <a:t>ຂັ້ນຕອນການຊັ່ງນ້ຳໜັກ</a:t>
            </a:r>
            <a:endParaRPr b="0" lang="en-US" sz="4000" spc="-1" strike="noStrike">
              <a:solidFill>
                <a:srgbClr val="000000"/>
              </a:solidFill>
              <a:latin typeface="Calibri"/>
            </a:endParaRPr>
          </a:p>
        </p:txBody>
      </p:sp>
      <p:sp>
        <p:nvSpPr>
          <p:cNvPr id="308" name="Rectangle 4"/>
          <p:cNvSpPr/>
          <p:nvPr/>
        </p:nvSpPr>
        <p:spPr>
          <a:xfrm>
            <a:off x="685800" y="1143000"/>
            <a:ext cx="84582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ກະກຽມສະຖານທີ ທີ່ເໝາະສົມ </a:t>
            </a:r>
            <a:r>
              <a:rPr b="0" lang="lo-LA" sz="2600" spc="-1" strike="noStrike">
                <a:solidFill>
                  <a:srgbClr val="002060"/>
                </a:solidFill>
                <a:latin typeface="Saysettha OT"/>
                <a:ea typeface="Saysettha OT"/>
              </a:rPr>
              <a:t>(</a:t>
            </a:r>
            <a:r>
              <a:rPr b="0" lang="lo-LA" sz="2600" spc="-1" strike="noStrike">
                <a:solidFill>
                  <a:srgbClr val="002060"/>
                </a:solidFill>
                <a:latin typeface="Saysettha OT"/>
                <a:cs typeface="Saysettha OT"/>
              </a:rPr>
              <a:t>ມີແສງສະຫວ່າງພຽງພໍ</a:t>
            </a:r>
            <a:r>
              <a:rPr b="0" lang="lo-LA" sz="2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ພື້ນພຽງ</a:t>
            </a:r>
            <a:r>
              <a:rPr b="0" lang="lo-LA" sz="2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ແຫ້ງ ແລະ ແຂງ</a:t>
            </a:r>
            <a:r>
              <a:rPr b="0" lang="lo-LA" sz="2600" spc="-1" strike="noStrike">
                <a:solidFill>
                  <a:srgbClr val="002060"/>
                </a:solidFill>
                <a:latin typeface="Saysettha OT"/>
                <a:ea typeface="Saysettha OT"/>
              </a:rPr>
              <a:t>)</a:t>
            </a:r>
            <a:endParaRPr b="0" lang="en-US" sz="2600" spc="-1" strike="noStrike">
              <a:solidFill>
                <a:srgbClr val="000000"/>
              </a:solidFill>
              <a:latin typeface="Calibri"/>
            </a:endParaRPr>
          </a:p>
          <a:p>
            <a:pPr marL="343080" indent="-343080">
              <a:lnSpc>
                <a:spcPct val="11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ກະກຽມຊິງຊັ່ງ</a:t>
            </a:r>
            <a:r>
              <a:rPr b="0" lang="lo-LA" sz="12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ແລະປະໄວປະມານ</a:t>
            </a:r>
            <a:r>
              <a:rPr b="0" lang="lo-LA" sz="1600" spc="-1" strike="noStrike">
                <a:solidFill>
                  <a:srgbClr val="002060"/>
                </a:solidFill>
                <a:latin typeface="Saysettha OT"/>
                <a:ea typeface="Saysettha OT"/>
              </a:rPr>
              <a:t> </a:t>
            </a:r>
            <a:r>
              <a:rPr b="0" lang="en-US" sz="2600" spc="-1" strike="noStrike">
                <a:solidFill>
                  <a:srgbClr val="002060"/>
                </a:solidFill>
                <a:latin typeface="Saysettha OT"/>
                <a:ea typeface="Saysettha OT"/>
              </a:rPr>
              <a:t>15</a:t>
            </a:r>
            <a:r>
              <a:rPr b="0" lang="en-US" sz="1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ນາທີ</a:t>
            </a:r>
            <a:r>
              <a:rPr b="0" lang="lo-LA" sz="1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ກ່ອນເລີ່ມຊັ່ງນ້ຳໜັກ</a:t>
            </a:r>
            <a:endParaRPr b="0" lang="en-US" sz="2600" spc="-1" strike="noStrike">
              <a:solidFill>
                <a:srgbClr val="000000"/>
              </a:solidFill>
              <a:latin typeface="Calibri"/>
            </a:endParaRPr>
          </a:p>
          <a:p>
            <a:pPr marL="343080" indent="-343080">
              <a:lnSpc>
                <a:spcPct val="11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ກະກຽມເດັກ </a:t>
            </a:r>
            <a:r>
              <a:rPr b="0" lang="lo-LA" sz="2600" spc="-1" strike="noStrike">
                <a:solidFill>
                  <a:srgbClr val="002060"/>
                </a:solidFill>
                <a:latin typeface="Saysettha OT"/>
                <a:ea typeface="Saysettha OT"/>
              </a:rPr>
              <a:t>(</a:t>
            </a:r>
            <a:r>
              <a:rPr b="0" lang="lo-LA" sz="2600" spc="-1" strike="noStrike">
                <a:solidFill>
                  <a:srgbClr val="002060"/>
                </a:solidFill>
                <a:latin typeface="Saysettha OT"/>
                <a:cs typeface="Saysettha OT"/>
              </a:rPr>
              <a:t>ຖອດເຄື່ອງນຸ່ງທີ່ໜາ ແລະໜັກອອກ</a:t>
            </a:r>
            <a:r>
              <a:rPr b="0" lang="lo-LA" sz="2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ປົດເກີບ</a:t>
            </a:r>
            <a:r>
              <a:rPr b="0" lang="lo-LA" sz="2600" spc="-1" strike="noStrike">
                <a:solidFill>
                  <a:srgbClr val="002060"/>
                </a:solidFill>
                <a:latin typeface="Saysettha OT"/>
                <a:ea typeface="Saysettha OT"/>
              </a:rPr>
              <a:t>)</a:t>
            </a:r>
            <a:endParaRPr b="0" lang="en-US" sz="2600" spc="-1" strike="noStrike">
              <a:solidFill>
                <a:srgbClr val="000000"/>
              </a:solidFill>
              <a:latin typeface="Calibri"/>
            </a:endParaRPr>
          </a:p>
          <a:p>
            <a:pPr marL="343080" indent="-343080">
              <a:lnSpc>
                <a:spcPct val="11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ເປີດຊິງຊັ່ງຈົນມັນສະແດງ </a:t>
            </a:r>
            <a:r>
              <a:rPr b="0" lang="en-US" sz="2600" spc="-1" strike="noStrike">
                <a:solidFill>
                  <a:srgbClr val="002060"/>
                </a:solidFill>
                <a:latin typeface="Saysettha OT"/>
                <a:ea typeface="Saysettha OT"/>
              </a:rPr>
              <a:t>00.0 </a:t>
            </a:r>
            <a:r>
              <a:rPr b="0" lang="lo-LA" sz="2600" spc="-1" strike="noStrike">
                <a:solidFill>
                  <a:srgbClr val="002060"/>
                </a:solidFill>
                <a:latin typeface="Saysettha OT"/>
                <a:cs typeface="Saysettha OT"/>
              </a:rPr>
              <a:t>ຢູ່ໜ້າຈໍ </a:t>
            </a:r>
            <a:endParaRPr b="0" lang="en-US" sz="2600" spc="-1" strike="noStrike">
              <a:solidFill>
                <a:srgbClr val="000000"/>
              </a:solidFill>
              <a:latin typeface="Calibri"/>
            </a:endParaRPr>
          </a:p>
          <a:p>
            <a:pPr marL="343080" indent="-343080">
              <a:lnSpc>
                <a:spcPct val="11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ຊັ່ງນ້ຳໜັກເດັກ</a:t>
            </a:r>
            <a:endParaRPr b="0" lang="en-US" sz="2600" spc="-1" strike="noStrike">
              <a:solidFill>
                <a:srgbClr val="000000"/>
              </a:solidFill>
              <a:latin typeface="Calibri"/>
            </a:endParaRPr>
          </a:p>
          <a:p>
            <a:pPr lvl="1" marL="743040" indent="-285840">
              <a:lnSpc>
                <a:spcPct val="11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ຖ້າເດັກບໍ່ສາມາດຢືນໄດ້</a:t>
            </a:r>
            <a:r>
              <a:rPr b="0" lang="lo-LA" sz="2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ຊັ່ງນ້ຳໜັກໂດຍໃຫ້ແມ່</a:t>
            </a:r>
            <a:r>
              <a:rPr b="0" lang="en-US" sz="2600" spc="-1" strike="noStrike">
                <a:solidFill>
                  <a:srgbClr val="002060"/>
                </a:solidFill>
                <a:latin typeface="Saysettha OT"/>
                <a:ea typeface="Saysettha OT"/>
              </a:rPr>
              <a:t>/</a:t>
            </a:r>
            <a:r>
              <a:rPr b="0" lang="lo-LA" sz="2600" spc="-1" strike="noStrike">
                <a:solidFill>
                  <a:srgbClr val="002060"/>
                </a:solidFill>
                <a:latin typeface="Saysettha OT"/>
                <a:cs typeface="Saysettha OT"/>
              </a:rPr>
              <a:t>ຜູ້ດູແລອູ້ມ</a:t>
            </a:r>
            <a:endParaRPr b="0" lang="en-US" sz="2600" spc="-1" strike="noStrike">
              <a:solidFill>
                <a:srgbClr val="000000"/>
              </a:solidFill>
              <a:latin typeface="Calibri"/>
            </a:endParaRPr>
          </a:p>
          <a:p>
            <a:pPr lvl="1" marL="743040" indent="-285840">
              <a:lnSpc>
                <a:spcPct val="11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ຖ້າເດັກສາມາດຢືນໄດ້</a:t>
            </a:r>
            <a:r>
              <a:rPr b="0" lang="lo-LA" sz="2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ກໍ່ໃຫ້ຢືນຕາມຮອຍຕີນທີ່ມີຢູ່ເທິງຊິງ</a:t>
            </a:r>
            <a:endParaRPr b="0" lang="en-US" sz="2600" spc="-1" strike="noStrike">
              <a:solidFill>
                <a:srgbClr val="000000"/>
              </a:solidFill>
              <a:latin typeface="Calibri"/>
            </a:endParaRPr>
          </a:p>
          <a:p>
            <a:pPr marL="343080" indent="-343080">
              <a:lnSpc>
                <a:spcPct val="11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ໃຫ້ຜູ້ວັດແທກຮ້ອງບອກຜູ້ຊ່ວຍ ຕາມຕົວເລກ ເພື່ອບັນທຶກໃສ່ໃນແບບຟອມ</a:t>
            </a:r>
            <a:r>
              <a:rPr b="0" lang="lo-LA" sz="2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ແລະ ຜູ້ຊ່ວຍເວົ້າຄືນຕົວເລກທີ່ໄດ້ບັນທຶກ </a:t>
            </a:r>
            <a:endParaRPr b="0" lang="en-US" sz="2600" spc="-1" strike="noStrike">
              <a:solidFill>
                <a:srgbClr val="000000"/>
              </a:solidFill>
              <a:latin typeface="Calibri"/>
            </a:endParaRPr>
          </a:p>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Saysettha OT"/>
                <a:ea typeface="Saysettha OT"/>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456840"/>
            <a:ext cx="7867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000" spc="-1" strike="noStrike">
                <a:solidFill>
                  <a:srgbClr val="002060"/>
                </a:solidFill>
                <a:latin typeface="Saysettha OT"/>
                <a:cs typeface="Saysettha OT"/>
              </a:rPr>
              <a:t>ການວັດແທກລວງສູງ</a:t>
            </a:r>
            <a:endParaRPr b="0" lang="en-US" sz="4000" spc="-1" strike="noStrike">
              <a:solidFill>
                <a:srgbClr val="000000"/>
              </a:solidFill>
              <a:latin typeface="Calibri"/>
            </a:endParaRPr>
          </a:p>
        </p:txBody>
      </p:sp>
      <p:sp>
        <p:nvSpPr>
          <p:cNvPr id="310" name="Rectangle 3"/>
          <p:cNvSpPr/>
          <p:nvPr/>
        </p:nvSpPr>
        <p:spPr>
          <a:xfrm>
            <a:off x="990720" y="1828800"/>
            <a:ext cx="792468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3200" spc="-1" strike="noStrike">
                <a:solidFill>
                  <a:srgbClr val="002060"/>
                </a:solidFill>
                <a:latin typeface="Saysettha OT"/>
                <a:cs typeface="Saysettha OT"/>
              </a:rPr>
              <a:t>ການວັດແທກລວງຍາວ ແລະ ລວງສູງ </a:t>
            </a:r>
            <a:endParaRPr b="0" lang="en-US" sz="3200" spc="-1" strike="noStrike">
              <a:solidFill>
                <a:srgbClr val="000000"/>
              </a:solidFill>
              <a:latin typeface="Calibri"/>
            </a:endParaRPr>
          </a:p>
          <a:p>
            <a:pPr lvl="1" marL="905040" indent="-285840">
              <a:lnSpc>
                <a:spcPct val="15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3200" spc="-1" strike="noStrike">
                <a:solidFill>
                  <a:srgbClr val="002060"/>
                </a:solidFill>
                <a:latin typeface="Saysettha OT"/>
                <a:ea typeface="Saysettha OT"/>
              </a:rPr>
              <a:t> </a:t>
            </a:r>
            <a:r>
              <a:rPr b="0" lang="lo-LA" sz="3200" spc="-1" strike="noStrike">
                <a:solidFill>
                  <a:srgbClr val="002060"/>
                </a:solidFill>
                <a:latin typeface="Saysettha OT"/>
                <a:cs typeface="Saysettha OT"/>
              </a:rPr>
              <a:t>ນອນແທກ</a:t>
            </a:r>
            <a:r>
              <a:rPr b="0" lang="en-US" sz="3200" spc="-1" strike="noStrike">
                <a:solidFill>
                  <a:srgbClr val="002060"/>
                </a:solidFill>
                <a:latin typeface="Saysettha OT"/>
                <a:ea typeface="Saysettha OT"/>
              </a:rPr>
              <a:t>: </a:t>
            </a:r>
            <a:r>
              <a:rPr b="0" lang="lo-LA" sz="3200" spc="-1" strike="noStrike">
                <a:solidFill>
                  <a:srgbClr val="002060"/>
                </a:solidFill>
                <a:latin typeface="Saysettha OT"/>
                <a:cs typeface="Saysettha OT"/>
              </a:rPr>
              <a:t>ເດັກອາຍຸ</a:t>
            </a:r>
            <a:r>
              <a:rPr b="0" lang="en-US" sz="3200" spc="-1" strike="noStrike">
                <a:solidFill>
                  <a:srgbClr val="002060"/>
                </a:solidFill>
                <a:latin typeface="Saysettha OT"/>
                <a:ea typeface="Saysettha OT"/>
              </a:rPr>
              <a:t> </a:t>
            </a:r>
            <a:r>
              <a:rPr b="0" lang="lo-LA" sz="3200" spc="-1" strike="noStrike">
                <a:solidFill>
                  <a:srgbClr val="002060"/>
                </a:solidFill>
                <a:latin typeface="Saysettha OT"/>
                <a:cs typeface="Saysettha OT"/>
              </a:rPr>
              <a:t>ຕ່ຳກວ່າ </a:t>
            </a:r>
            <a:r>
              <a:rPr b="0" lang="en-US" sz="3200" spc="-1" strike="noStrike">
                <a:solidFill>
                  <a:srgbClr val="002060"/>
                </a:solidFill>
                <a:latin typeface="Saysettha OT"/>
                <a:ea typeface="Saysettha OT"/>
              </a:rPr>
              <a:t>2 </a:t>
            </a:r>
            <a:r>
              <a:rPr b="0" lang="lo-LA" sz="3200" spc="-1" strike="noStrike">
                <a:solidFill>
                  <a:srgbClr val="002060"/>
                </a:solidFill>
                <a:latin typeface="Saysettha OT"/>
                <a:cs typeface="Saysettha OT"/>
              </a:rPr>
              <a:t>ປີ</a:t>
            </a:r>
            <a:endParaRPr b="0" lang="en-US" sz="3200" spc="-1" strike="noStrike">
              <a:solidFill>
                <a:srgbClr val="000000"/>
              </a:solidFill>
              <a:latin typeface="Calibri"/>
            </a:endParaRPr>
          </a:p>
          <a:p>
            <a:pPr lvl="1" marL="905040" indent="-285840">
              <a:lnSpc>
                <a:spcPct val="15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3200" spc="-1" strike="noStrike">
                <a:solidFill>
                  <a:srgbClr val="002060"/>
                </a:solidFill>
                <a:latin typeface="Saysettha OT"/>
                <a:ea typeface="Saysettha OT"/>
              </a:rPr>
              <a:t> </a:t>
            </a:r>
            <a:r>
              <a:rPr b="0" lang="lo-LA" sz="3200" spc="-1" strike="noStrike">
                <a:solidFill>
                  <a:srgbClr val="002060"/>
                </a:solidFill>
                <a:latin typeface="Saysettha OT"/>
                <a:cs typeface="Saysettha OT"/>
              </a:rPr>
              <a:t>ຢືນແທກ</a:t>
            </a:r>
            <a:r>
              <a:rPr b="0" lang="lo-LA" sz="3200" spc="-1" strike="noStrike">
                <a:solidFill>
                  <a:srgbClr val="002060"/>
                </a:solidFill>
                <a:latin typeface="Saysettha OT"/>
                <a:ea typeface="Saysettha OT"/>
              </a:rPr>
              <a:t>: </a:t>
            </a:r>
            <a:r>
              <a:rPr b="0" lang="lo-LA" sz="3200" spc="-1" strike="noStrike">
                <a:solidFill>
                  <a:srgbClr val="002060"/>
                </a:solidFill>
                <a:latin typeface="Saysettha OT"/>
                <a:cs typeface="Saysettha OT"/>
              </a:rPr>
              <a:t>ເດັກອາຍຸ </a:t>
            </a:r>
            <a:r>
              <a:rPr b="0" lang="lo-LA" sz="3200" spc="-1" strike="noStrike">
                <a:solidFill>
                  <a:srgbClr val="002060"/>
                </a:solidFill>
                <a:latin typeface="Saysettha OT"/>
                <a:ea typeface="Saysettha OT"/>
              </a:rPr>
              <a:t>2 </a:t>
            </a:r>
            <a:r>
              <a:rPr b="0" lang="lo-LA" sz="3200" spc="-1" strike="noStrike">
                <a:solidFill>
                  <a:srgbClr val="002060"/>
                </a:solidFill>
                <a:latin typeface="Saysettha OT"/>
                <a:cs typeface="Saysettha OT"/>
              </a:rPr>
              <a:t>ປີ ຂຶ້ນໄປ</a:t>
            </a:r>
            <a:endParaRPr b="0" lang="en-US" sz="3200" spc="-1" strike="noStrike">
              <a:solidFill>
                <a:srgbClr val="000000"/>
              </a:solidFill>
              <a:latin typeface="Calibri"/>
            </a:endParaRPr>
          </a:p>
          <a:p>
            <a:pPr lvl="1" marL="905040" indent="-285840">
              <a:lnSpc>
                <a:spcPct val="15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5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228240"/>
            <a:ext cx="786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000" spc="-1" strike="noStrike">
                <a:solidFill>
                  <a:srgbClr val="002060"/>
                </a:solidFill>
                <a:latin typeface="Saysettha OT"/>
                <a:cs typeface="Saysettha OT"/>
              </a:rPr>
              <a:t>ຂັ້ນຕອນການວັດແທກລວງສູງ</a:t>
            </a:r>
            <a:endParaRPr b="0" lang="en-US" sz="4000" spc="-1" strike="noStrike">
              <a:solidFill>
                <a:srgbClr val="000000"/>
              </a:solidFill>
              <a:latin typeface="Calibri"/>
            </a:endParaRPr>
          </a:p>
        </p:txBody>
      </p:sp>
      <p:sp>
        <p:nvSpPr>
          <p:cNvPr id="312" name="Rectangle 3"/>
          <p:cNvSpPr/>
          <p:nvPr/>
        </p:nvSpPr>
        <p:spPr>
          <a:xfrm>
            <a:off x="914400" y="1295280"/>
            <a:ext cx="792468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ກະກຽມສະຖານທີ ທີ່ເໝາະສົມ </a:t>
            </a:r>
            <a:r>
              <a:rPr b="0" lang="lo-LA" sz="2600" spc="-1" strike="noStrike">
                <a:solidFill>
                  <a:srgbClr val="002060"/>
                </a:solidFill>
                <a:latin typeface="Saysettha OT"/>
                <a:ea typeface="Saysettha OT"/>
              </a:rPr>
              <a:t>(</a:t>
            </a:r>
            <a:r>
              <a:rPr b="0" lang="lo-LA" sz="2600" spc="-1" strike="noStrike">
                <a:solidFill>
                  <a:srgbClr val="002060"/>
                </a:solidFill>
                <a:latin typeface="Saysettha OT"/>
                <a:cs typeface="Saysettha OT"/>
              </a:rPr>
              <a:t>ມີແສງສະຫວ່າງພຽງພໍ</a:t>
            </a:r>
            <a:r>
              <a:rPr b="0" lang="lo-LA" sz="2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ພື້ນພຽງ ແຫ້ງ ແລະແຂງ</a:t>
            </a:r>
            <a:r>
              <a:rPr b="0" lang="lo-LA" sz="2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ແລະ ຝາ ຫລື ເສົາ ສຳລັບອີງກະດານວັດແທກ</a:t>
            </a:r>
            <a:r>
              <a:rPr b="0" lang="lo-LA" sz="2600" spc="-1" strike="noStrike">
                <a:solidFill>
                  <a:srgbClr val="002060"/>
                </a:solidFill>
                <a:latin typeface="Saysettha OT"/>
                <a:ea typeface="Saysettha OT"/>
              </a:rPr>
              <a:t>)</a:t>
            </a:r>
            <a:endParaRPr b="0" lang="en-US" sz="2600" spc="-1" strike="noStrike">
              <a:solidFill>
                <a:srgbClr val="000000"/>
              </a:solidFill>
              <a:latin typeface="Calibri"/>
            </a:endParaRPr>
          </a:p>
          <a:p>
            <a:pPr marL="343080" indent="-343080">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ຖ້າເດັກມັດຜົມ ຫລື ເກົ້າຜົມ ທີ່ມີຜົນການວັດແທກລວງສູງ</a:t>
            </a:r>
            <a:r>
              <a:rPr b="0" lang="lo-LA" sz="2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ກໍ່ຕ້ອງໄດ້ແກ້ອອກກ່ອນວັດແທກ</a:t>
            </a:r>
            <a:endParaRPr b="0" lang="en-US" sz="2600" spc="-1" strike="noStrike">
              <a:solidFill>
                <a:srgbClr val="000000"/>
              </a:solidFill>
              <a:latin typeface="Calibri"/>
            </a:endParaRPr>
          </a:p>
          <a:p>
            <a:pPr marL="343080" indent="-343080">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ໃຫ້ເດັກປົດເກີບ</a:t>
            </a:r>
            <a:endParaRPr b="0" lang="en-US" sz="2600" spc="-1" strike="noStrike">
              <a:solidFill>
                <a:srgbClr val="000000"/>
              </a:solidFill>
              <a:latin typeface="Calibri"/>
            </a:endParaRPr>
          </a:p>
          <a:p>
            <a:pPr marL="343080" indent="-343080">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ຈັດທ່າເດັກໃສ່ໃນກະດານວັດແທກໃຫ້ຖືກຕ້ອງ</a:t>
            </a:r>
            <a:endParaRPr b="0" lang="en-US" sz="2600" spc="-1" strike="noStrike">
              <a:solidFill>
                <a:srgbClr val="000000"/>
              </a:solidFill>
              <a:latin typeface="Calibri"/>
            </a:endParaRPr>
          </a:p>
          <a:p>
            <a:pPr marL="343080" indent="-343080">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ວັດແທກ </a:t>
            </a:r>
            <a:r>
              <a:rPr b="0" lang="lo-LA" sz="2600" spc="-1" strike="noStrike">
                <a:solidFill>
                  <a:srgbClr val="002060"/>
                </a:solidFill>
                <a:latin typeface="Saysettha OT"/>
                <a:ea typeface="Saysettha OT"/>
              </a:rPr>
              <a:t>(</a:t>
            </a:r>
            <a:r>
              <a:rPr b="0" lang="lo-LA" sz="2600" spc="-1" strike="noStrike">
                <a:solidFill>
                  <a:srgbClr val="002060"/>
                </a:solidFill>
                <a:latin typeface="Saysettha OT"/>
                <a:cs typeface="Saysettha OT"/>
              </a:rPr>
              <a:t>ໃຫ້ຖືກຕ້ອງຕາມຄູ່ມື</a:t>
            </a:r>
            <a:r>
              <a:rPr b="0" lang="lo-LA" sz="2600" spc="-1" strike="noStrike">
                <a:solidFill>
                  <a:srgbClr val="002060"/>
                </a:solidFill>
                <a:latin typeface="Saysettha OT"/>
                <a:ea typeface="Saysettha OT"/>
              </a:rPr>
              <a:t>)</a:t>
            </a:r>
            <a:endParaRPr b="0" lang="en-US" sz="2600" spc="-1" strike="noStrike">
              <a:solidFill>
                <a:srgbClr val="000000"/>
              </a:solidFill>
              <a:latin typeface="Calibri"/>
            </a:endParaRPr>
          </a:p>
          <a:p>
            <a:pPr marL="343080" indent="-343080">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ໃຫ້ເລີ່ມແທກເດັກທີ່ຜູ້ໃຫຍ່ກວ່າ</a:t>
            </a:r>
            <a:endParaRPr b="0" lang="en-US" sz="2600" spc="-1" strike="noStrike">
              <a:solidFill>
                <a:srgbClr val="000000"/>
              </a:solidFill>
              <a:latin typeface="Calibri"/>
            </a:endParaRPr>
          </a:p>
          <a:p>
            <a:pPr marL="343080" indent="-343080">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600" spc="-1" strike="noStrike">
                <a:solidFill>
                  <a:srgbClr val="002060"/>
                </a:solidFill>
                <a:latin typeface="Saysettha OT"/>
                <a:cs typeface="Saysettha OT"/>
              </a:rPr>
              <a:t>ໃຫ້ຜູ້ວັດແທກຮ້ອງບອກຜູ້ຊ່ວຍ ຕາມຕົວເລກ ເພື່ອບັນທຶກໃສ່ໃນແບບຟອມ</a:t>
            </a:r>
            <a:r>
              <a:rPr b="0" lang="lo-LA" sz="2600" spc="-1" strike="noStrike">
                <a:solidFill>
                  <a:srgbClr val="002060"/>
                </a:solidFill>
                <a:latin typeface="Saysettha OT"/>
                <a:ea typeface="Saysettha OT"/>
              </a:rPr>
              <a:t>, </a:t>
            </a:r>
            <a:r>
              <a:rPr b="0" lang="lo-LA" sz="2600" spc="-1" strike="noStrike">
                <a:solidFill>
                  <a:srgbClr val="002060"/>
                </a:solidFill>
                <a:latin typeface="Saysettha OT"/>
                <a:cs typeface="Saysettha OT"/>
              </a:rPr>
              <a:t>ແລະ ຜູ້ຊ່ວຍເວົ້າຄືນຕົວເລກທີ່ໄດ້ບັນທຶກ </a:t>
            </a:r>
            <a:endParaRPr b="0" lang="en-US" sz="2600" spc="-1" strike="noStrike">
              <a:solidFill>
                <a:srgbClr val="000000"/>
              </a:solidFill>
              <a:latin typeface="Calibri"/>
            </a:endParaRPr>
          </a:p>
          <a:p>
            <a:pPr marL="343080" indent="-343080">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5" descr=""/>
          <p:cNvPicPr/>
          <p:nvPr/>
        </p:nvPicPr>
        <p:blipFill>
          <a:blip r:embed="rId1"/>
          <a:srcRect l="0" t="2980" r="2779" b="3804"/>
          <a:stretch/>
        </p:blipFill>
        <p:spPr>
          <a:xfrm>
            <a:off x="3166920" y="76320"/>
            <a:ext cx="5748480" cy="6705360"/>
          </a:xfrm>
          <a:prstGeom prst="rect">
            <a:avLst/>
          </a:prstGeom>
          <a:ln w="0">
            <a:noFill/>
          </a:ln>
        </p:spPr>
      </p:pic>
      <p:sp>
        <p:nvSpPr>
          <p:cNvPr id="314" name="PlaceHolder 1"/>
          <p:cNvSpPr>
            <a:spLocks noGrp="1"/>
          </p:cNvSpPr>
          <p:nvPr>
            <p:ph type="title"/>
          </p:nvPr>
        </p:nvSpPr>
        <p:spPr>
          <a:xfrm>
            <a:off x="380520" y="75960"/>
            <a:ext cx="3886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3600" spc="-1" strike="noStrike">
                <a:solidFill>
                  <a:srgbClr val="002060"/>
                </a:solidFill>
                <a:latin typeface="Saysettha OT"/>
                <a:cs typeface="Saysettha OT"/>
              </a:rPr>
              <a:t>ການວັດແທກລວງສູງ</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
          <p:cNvPicPr/>
          <p:nvPr/>
        </p:nvPicPr>
        <p:blipFill>
          <a:blip r:embed="rId1"/>
          <a:srcRect l="0" t="0" r="0" b="1661"/>
          <a:stretch/>
        </p:blipFill>
        <p:spPr>
          <a:xfrm>
            <a:off x="3276720" y="152280"/>
            <a:ext cx="5638680" cy="6594480"/>
          </a:xfrm>
          <a:prstGeom prst="rect">
            <a:avLst/>
          </a:prstGeom>
          <a:ln w="0">
            <a:noFill/>
          </a:ln>
        </p:spPr>
      </p:pic>
      <p:sp>
        <p:nvSpPr>
          <p:cNvPr id="316" name="PlaceHolder 1"/>
          <p:cNvSpPr>
            <a:spLocks noGrp="1"/>
          </p:cNvSpPr>
          <p:nvPr>
            <p:ph type="title"/>
          </p:nvPr>
        </p:nvSpPr>
        <p:spPr>
          <a:xfrm>
            <a:off x="380520" y="76320"/>
            <a:ext cx="29718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3600" spc="-1" strike="noStrike">
                <a:solidFill>
                  <a:srgbClr val="002060"/>
                </a:solidFill>
                <a:latin typeface="Saysettha OT"/>
                <a:cs typeface="Saysettha OT"/>
              </a:rPr>
              <a:t>ການວັດແທກ</a:t>
            </a:r>
            <a:br>
              <a:rPr sz="3600"/>
            </a:br>
            <a:r>
              <a:rPr b="1" lang="lo-LA" sz="3600" spc="-1" strike="noStrike">
                <a:solidFill>
                  <a:srgbClr val="002060"/>
                </a:solidFill>
                <a:latin typeface="Saysettha OT"/>
                <a:cs typeface="Saysettha OT"/>
              </a:rPr>
              <a:t>ລວງຍາວ</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320" y="274320"/>
            <a:ext cx="786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400" spc="-1" strike="noStrike">
                <a:solidFill>
                  <a:srgbClr val="002060"/>
                </a:solidFill>
                <a:latin typeface="Saysettha OT"/>
                <a:cs typeface="Saysettha OT"/>
              </a:rPr>
              <a:t>ຈຸດທີ່ຄວນເອົາໃຈໃສ່</a:t>
            </a:r>
            <a:endParaRPr b="0" lang="en-US" sz="4400" spc="-1" strike="noStrike">
              <a:solidFill>
                <a:srgbClr val="000000"/>
              </a:solidFill>
              <a:latin typeface="Calibri"/>
            </a:endParaRPr>
          </a:p>
        </p:txBody>
      </p:sp>
      <p:sp>
        <p:nvSpPr>
          <p:cNvPr id="318" name=""/>
          <p:cNvSpPr txBox="1"/>
          <p:nvPr/>
        </p:nvSpPr>
        <p:spPr>
          <a:xfrm>
            <a:off x="685800" y="1447560"/>
            <a:ext cx="8229600" cy="5105160"/>
          </a:xfrm>
          <a:prstGeom prst="rect">
            <a:avLst/>
          </a:prstGeom>
          <a:noFill/>
          <a:ln w="0">
            <a:noFill/>
          </a:ln>
        </p:spPr>
        <p:txBody>
          <a:bodyPr anchor="t">
            <a:normAutofit/>
          </a:bodyPr>
          <a:p>
            <a:pPr marL="343080" indent="-343080">
              <a:lnSpc>
                <a:spcPct val="12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ເຮັດການວັດແທກ ຫຼັງຈາກສຳເລັດການສຳພາດ ແບບຟອມສຳລັບເດັກອາຍຸຕ່ຳກວ່າ </a:t>
            </a:r>
            <a:r>
              <a:rPr b="0" lang="lo-LA" sz="2800" spc="-1" strike="noStrike">
                <a:solidFill>
                  <a:srgbClr val="002060"/>
                </a:solidFill>
                <a:latin typeface="Saysettha OT"/>
                <a:ea typeface="Saysettha OT"/>
              </a:rPr>
              <a:t>5 </a:t>
            </a:r>
            <a:r>
              <a:rPr b="0" lang="lo-LA" sz="2800" spc="-1" strike="noStrike">
                <a:solidFill>
                  <a:srgbClr val="002060"/>
                </a:solidFill>
                <a:latin typeface="Saysettha OT"/>
                <a:cs typeface="Saysettha OT"/>
              </a:rPr>
              <a:t>ປີ</a:t>
            </a:r>
            <a:endParaRPr b="0" lang="en-US" sz="2800" spc="-1" strike="noStrike">
              <a:solidFill>
                <a:srgbClr val="000000"/>
              </a:solidFill>
              <a:latin typeface="Calibri"/>
            </a:endParaRPr>
          </a:p>
          <a:p>
            <a:pPr marL="343080" indent="-343080">
              <a:lnSpc>
                <a:spcPct val="12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ກະກຽມສະຖານທີ່ໃຫ້ເໝາະສົມ </a:t>
            </a:r>
            <a:endParaRPr b="0" lang="en-US" sz="2800" spc="-1" strike="noStrike">
              <a:solidFill>
                <a:srgbClr val="000000"/>
              </a:solidFill>
              <a:latin typeface="Calibri"/>
            </a:endParaRPr>
          </a:p>
          <a:p>
            <a:pPr marL="343080" indent="-343080">
              <a:lnSpc>
                <a:spcPct val="12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ກວດກາອຸປະກອນຮັບໃຊ້ກ່ອນການວັດແທກ </a:t>
            </a:r>
            <a:endParaRPr b="0" lang="en-US" sz="2800" spc="-1" strike="noStrike">
              <a:solidFill>
                <a:srgbClr val="000000"/>
              </a:solidFill>
              <a:latin typeface="Calibri"/>
            </a:endParaRPr>
          </a:p>
          <a:p>
            <a:pPr marL="343080" indent="-343080">
              <a:lnSpc>
                <a:spcPct val="12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2060"/>
                </a:solidFill>
                <a:latin typeface="Saysettha OT"/>
                <a:cs typeface="Saysettha OT"/>
              </a:rPr>
              <a:t>ຖ້າເດັກມີຄວາມຜິດປົກກະຕິທາງດ້ານຮ່າງກາຍ ທີ່ມີຜົນຕໍ່ການວັດແທກລວງສູງ ເຊັ່ນຂາພິການ</a:t>
            </a:r>
            <a:r>
              <a:rPr b="0" lang="lo-LA" sz="2800" spc="-1" strike="noStrike">
                <a:solidFill>
                  <a:srgbClr val="002060"/>
                </a:solidFill>
                <a:latin typeface="Saysettha OT"/>
                <a:ea typeface="Saysettha OT"/>
              </a:rPr>
              <a:t>, </a:t>
            </a:r>
            <a:r>
              <a:rPr b="0" lang="lo-LA" sz="2800" spc="-1" strike="noStrike">
                <a:solidFill>
                  <a:srgbClr val="002060"/>
                </a:solidFill>
                <a:latin typeface="Saysettha OT"/>
                <a:cs typeface="Saysettha OT"/>
              </a:rPr>
              <a:t>ບໍ່ໃຫ້ບັນທຶກໃສ່ໃນແບບຟອມ</a:t>
            </a:r>
            <a:r>
              <a:rPr b="0" lang="lo-LA" sz="2800" spc="-1" strike="noStrike">
                <a:solidFill>
                  <a:srgbClr val="002060"/>
                </a:solidFill>
                <a:latin typeface="Saysettha OT"/>
                <a:ea typeface="Saysettha OT"/>
              </a:rPr>
              <a:t>, </a:t>
            </a:r>
            <a:r>
              <a:rPr b="0" lang="lo-LA" sz="2800" spc="-1" strike="noStrike">
                <a:solidFill>
                  <a:srgbClr val="002060"/>
                </a:solidFill>
                <a:latin typeface="Saysettha OT"/>
                <a:cs typeface="Saysettha OT"/>
              </a:rPr>
              <a:t>ແຕ່ໃຫ້ຂີດອ້ອມ </a:t>
            </a:r>
            <a:r>
              <a:rPr b="0" lang="en-US" sz="2800" spc="-1" strike="noStrike">
                <a:solidFill>
                  <a:srgbClr val="002060"/>
                </a:solidFill>
                <a:latin typeface="Saysettha OT"/>
                <a:ea typeface="Saysettha OT"/>
              </a:rPr>
              <a:t>‘</a:t>
            </a:r>
            <a:r>
              <a:rPr b="0" lang="lo-LA" sz="2800" spc="-1" strike="noStrike">
                <a:solidFill>
                  <a:srgbClr val="002060"/>
                </a:solidFill>
                <a:latin typeface="Saysettha OT"/>
                <a:ea typeface="Saysettha OT"/>
              </a:rPr>
              <a:t>6</a:t>
            </a:r>
            <a:r>
              <a:rPr b="0" lang="en-US" sz="2800" spc="-1" strike="noStrike">
                <a:solidFill>
                  <a:srgbClr val="002060"/>
                </a:solidFill>
                <a:latin typeface="Saysettha OT"/>
                <a:ea typeface="Saysettha OT"/>
              </a:rPr>
              <a:t>’</a:t>
            </a:r>
            <a:r>
              <a:rPr b="0" lang="lo-LA" sz="2800" spc="-1" strike="noStrike">
                <a:solidFill>
                  <a:srgbClr val="002060"/>
                </a:solidFill>
                <a:latin typeface="Saysettha OT"/>
                <a:ea typeface="Saysettha OT"/>
              </a:rPr>
              <a:t> </a:t>
            </a:r>
            <a:r>
              <a:rPr b="0" lang="lo-LA" sz="2800" spc="-1" strike="noStrike">
                <a:solidFill>
                  <a:srgbClr val="002060"/>
                </a:solidFill>
                <a:latin typeface="Saysettha OT"/>
                <a:cs typeface="Saysettha OT"/>
              </a:rPr>
              <a:t>ແລະບັນທຶກເຫດຜົນໃສ່ບ່ອນວ່າ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320" y="274320"/>
            <a:ext cx="786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400" spc="-1" strike="noStrike">
                <a:solidFill>
                  <a:srgbClr val="002060"/>
                </a:solidFill>
                <a:latin typeface="Saysettha OT"/>
                <a:cs typeface="Saysettha OT"/>
              </a:rPr>
              <a:t>ຈຸດທີ່ຄວນເອົາໃຈໃສ່</a:t>
            </a:r>
            <a:endParaRPr b="0" lang="en-US" sz="4400" spc="-1" strike="noStrike">
              <a:solidFill>
                <a:srgbClr val="000000"/>
              </a:solidFill>
              <a:latin typeface="Calibri"/>
            </a:endParaRPr>
          </a:p>
        </p:txBody>
      </p:sp>
      <p:sp>
        <p:nvSpPr>
          <p:cNvPr id="320" name=""/>
          <p:cNvSpPr txBox="1"/>
          <p:nvPr/>
        </p:nvSpPr>
        <p:spPr>
          <a:xfrm>
            <a:off x="609120" y="1523520"/>
            <a:ext cx="8534520" cy="4876920"/>
          </a:xfrm>
          <a:prstGeom prst="rect">
            <a:avLst/>
          </a:prstGeom>
          <a:noFill/>
          <a:ln w="0">
            <a:noFill/>
          </a:ln>
        </p:spPr>
        <p:txBody>
          <a:bodyPr anchor="t">
            <a:normAutofit/>
          </a:bodyPr>
          <a:p>
            <a:pPr marL="365040" indent="-282600">
              <a:lnSpc>
                <a:spcPct val="110000"/>
              </a:lnSpc>
              <a:spcBef>
                <a:spcPts val="1199"/>
              </a:spcBef>
              <a:buClr>
                <a:srgbClr val="00206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376092"/>
                </a:solidFill>
                <a:latin typeface="Saysettha OT"/>
                <a:cs typeface="Saysettha OT"/>
              </a:rPr>
              <a:t>ການວັດແທກທີ່ຖືກຕ້ອງ ແມ່ນ ບັນຫາສຳຄັນໃນການເກັບລວບລວມຂໍ້ມູນ</a:t>
            </a:r>
            <a:endParaRPr b="0" lang="en-US" sz="2800" spc="-1" strike="noStrike">
              <a:solidFill>
                <a:srgbClr val="000000"/>
              </a:solidFill>
              <a:latin typeface="Calibri"/>
            </a:endParaRPr>
          </a:p>
          <a:p>
            <a:pPr marL="365040" indent="-282600">
              <a:lnSpc>
                <a:spcPct val="110000"/>
              </a:lnSpc>
              <a:spcBef>
                <a:spcPts val="1199"/>
              </a:spcBef>
              <a:buClr>
                <a:srgbClr val="00206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376092"/>
                </a:solidFill>
                <a:latin typeface="Saysettha OT"/>
                <a:cs typeface="Saysettha OT"/>
              </a:rPr>
              <a:t>ລວງຍາວ</a:t>
            </a:r>
            <a:r>
              <a:rPr b="0" lang="en-US" sz="2800" spc="-1" strike="noStrike">
                <a:solidFill>
                  <a:srgbClr val="376092"/>
                </a:solidFill>
                <a:latin typeface="Saysettha OT"/>
                <a:ea typeface="Saysettha OT"/>
              </a:rPr>
              <a:t>/</a:t>
            </a:r>
            <a:r>
              <a:rPr b="0" lang="lo-LA" sz="2800" spc="-1" strike="noStrike">
                <a:solidFill>
                  <a:srgbClr val="376092"/>
                </a:solidFill>
                <a:latin typeface="Saysettha OT"/>
                <a:cs typeface="Saysettha OT"/>
              </a:rPr>
              <a:t>ລວງສູງຂອງເດັກ ຄວນວັດແທກໃຫ້ໃກ້ທີ່ສຸດ</a:t>
            </a:r>
            <a:r>
              <a:rPr b="0" lang="en-US" sz="2800" spc="-1" strike="noStrike">
                <a:solidFill>
                  <a:srgbClr val="376092"/>
                </a:solidFill>
                <a:latin typeface="Saysettha OT"/>
                <a:ea typeface="Saysettha OT"/>
              </a:rPr>
              <a:t>  </a:t>
            </a:r>
            <a:r>
              <a:rPr b="0" lang="en-US" sz="2800" spc="-1" strike="noStrike">
                <a:solidFill>
                  <a:srgbClr val="376092"/>
                </a:solidFill>
                <a:latin typeface="Saysettha OT"/>
                <a:ea typeface="Saysettha OT"/>
              </a:rPr>
              <a:t>0.1 </a:t>
            </a:r>
            <a:r>
              <a:rPr b="0" lang="lo-LA" sz="2800" spc="-1" strike="noStrike">
                <a:solidFill>
                  <a:srgbClr val="376092"/>
                </a:solidFill>
                <a:latin typeface="Saysettha OT"/>
                <a:cs typeface="Saysettha OT"/>
              </a:rPr>
              <a:t>ຊັງຕີແມດ</a:t>
            </a:r>
            <a:r>
              <a:rPr b="0" lang="lo-LA" sz="2800" spc="-1" strike="noStrike">
                <a:solidFill>
                  <a:srgbClr val="376092"/>
                </a:solidFill>
                <a:latin typeface="Saysettha OT"/>
                <a:ea typeface="Saysettha OT"/>
              </a:rPr>
              <a:t>, </a:t>
            </a:r>
            <a:endParaRPr b="0" lang="en-US" sz="2800" spc="-1" strike="noStrike">
              <a:solidFill>
                <a:srgbClr val="000000"/>
              </a:solidFill>
              <a:latin typeface="Calibri"/>
            </a:endParaRPr>
          </a:p>
          <a:p>
            <a:pPr marL="365040" indent="-282600">
              <a:lnSpc>
                <a:spcPct val="110000"/>
              </a:lnSpc>
              <a:spcBef>
                <a:spcPts val="1199"/>
              </a:spcBef>
              <a:buClr>
                <a:srgbClr val="00206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376092"/>
                </a:solidFill>
                <a:latin typeface="Saysettha OT"/>
                <a:cs typeface="Saysettha OT"/>
              </a:rPr>
              <a:t>ມີຄວາມຈຳເປັນຕ້ອງໄດ້ອ່ານຄູ່ມືຢ່າງລະອຽດ ເພື່ອໃຫ້</a:t>
            </a:r>
            <a:r>
              <a:rPr b="0" lang="en-US" sz="2800" spc="-1" strike="noStrike">
                <a:solidFill>
                  <a:srgbClr val="376092"/>
                </a:solidFill>
                <a:latin typeface="Saysettha OT"/>
                <a:ea typeface="Saysettha OT"/>
              </a:rPr>
              <a:t> </a:t>
            </a:r>
            <a:r>
              <a:rPr b="0" lang="lo-LA" sz="2800" spc="-1" strike="noStrike">
                <a:solidFill>
                  <a:srgbClr val="376092"/>
                </a:solidFill>
                <a:latin typeface="Saysettha OT"/>
                <a:cs typeface="Saysettha OT"/>
              </a:rPr>
              <a:t>ເຂົ້າໃຈວິທີ</a:t>
            </a:r>
            <a:r>
              <a:rPr b="0" lang="en-US" sz="2800" spc="-1" strike="noStrike">
                <a:solidFill>
                  <a:srgbClr val="376092"/>
                </a:solidFill>
                <a:latin typeface="Saysettha OT"/>
                <a:ea typeface="Saysettha OT"/>
              </a:rPr>
              <a:t> </a:t>
            </a:r>
            <a:r>
              <a:rPr b="0" lang="lo-LA" sz="2800" spc="-1" strike="noStrike">
                <a:solidFill>
                  <a:srgbClr val="376092"/>
                </a:solidFill>
                <a:latin typeface="Saysettha OT"/>
                <a:cs typeface="Saysettha OT"/>
              </a:rPr>
              <a:t>ການວັດແທກຢ່າງມີປະສິດທິພາບ</a:t>
            </a:r>
            <a:endParaRPr b="0" lang="en-US" sz="2800" spc="-1" strike="noStrike">
              <a:solidFill>
                <a:srgbClr val="000000"/>
              </a:solidFill>
              <a:latin typeface="Calibri"/>
            </a:endParaRPr>
          </a:p>
          <a:p>
            <a:pPr marL="365040" indent="-282600">
              <a:lnSpc>
                <a:spcPct val="110000"/>
              </a:lnSpc>
              <a:spcBef>
                <a:spcPts val="1199"/>
              </a:spcBef>
              <a:buClr>
                <a:srgbClr val="00206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376092"/>
                </a:solidFill>
                <a:latin typeface="Saysettha OT"/>
                <a:cs typeface="Saysettha OT"/>
              </a:rPr>
              <a:t>ແຕ່ລະທີມຄວນມີ ນ້ຳຢາທຳຄວາມສະອາດ ແລະ ເຈ້ຍເຊັດ</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320" y="274320"/>
            <a:ext cx="786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400" spc="-1" strike="noStrike">
                <a:solidFill>
                  <a:srgbClr val="002060"/>
                </a:solidFill>
                <a:latin typeface="Saysettha OT"/>
                <a:cs typeface="Saysettha OT"/>
              </a:rPr>
              <a:t>ການກວດເບິ່ງການບວມ</a:t>
            </a:r>
            <a:endParaRPr b="0" lang="en-US" sz="4400" spc="-1" strike="noStrike">
              <a:solidFill>
                <a:srgbClr val="000000"/>
              </a:solidFill>
              <a:latin typeface="Calibri"/>
            </a:endParaRPr>
          </a:p>
        </p:txBody>
      </p:sp>
      <p:sp>
        <p:nvSpPr>
          <p:cNvPr id="322" name=""/>
          <p:cNvSpPr txBox="1"/>
          <p:nvPr/>
        </p:nvSpPr>
        <p:spPr>
          <a:xfrm>
            <a:off x="685800" y="1523880"/>
            <a:ext cx="8229600" cy="4724640"/>
          </a:xfrm>
          <a:prstGeom prst="rect">
            <a:avLst/>
          </a:prstGeom>
          <a:noFill/>
          <a:ln w="0">
            <a:noFill/>
          </a:ln>
        </p:spPr>
        <p:txBody>
          <a:bodyPr anchor="t">
            <a:normAutofit/>
          </a:bodyPr>
          <a:p>
            <a:pPr marL="365040" indent="-28260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200" spc="-1" strike="noStrike">
                <a:solidFill>
                  <a:srgbClr val="000000"/>
                </a:solidFill>
                <a:latin typeface="Saysettha OT"/>
                <a:cs typeface="Saysettha OT"/>
              </a:rPr>
              <a:t>ການບວມແມ່ນການສະສົມນ້ຳຢູ່ໃນແພຈຸລັງໃນຮ່າງກາຍ </a:t>
            </a:r>
            <a:endParaRPr b="0" lang="en-US" sz="2200" spc="-1" strike="noStrike">
              <a:solidFill>
                <a:srgbClr val="000000"/>
              </a:solidFill>
              <a:latin typeface="Calibri"/>
            </a:endParaRPr>
          </a:p>
          <a:p>
            <a:pPr marL="365040" indent="-28260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200" spc="-1" strike="noStrike">
                <a:solidFill>
                  <a:srgbClr val="000000"/>
                </a:solidFill>
                <a:latin typeface="Saysettha OT"/>
                <a:cs typeface="Saysettha OT"/>
              </a:rPr>
              <a:t>ອາການບວມທັງສອງຂ້າງ ເອີ້ນວ່າອາການຂອງ </a:t>
            </a:r>
            <a:r>
              <a:rPr b="0" lang="en-US" sz="2200" spc="-1" strike="noStrike">
                <a:solidFill>
                  <a:srgbClr val="000000"/>
                </a:solidFill>
                <a:latin typeface="Saysettha OT"/>
                <a:ea typeface="Saysettha OT"/>
              </a:rPr>
              <a:t>kwashiorkor, </a:t>
            </a:r>
            <a:r>
              <a:rPr b="0" lang="lo-LA" sz="2200" spc="-1" strike="noStrike">
                <a:solidFill>
                  <a:srgbClr val="000000"/>
                </a:solidFill>
                <a:latin typeface="Saysettha OT"/>
                <a:cs typeface="Saysettha OT"/>
              </a:rPr>
              <a:t>ຊື່ງແມ່ນຮູບແບບທີ່ຮ້າຍແຮງນຶ່ງ ຂອງການຂາດສານອາຫານຮຸນແຮງ</a:t>
            </a:r>
            <a:endParaRPr b="0" lang="en-US" sz="2200" spc="-1" strike="noStrike">
              <a:solidFill>
                <a:srgbClr val="000000"/>
              </a:solidFill>
              <a:latin typeface="Calibri"/>
            </a:endParaRPr>
          </a:p>
          <a:p>
            <a:pPr marL="365040" indent="-28260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200" spc="-1" strike="noStrike">
                <a:solidFill>
                  <a:srgbClr val="000000"/>
                </a:solidFill>
                <a:latin typeface="Saysettha OT"/>
                <a:cs typeface="Saysettha OT"/>
              </a:rPr>
              <a:t>ວິທີການກວດກາ</a:t>
            </a:r>
            <a:endParaRPr b="0" lang="en-US" sz="2200" spc="-1" strike="noStrike">
              <a:solidFill>
                <a:srgbClr val="000000"/>
              </a:solidFill>
              <a:latin typeface="Calibri"/>
            </a:endParaRPr>
          </a:p>
          <a:p>
            <a:pPr lvl="1" marL="639720" indent="-28260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1900" spc="-1" strike="noStrike">
                <a:solidFill>
                  <a:srgbClr val="000000"/>
                </a:solidFill>
                <a:latin typeface="Saysettha OT"/>
                <a:cs typeface="Saysettha OT"/>
              </a:rPr>
              <a:t>ໃຫ້ເດັກປົດເກີບ ແລະ ຖອດຖົງເທົ້າ</a:t>
            </a:r>
            <a:endParaRPr b="0" lang="en-US" sz="1900" spc="-1" strike="noStrike">
              <a:solidFill>
                <a:srgbClr val="000000"/>
              </a:solidFill>
              <a:latin typeface="Calibri"/>
            </a:endParaRPr>
          </a:p>
          <a:p>
            <a:pPr lvl="1" marL="639720" indent="-28260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1900" spc="-1" strike="noStrike">
                <a:solidFill>
                  <a:srgbClr val="000000"/>
                </a:solidFill>
                <a:latin typeface="Saysettha OT"/>
                <a:cs typeface="Saysettha OT"/>
              </a:rPr>
              <a:t>ຖ້າເດັກໃຫຍ່ໃຫ້ນັ່ງຕັ່ງປິ່ນໜ້າຫາຜູ້ກວດ</a:t>
            </a:r>
            <a:r>
              <a:rPr b="0" lang="lo-LA" sz="1900" spc="-1" strike="noStrike">
                <a:solidFill>
                  <a:srgbClr val="000000"/>
                </a:solidFill>
                <a:latin typeface="Saysettha OT"/>
                <a:ea typeface="Saysettha OT"/>
              </a:rPr>
              <a:t>, </a:t>
            </a:r>
            <a:endParaRPr b="0" lang="en-US" sz="1900" spc="-1" strike="noStrike">
              <a:solidFill>
                <a:srgbClr val="000000"/>
              </a:solidFill>
              <a:latin typeface="Calibri"/>
            </a:endParaRPr>
          </a:p>
          <a:p>
            <a:pPr lvl="1" marL="639720" indent="-28260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1900" spc="-1" strike="noStrike">
                <a:solidFill>
                  <a:srgbClr val="000000"/>
                </a:solidFill>
                <a:latin typeface="Saysettha OT"/>
                <a:cs typeface="Saysettha OT"/>
              </a:rPr>
              <a:t>ຖ້າແມ່ນເດັກອ່ອນໃຫ້ແມ່ ຫລື ຜູ້ດູແລອູ້ມປິ່ນໜ້າຫາຜູ້ກວດ</a:t>
            </a:r>
            <a:endParaRPr b="0" lang="en-US" sz="1900" spc="-1" strike="noStrike">
              <a:solidFill>
                <a:srgbClr val="000000"/>
              </a:solidFill>
              <a:latin typeface="Calibri"/>
            </a:endParaRPr>
          </a:p>
          <a:p>
            <a:pPr lvl="1" marL="639720" indent="-28260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1900" spc="-1" strike="noStrike">
                <a:solidFill>
                  <a:srgbClr val="000000"/>
                </a:solidFill>
                <a:latin typeface="Saysettha OT"/>
                <a:cs typeface="Saysettha OT"/>
              </a:rPr>
              <a:t>ໃຫ້ຜູ້ກວດໃຊ້ຫົວໂປ້ມື ກົດໃສ່ເທິງຫຼັງຕີນຂອງເດັກທັງສອງເບື້ອງ ຄ້າງໄວປະມານ </a:t>
            </a:r>
            <a:r>
              <a:rPr b="0" lang="lo-LA" sz="1900" spc="-1" strike="noStrike">
                <a:solidFill>
                  <a:srgbClr val="000000"/>
                </a:solidFill>
                <a:latin typeface="Saysettha OT"/>
                <a:ea typeface="Saysettha OT"/>
              </a:rPr>
              <a:t>3 </a:t>
            </a:r>
            <a:r>
              <a:rPr b="0" lang="lo-LA" sz="1900" spc="-1" strike="noStrike">
                <a:solidFill>
                  <a:srgbClr val="000000"/>
                </a:solidFill>
                <a:latin typeface="Saysettha OT"/>
                <a:cs typeface="Saysettha OT"/>
              </a:rPr>
              <a:t>ວິນາທີ </a:t>
            </a:r>
            <a:r>
              <a:rPr b="0" lang="lo-LA" sz="1900" spc="-1" strike="noStrike">
                <a:solidFill>
                  <a:srgbClr val="000000"/>
                </a:solidFill>
                <a:latin typeface="Saysettha OT"/>
                <a:ea typeface="Saysettha OT"/>
              </a:rPr>
              <a:t>(</a:t>
            </a:r>
            <a:r>
              <a:rPr b="0" lang="lo-LA" sz="1900" spc="-1" strike="noStrike">
                <a:solidFill>
                  <a:srgbClr val="000000"/>
                </a:solidFill>
                <a:latin typeface="Saysettha OT"/>
                <a:cs typeface="Saysettha OT"/>
              </a:rPr>
              <a:t>ນັບ</a:t>
            </a:r>
            <a:r>
              <a:rPr b="0" lang="en-US" sz="1900" spc="-1" strike="noStrike">
                <a:solidFill>
                  <a:srgbClr val="000000"/>
                </a:solidFill>
                <a:latin typeface="Saysettha OT"/>
                <a:ea typeface="Saysettha OT"/>
              </a:rPr>
              <a:t> </a:t>
            </a:r>
            <a:r>
              <a:rPr b="0" lang="en-US" sz="1900" spc="-1" strike="noStrike">
                <a:solidFill>
                  <a:srgbClr val="000000"/>
                </a:solidFill>
                <a:latin typeface="Saysettha OT"/>
                <a:ea typeface="Saysettha OT"/>
              </a:rPr>
              <a:t>1001, 1002, 1003</a:t>
            </a:r>
            <a:r>
              <a:rPr b="0" lang="lo-LA" sz="1900" spc="-1" strike="noStrike">
                <a:solidFill>
                  <a:srgbClr val="000000"/>
                </a:solidFill>
                <a:latin typeface="Saysettha OT"/>
                <a:ea typeface="Saysettha OT"/>
              </a:rPr>
              <a:t>)</a:t>
            </a:r>
            <a:r>
              <a:rPr b="0" lang="en-US" sz="1900" spc="-1" strike="noStrike">
                <a:solidFill>
                  <a:srgbClr val="000000"/>
                </a:solidFill>
                <a:latin typeface="Saysettha OT"/>
                <a:ea typeface="Saysettha OT"/>
              </a:rPr>
              <a:t> </a:t>
            </a:r>
            <a:r>
              <a:rPr b="0" lang="lo-LA" sz="1900" spc="-1" strike="noStrike">
                <a:solidFill>
                  <a:srgbClr val="000000"/>
                </a:solidFill>
                <a:latin typeface="Saysettha OT"/>
                <a:cs typeface="Saysettha OT"/>
              </a:rPr>
              <a:t>ແລ້ວປ່ອຍ</a:t>
            </a:r>
            <a:endParaRPr b="0" lang="en-US" sz="1900" spc="-1" strike="noStrike">
              <a:solidFill>
                <a:srgbClr val="000000"/>
              </a:solidFill>
              <a:latin typeface="Calibri"/>
            </a:endParaRPr>
          </a:p>
          <a:p>
            <a:pPr lvl="1" marL="639720" indent="-28260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1900" spc="-1" strike="noStrike">
                <a:solidFill>
                  <a:srgbClr val="000000"/>
                </a:solidFill>
                <a:latin typeface="Saysettha OT"/>
                <a:cs typeface="Saysettha OT"/>
              </a:rPr>
              <a:t>ຖ້າມີຮອຍບຸມຢູ່ເທິງຫຼັງຕີນສະແດງວ່າ ມີອາການບວມ</a:t>
            </a:r>
            <a:endParaRPr b="0" lang="en-US" sz="1900" spc="-1" strike="noStrike">
              <a:solidFill>
                <a:srgbClr val="000000"/>
              </a:solidFill>
              <a:latin typeface="Calibri"/>
            </a:endParaRPr>
          </a:p>
          <a:p>
            <a:pPr lvl="1" marL="639720" indent="-2826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65040" indent="-282600">
              <a:lnSpc>
                <a:spcPct val="90000"/>
              </a:lnSpc>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65040" indent="-282600">
              <a:lnSpc>
                <a:spcPct val="90000"/>
              </a:lnSpc>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42640" y="274320"/>
            <a:ext cx="7791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3600" spc="-1" strike="noStrike">
                <a:solidFill>
                  <a:srgbClr val="002060"/>
                </a:solidFill>
                <a:latin typeface="Saysettha OT"/>
                <a:cs typeface="Saysettha OT"/>
              </a:rPr>
              <a:t>ຕົວຢ່າງຂອງ ການເປັນບວມ</a:t>
            </a:r>
            <a:endParaRPr b="0" lang="en-US" sz="3600" spc="-1" strike="noStrike">
              <a:solidFill>
                <a:srgbClr val="000000"/>
              </a:solidFill>
              <a:latin typeface="Calibri"/>
            </a:endParaRPr>
          </a:p>
        </p:txBody>
      </p:sp>
      <p:pic>
        <p:nvPicPr>
          <p:cNvPr id="324" name="Picture 2" descr=""/>
          <p:cNvPicPr/>
          <p:nvPr/>
        </p:nvPicPr>
        <p:blipFill>
          <a:blip r:embed="rId1"/>
          <a:stretch/>
        </p:blipFill>
        <p:spPr>
          <a:xfrm>
            <a:off x="2438280" y="1523880"/>
            <a:ext cx="4405320" cy="2232000"/>
          </a:xfrm>
          <a:prstGeom prst="rect">
            <a:avLst/>
          </a:prstGeom>
          <a:ln w="0">
            <a:noFill/>
          </a:ln>
        </p:spPr>
      </p:pic>
      <p:pic>
        <p:nvPicPr>
          <p:cNvPr id="325" name="Picture 1" descr=""/>
          <p:cNvPicPr/>
          <p:nvPr/>
        </p:nvPicPr>
        <p:blipFill>
          <a:blip r:embed="rId2"/>
          <a:stretch/>
        </p:blipFill>
        <p:spPr>
          <a:xfrm>
            <a:off x="457200" y="3900600"/>
            <a:ext cx="3987720" cy="2881080"/>
          </a:xfrm>
          <a:prstGeom prst="rect">
            <a:avLst/>
          </a:prstGeom>
          <a:ln w="0">
            <a:noFill/>
          </a:ln>
        </p:spPr>
      </p:pic>
      <p:pic>
        <p:nvPicPr>
          <p:cNvPr id="326" name="Picture 4" descr=""/>
          <p:cNvPicPr/>
          <p:nvPr/>
        </p:nvPicPr>
        <p:blipFill>
          <a:blip r:embed="rId3"/>
          <a:stretch/>
        </p:blipFill>
        <p:spPr>
          <a:xfrm>
            <a:off x="4648320" y="3900600"/>
            <a:ext cx="4047840" cy="28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3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63d"/>
                </a:solidFill>
                <a:latin typeface="Saysettha Lao"/>
              </a:rPr>
              <a:t>¥÷©¦¿£ñ­</a:t>
            </a:r>
            <a:r>
              <a:rPr b="1" lang="lo-LA" sz="4400" spc="-1" strike="noStrike">
                <a:solidFill>
                  <a:srgbClr val="00863d"/>
                </a:solidFill>
                <a:latin typeface="Saysettha Lao"/>
                <a:cs typeface="DokChampa"/>
              </a:rPr>
              <a:t>ນ</a:t>
            </a:r>
            <a:r>
              <a:rPr b="1" lang="en-US" sz="4400" spc="-1" strike="noStrike">
                <a:solidFill>
                  <a:srgbClr val="00863d"/>
                </a:solidFill>
                <a:latin typeface="Saysettha Lao"/>
              </a:rPr>
              <a:t>ê†£¸</a:t>
            </a:r>
            <a:r>
              <a:rPr b="1" lang="lo-LA" sz="4400" spc="-1" strike="noStrike">
                <a:solidFill>
                  <a:srgbClr val="00863d"/>
                </a:solidFill>
                <a:latin typeface="Saysettha Lao"/>
                <a:cs typeface="DokChampa"/>
              </a:rPr>
              <a:t>ນ</a:t>
            </a:r>
            <a:r>
              <a:rPr b="1" lang="en-US" sz="4400" spc="-1" strike="noStrike">
                <a:solidFill>
                  <a:srgbClr val="00863d"/>
                </a:solidFill>
                <a:latin typeface="Saysettha Lao"/>
              </a:rPr>
              <a:t>­Àºö¾Ã¥Ã¦È</a:t>
            </a:r>
            <a:endParaRPr b="0" lang="en-US" sz="4400" spc="-1" strike="noStrike">
              <a:solidFill>
                <a:srgbClr val="000000"/>
              </a:solidFill>
              <a:latin typeface="Calibri"/>
            </a:endParaRPr>
          </a:p>
        </p:txBody>
      </p:sp>
      <p:sp>
        <p:nvSpPr>
          <p:cNvPr id="124"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34308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Saysettha Lao"/>
              </a:rPr>
              <a:t>À«ò¤Á´È­</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È¾êÈ¾</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óº¾¨÷À©ñ¡µøÈÃ</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Á®®¦º®£ö¸À»õº</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 ÁìÉ¸¡Òª¾´, êÈ¾­</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ªÉº¤«¾´£¿«¾´</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šºó¡</a:t>
            </a:r>
            <a:endParaRPr b="0" lang="en-US" sz="2800" spc="-1" strike="noStrike">
              <a:solidFill>
                <a:srgbClr val="000000"/>
              </a:solidFill>
              <a:latin typeface="Calibri"/>
            </a:endParaRPr>
          </a:p>
          <a:p>
            <a:pPr marL="343080" indent="-34308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Saysettha Lao"/>
              </a:rPr>
              <a:t>À</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ˆº¤¥¾¡ LSIS ©¿À</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ó</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Ã­</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ó 2011, ¦½</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 ¯óÀ¡ó©¢º¤À©ñ¡®Ò¦¾´¾©À¡ó©¡Èº</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ó 2006</a:t>
            </a:r>
            <a:endParaRPr b="0" lang="en-US" sz="2800" spc="-1" strike="noStrike">
              <a:solidFill>
                <a:srgbClr val="000000"/>
              </a:solidFill>
              <a:latin typeface="Calibri"/>
            </a:endParaRPr>
          </a:p>
          <a:p>
            <a:pPr marL="343080" indent="-34308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Saysettha Lao"/>
              </a:rPr>
              <a:t>«¾´£¿«¾´¢Ó AG1 Áì½ AG2 Á´È</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Ò¢œ­</a:t>
            </a:r>
            <a:r>
              <a:rPr b="0" lang="lo-LA" sz="2800" spc="-1" strike="noStrike">
                <a:solidFill>
                  <a:srgbClr val="c00000"/>
                </a:solidFill>
                <a:latin typeface="Saysettha Lao"/>
                <a:cs typeface="DokChampa"/>
              </a:rPr>
              <a:t>ນນ</a:t>
            </a:r>
            <a:r>
              <a:rPr b="0" lang="en-GB" sz="2800" spc="-1" strike="noStrike">
                <a:solidFill>
                  <a:srgbClr val="c00000"/>
                </a:solidFill>
                <a:latin typeface="Saysettha Lao"/>
              </a:rPr>
              <a:t>­¿¡ñ</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 ¹ìñ¤¥¾¡</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 ¡¸©¡¾À®…¤£¸¾´¦º©£Èº¤¡ñ</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ì½¹¸È¾¤¸ñ­</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À¡ó© Áì½º¾¨÷¯ó«É¸</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a:t>
            </a:r>
            <a:endParaRPr b="0" lang="en-US" sz="2800" spc="-1" strike="noStrike">
              <a:solidFill>
                <a:srgbClr val="000000"/>
              </a:solidFill>
              <a:latin typeface="Calibri"/>
            </a:endParaRPr>
          </a:p>
          <a:p>
            <a:pPr marL="343080" indent="-34308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Saysettha Lao"/>
              </a:rPr>
              <a:t>¹ìñ¤¥¾¡«¾´£¿«¾´¢Ó AG1 Áì½ AG2, Ã¹ÉêÈ¾</a:t>
            </a:r>
            <a:r>
              <a:rPr b="0" lang="lo-LA" sz="2800" spc="-1" strike="noStrike">
                <a:solidFill>
                  <a:srgbClr val="c00000"/>
                </a:solidFill>
                <a:latin typeface="Saysettha Lao"/>
                <a:cs typeface="DokChampa"/>
              </a:rPr>
              <a:t>ນ</a:t>
            </a:r>
            <a:r>
              <a:rPr b="0" lang="en-GB" sz="2800" spc="-1" strike="noStrike">
                <a:solidFill>
                  <a:srgbClr val="c00000"/>
                </a:solidFill>
                <a:latin typeface="Saysettha Lao"/>
              </a:rPr>
              <a:t>­À®…¤¸È¾ À©ñ¡´óº¾¨÷Ä©É 5 ¯óÁìÉ¸ ¹ìõ¹ì¾¨¡¸È¾,-Ã¹ÉêÈ¾­µ÷©¡¾­¦¿²¾©</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S4 Survey Design Workshop</a:t>
            </a:r>
            <a:endParaRPr b="0" lang="en-US" sz="1200" spc="-1" strike="noStrike">
              <a:solidFill>
                <a:srgbClr val="000000"/>
              </a:solidFill>
              <a:latin typeface="Calibri"/>
            </a:endParaRPr>
          </a:p>
        </p:txBody>
      </p:sp>
      <p:sp>
        <p:nvSpPr>
          <p:cNvPr id="328" name="Rectangle 2"/>
          <p:cNvSpPr/>
          <p:nvPr/>
        </p:nvSpPr>
        <p:spPr>
          <a:xfrm>
            <a:off x="1143000" y="838080"/>
            <a:ext cx="7543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000" spc="-1" strike="noStrike">
                <a:solidFill>
                  <a:srgbClr val="002060"/>
                </a:solidFill>
                <a:latin typeface="Saysettha OT"/>
                <a:cs typeface="Saysettha OT"/>
              </a:rPr>
              <a:t>ລາຍລະອຽດ</a:t>
            </a:r>
            <a:r>
              <a:rPr b="1" lang="en-US" sz="4000" spc="-1" strike="noStrike">
                <a:solidFill>
                  <a:srgbClr val="002060"/>
                </a:solidFill>
                <a:latin typeface="Saysettha OT"/>
                <a:ea typeface="Saysettha OT"/>
              </a:rPr>
              <a:t> </a:t>
            </a:r>
            <a:r>
              <a:rPr b="1" lang="lo-LA" sz="4000" spc="-1" strike="noStrike">
                <a:solidFill>
                  <a:srgbClr val="002060"/>
                </a:solidFill>
                <a:latin typeface="Saysettha OT"/>
                <a:cs typeface="Saysettha OT"/>
              </a:rPr>
              <a:t>ແລະ</a:t>
            </a:r>
            <a:r>
              <a:rPr b="1" lang="en-US" sz="4000" spc="-1" strike="noStrike">
                <a:solidFill>
                  <a:srgbClr val="002060"/>
                </a:solidFill>
                <a:latin typeface="Saysettha OT"/>
                <a:ea typeface="Saysettha OT"/>
              </a:rPr>
              <a:t> </a:t>
            </a:r>
            <a:r>
              <a:rPr b="1" lang="lo-LA" sz="4000" spc="-1" strike="noStrike">
                <a:solidFill>
                  <a:srgbClr val="002060"/>
                </a:solidFill>
                <a:latin typeface="Saysettha OT"/>
                <a:cs typeface="Saysettha OT"/>
              </a:rPr>
              <a:t>ວິທີການຈົດກ່າຍໃສ່ແບບສອບຖາມ</a:t>
            </a:r>
            <a:endParaRPr b="0" lang="en-US" sz="4000" spc="-1" strike="noStrike">
              <a:solidFill>
                <a:srgbClr val="000000"/>
              </a:solidFill>
              <a:latin typeface="Calibri"/>
            </a:endParaRPr>
          </a:p>
        </p:txBody>
      </p:sp>
      <p:sp>
        <p:nvSpPr>
          <p:cNvPr id="329" name="Right Arrow 5"/>
          <p:cNvSpPr/>
          <p:nvPr/>
        </p:nvSpPr>
        <p:spPr>
          <a:xfrm>
            <a:off x="2895480" y="2819520"/>
            <a:ext cx="2667240" cy="1752480"/>
          </a:xfrm>
          <a:prstGeom prst="rightArrow">
            <a:avLst>
              <a:gd name="adj1" fmla="val 50000"/>
              <a:gd name="adj2" fmla="val 50007"/>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1142640"/>
            <a:ext cx="85341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Saysettha Unicode"/>
                <a:cs typeface="Saysettha Unicode"/>
              </a:rPr>
              <a:t>ການສຳຫລວດດັດສະນີໝາຍສັງຄົມລາວ </a:t>
            </a:r>
            <a:r>
              <a:rPr b="0" lang="en-US" sz="3600" spc="-1" strike="noStrike">
                <a:solidFill>
                  <a:srgbClr val="00b050"/>
                </a:solidFill>
                <a:latin typeface="Saysettha Unicode"/>
                <a:ea typeface="Saysettha Unicode"/>
              </a:rPr>
              <a:t>(LSIS)</a:t>
            </a:r>
            <a:br>
              <a:rPr sz="3600"/>
            </a:br>
            <a:r>
              <a:rPr b="0" lang="en-US" sz="3600" spc="-1" strike="noStrike">
                <a:solidFill>
                  <a:srgbClr val="00b050"/>
                </a:solidFill>
                <a:latin typeface="Saysettha Unicode"/>
                <a:cs typeface="Saysettha Unicode"/>
              </a:rPr>
              <a:t>ການອົບຮົມນັກເດີນສຳຫລວດ</a:t>
            </a:r>
            <a:endParaRPr b="0" lang="en-US" sz="3600" spc="-1" strike="noStrike">
              <a:solidFill>
                <a:srgbClr val="000000"/>
              </a:solidFill>
              <a:latin typeface="Calibri"/>
            </a:endParaRPr>
          </a:p>
        </p:txBody>
      </p:sp>
      <p:sp>
        <p:nvSpPr>
          <p:cNvPr id="126" name="PlaceHolder 2"/>
          <p:cNvSpPr>
            <a:spLocks noGrp="1"/>
          </p:cNvSpPr>
          <p:nvPr>
            <p:ph type="subTitle"/>
          </p:nvPr>
        </p:nvSpPr>
        <p:spPr>
          <a:xfrm>
            <a:off x="1371600" y="3352680"/>
            <a:ext cx="6934320" cy="152424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Saysettha Unicode"/>
                <a:cs typeface="Saysettha Unicode"/>
              </a:rPr>
              <a:t>ແບບສອບຖາມສຳລັບເດັກຕຳ່ກວ່າ </a:t>
            </a:r>
            <a:r>
              <a:rPr b="0" lang="en-US" sz="3600" spc="-1" strike="noStrike">
                <a:solidFill>
                  <a:srgbClr val="002060"/>
                </a:solidFill>
                <a:latin typeface="Saysettha Unicode"/>
                <a:ea typeface="Saysettha Unicode"/>
              </a:rPr>
              <a:t>5</a:t>
            </a:r>
            <a:r>
              <a:rPr b="0" lang="en-US" sz="3600" spc="-1" strike="noStrike">
                <a:solidFill>
                  <a:srgbClr val="002060"/>
                </a:solidFill>
                <a:latin typeface="Saysettha Unicode"/>
                <a:cs typeface="Saysettha Unicode"/>
              </a:rPr>
              <a:t>ປີ</a:t>
            </a:r>
            <a:r>
              <a:rPr b="0" lang="en-US" sz="3600" spc="-1" strike="noStrike">
                <a:solidFill>
                  <a:srgbClr val="002060"/>
                </a:solidFill>
                <a:latin typeface="Saysettha Unicode"/>
                <a:ea typeface="Saysettha Unicode"/>
              </a:rPr>
              <a:t>:</a:t>
            </a:r>
            <a:endParaRPr b="0" lang="en-US" sz="36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Saysettha Unicode"/>
                <a:cs typeface="Saysettha Unicode"/>
              </a:rPr>
              <a:t>ການຂຶ້ນທະບຽນການເກີດ</a:t>
            </a:r>
            <a:endParaRPr b="0" lang="en-US" sz="4000" spc="-1" strike="noStrike">
              <a:solidFill>
                <a:srgbClr val="000000"/>
              </a:solidFill>
              <a:latin typeface="Calibri"/>
            </a:endParaRPr>
          </a:p>
        </p:txBody>
      </p:sp>
      <p:sp>
        <p:nvSpPr>
          <p:cNvPr id="127" name="Rectangle 17"/>
          <p:cNvSpPr/>
          <p:nvPr/>
        </p:nvSpPr>
        <p:spPr>
          <a:xfrm>
            <a:off x="457200" y="2819520"/>
            <a:ext cx="8229600" cy="75960"/>
          </a:xfrm>
          <a:prstGeom prst="rect">
            <a:avLst/>
          </a:prstGeom>
          <a:solidFill>
            <a:srgbClr val="339966"/>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3T14:39:13Z</dcterms:created>
  <dc:creator>USER</dc:creator>
  <dc:description/>
  <dc:language>en-US</dc:language>
  <cp:lastModifiedBy>USER</cp:lastModifiedBy>
  <cp:lastPrinted>2011-09-04T04:32:29Z</cp:lastPrinted>
  <dcterms:modified xsi:type="dcterms:W3CDTF">2011-09-04T05:44:48Z</dcterms:modified>
  <cp:revision>6</cp:revision>
  <dc:subject/>
  <dc:title>¡¾­¦¿¹ì¸©©ñ©¦½­ó Ï¾¨¦ñ¤£ö´ì¾¸  ¡¾­±ô¡ºö®»ö´­ñ¡À©ó­¦¿¹ì¸©</dc:title>
</cp:coreProperties>
</file>